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A3E-7524-481B-BA41-86696802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4BD-DF65-44CA-AA8B-11AEEBC0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873-B6B7-4E24-AB4D-02A05161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89D-04A6-439D-BA09-AC0753C4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293C-67AE-4827-B88C-5D9E4328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B448-D03A-451C-B905-0D84B2CE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3999-C1F9-4A8B-AAB0-839A2F83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65DA-636C-483A-B1D8-3F1D1A2A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83DA-1D8E-4DDE-9D74-985BF425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9CE2-DAE6-4D96-B149-5F2E4EC2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555B-6A21-47A0-AA30-400201EC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F14-41B5-488C-A50C-A551ED2A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18C5-CEB1-485B-978D-42971BC8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9A4F-CA42-4F1A-A3E0-B1B1FF67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4401-87AA-46B8-AB97-A8372390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6B77-A50A-4165-A445-C962B972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3E82-2AAC-4CFD-B64B-8CC8CEAE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6808-FCE1-49CF-9415-338ADC9A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0B54-2864-4C69-9F6B-371F67B0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2493-4535-4233-A05E-8C9E5CD7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142AA-F0E6-45F6-B786-62769888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344B2-4888-4767-9EE8-6FA408A3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C7F-5DDD-4BF2-A1C2-57605865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1AE6-E08D-488F-948C-8690850B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41BD4-3182-4B62-B256-DCDF2A4B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77866-F155-4137-AB16-892DC94F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69D0-D409-403D-88BD-0022CE3F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4890-187B-49C2-8903-1F03929E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C2DBC-0091-4710-81E2-9499163C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1C3A-0D30-4A8C-BD62-3DFB20D0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45FB2-6B31-426D-9C76-4409BC96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F6A3C-30E9-441D-B902-389C0031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BDCD-A09E-4379-A6CF-1D1BDEB6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707-6DEC-415C-90A9-D7734EAE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37ECF-F06B-4385-8B71-03C4B3F7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E0BF-F4F6-407A-98B7-35E64BA7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54314-894E-4354-8940-9402FD10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9212-7103-4E10-8046-8FE0BA5F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1F523-63B3-4BB9-B89B-1C3E25CF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9968-B9CA-4F39-AD63-4C3E017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76EAC-1B97-4B9A-9AA6-82B45D42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120B-23B5-4F3D-B586-DE9AAD1D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89913-FD4E-478A-962F-8B2AF121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320-A22B-40FF-9F2F-8E6E3B56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9A9-7A13-4264-A97E-0498E060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D63-F17D-4B49-8659-3F31AB0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A84-8BDA-427C-AD28-F5D69F3D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593-0860-4371-8C60-5C34FA36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0240-D01C-4EF7-AB6D-EF160648DA4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69AE-6428-4B79-9F26-7C7320BD762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E16C-D576-418A-AA27-F8367397112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6957-DDB2-4CC9-B957-5ABE4B9BBB7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Тема: «Вредна или полезна жевательная резинка </a:t>
            </a:r>
            <a:br>
              <a:rPr sz="3600"/>
            </a:b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для школьника?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9640" y="249228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 исследования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выявить отрицательные и положительные действия жевательной резинки на наш организ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1220908_html_39c585b0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1371600" cy="1514520"/>
          </a:xfrm>
          <a:prstGeom prst="rect">
            <a:avLst/>
          </a:prstGeom>
          <a:ln w="0">
            <a:noFill/>
          </a:ln>
        </p:spPr>
      </p:pic>
      <p:pic>
        <p:nvPicPr>
          <p:cNvPr id="181" name="1220908_html_m63d0d15" descr=""/>
          <p:cNvPicPr/>
          <p:nvPr/>
        </p:nvPicPr>
        <p:blipFill>
          <a:blip r:embed="rId2"/>
          <a:stretch/>
        </p:blipFill>
        <p:spPr>
          <a:xfrm>
            <a:off x="5003640" y="4365720"/>
            <a:ext cx="1238400" cy="1380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835280" y="3123000"/>
            <a:ext cx="444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исслед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ение литературы по данной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иск информации в сети Интер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476960"/>
            <a:ext cx="3708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ние анке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рование выводов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332640"/>
            <a:ext cx="782640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ить историю возникновения жевательной рези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анализировать литературу о влиянии жевательной резинки на здоровье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сти анкетирование сред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рекомендации и памятку о пользе и вреде жевательной резинки, бук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отез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если ребёнок часто употребляет жевательную резинку, то принесёт ли она ему польз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Полезно ли жевать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40147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4000" y="189000"/>
          <a:ext cx="8364240" cy="6389640"/>
        </p:xfrm>
        <a:graphic>
          <a:graphicData uri="http://schemas.openxmlformats.org/drawingml/2006/table">
            <a:tbl>
              <a:tblPr/>
              <a:tblGrid>
                <a:gridCol w="4182840"/>
                <a:gridCol w="4181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жевательной рези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жевательной рези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бит, резиновая основа стабилизатор, загуститель ,натуральные ароматизаторы, маннит , мальтитный сироп, эмульгатор лецитин, подсластители: аспартам, ацесульфам, краситель, глазирователь, антиоксидант; содержит источник фенилалани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imo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бит, резиновая основа ,стабилизатор загуститель, натуральные и искусственные ароматизаторы, мальтитный сироп, эмульгатор соевый лецитин, подсластители:аспартам, краситель, глазирователь, антиоксидант, содержит источник фенилалани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бит, резиновая основа ,стабилизатор загуститель, натуральные и искусственные ароматизаторы, маннит мальтитный сироп, эмульгатор соевый лецитин, подсластители: аспартам, ацесульфам, краситель, глазурь, антиоксидант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Анкетировани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1547640"/>
            <a:ext cx="7346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просе участвовало 22 человека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опрос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Обращаете ли вы внимание на состав жевательной резинки?»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или отрицательно 100%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вопрос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Как часто вы употребляете жевательную резинку?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колько в среднем в день вы жуете подушечек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или, что в среднем в день они жуют 3-4 подушечк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03280" y="530280"/>
            <a:ext cx="8183520" cy="5635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вопрос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наете ли вы о вреде жевательной резинки?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или отрицательно 87%, положительно лишь 12%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вопрос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тали бы вы употреблять жевательную резинку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я о наличии в ней вредных веществ для организма?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или отрицательно 65%, положительно 34%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вопрос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жевательную резинку вы предпочитаете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Дирол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чел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рбит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че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Эклип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чел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Стиморол 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че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Текст 3"/>
          <p:cNvGraphicFramePr/>
          <p:nvPr/>
        </p:nvGraphicFramePr>
        <p:xfrm>
          <a:off x="324000" y="2133720"/>
          <a:ext cx="828036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Текс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33720"/>
                    <a:ext cx="828036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Результат анкетиров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Рекомендаци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183520" cy="496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бязательно ознакомьтесь с тем, что написано на упаков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. Можно употреблять ее примерно с 4 лет и только белую (без красителей). Ребенку нужно объяснить гигиеническое назначение жевательной резинки и приучить выбрасывать ее сразу после того, как перестало быть вкусн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. Положительный профилактический эффект достигается при жевание резинки не более 15 мин 3—4 раза в день после приема пищ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. Жевательную резинку используют после еды, для удаления остатков пищи из ротовой поло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. Лучше жевать жевательную резинку без сахара, так как она не способствует активному размножению микробов в полости р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. Жевательная резинка является дополнительным средством гигиены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НЕ ЗАМЕНЯЕТ ЗУБНУЮ ЩЕТКУ И ЗУБНУЮ ПАС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570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Список литератур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йджест Ридерз // Все о здоровом образе жизни, 1998. с26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антинов А.П. // Занимательная экология, М., 2007. с.1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лисеева В. Вся правда и ложь о жевательной резинке: от кариеса. СПб., 204. с24-2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лтон Г. Основы правильного питания. – СПб.: Невский проспект, 2003. с.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детская энциклопедия «Всё обо всём». - Москва:2000г. с.78-8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user</cp:lastModifiedBy>
  <dcterms:modified xsi:type="dcterms:W3CDTF">2015-01-28T14:57:57Z</dcterms:modified>
  <cp:revision>56</cp:revision>
  <dc:subject/>
  <dc:title>Тип Членистоногие</dc:title>
</cp:coreProperties>
</file>