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455-CE7D-426D-9890-7E82E538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ACD-44AA-4FB8-8012-631FA84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78C-EF77-44EE-96D1-63A39EA6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CC1-0E5B-4135-9493-82F6FC14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1B8-D049-46A5-8568-F12F15C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5CA-F035-456A-AE49-880A3574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6C7-73C3-47F8-A1A0-AFCAF68F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F1B-2C02-4F82-8B68-06220557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FE7-3EFA-4601-B549-75498A55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34A-AF61-4924-B4C1-46DD0C8E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D57-F0B1-4B5D-B0DD-3E0F3AE4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41E-CCDA-44E4-B0E9-F80A364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F638-9EE9-4C88-88B9-47EBCA19D3D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D24A-520E-4319-AB33-27D4AE19F3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pa-gen.livejournal.com/404032.html" TargetMode="External"/><Relationship Id="rId2" Type="http://schemas.openxmlformats.org/officeDocument/2006/relationships/hyperlink" Target="http://s-pb.in/pamyatniki/pamyatnik-nikolaiy-i" TargetMode="External"/><Relationship Id="rId3" Type="http://schemas.openxmlformats.org/officeDocument/2006/relationships/hyperlink" Target="http://www.spb-guide.ru/" TargetMode="External"/><Relationship Id="rId4" Type="http://schemas.openxmlformats.org/officeDocument/2006/relationships/hyperlink" Target="http://www.spb-guide.ru/page_12812.htm" TargetMode="External"/><Relationship Id="rId5" Type="http://schemas.openxmlformats.org/officeDocument/2006/relationships/hyperlink" Target="http://www.spb-guide.ru/page_12812.htm" TargetMode="External"/><Relationship Id="rId6" Type="http://schemas.openxmlformats.org/officeDocument/2006/relationships/hyperlink" Target="http://www.spb-guide.ru/page_12812.htm" TargetMode="External"/><Relationship Id="rId7" Type="http://schemas.openxmlformats.org/officeDocument/2006/relationships/hyperlink" Target="http://www.alladolls.ru/" TargetMode="External"/><Relationship Id="rId8" Type="http://schemas.openxmlformats.org/officeDocument/2006/relationships/hyperlink" Target="http://www.alladolls.ru/gallery2/v/elses/skulptur/S+Peterburg/anichkov+most/0_2d2af_a3312638_XL.jpg.html" TargetMode="External"/><Relationship Id="rId9" Type="http://schemas.openxmlformats.org/officeDocument/2006/relationships/hyperlink" Target="http://spp.lfond.spb.ru/" TargetMode="External"/><Relationship Id="rId10" Type="http://schemas.openxmlformats.org/officeDocument/2006/relationships/hyperlink" Target="http://spp.lfond.spb.ru/russia/memorials/031" TargetMode="External"/><Relationship Id="rId11" Type="http://schemas.openxmlformats.org/officeDocument/2006/relationships/hyperlink" Target="http://arina-tour.ru/" TargetMode="External"/><Relationship Id="rId12" Type="http://schemas.openxmlformats.org/officeDocument/2006/relationships/hyperlink" Target="http://arina-tour.ru/gid/monument/medniy_vsadnik.htm" TargetMode="External"/><Relationship Id="rId13" Type="http://schemas.openxmlformats.org/officeDocument/2006/relationships/hyperlink" Target="http://spp.lfond.spb.ru/" TargetMode="External"/><Relationship Id="rId14" Type="http://schemas.openxmlformats.org/officeDocument/2006/relationships/hyperlink" Target="http://spp.lfond.spb.ru/russia/memorials/031" TargetMode="External"/><Relationship Id="rId15" Type="http://schemas.openxmlformats.org/officeDocument/2006/relationships/hyperlink" Target="http://alexandr3.e812.ru/open/" TargetMode="External"/><Relationship Id="rId16" Type="http://schemas.openxmlformats.org/officeDocument/2006/relationships/hyperlink" Target="http://alexandr3.e812.ru/open/" TargetMode="External"/><Relationship Id="rId17" Type="http://schemas.openxmlformats.org/officeDocument/2006/relationships/hyperlink" Target="http://alexandr3.e812.ru/open/" TargetMode="External"/><Relationship Id="rId18" Type="http://schemas.openxmlformats.org/officeDocument/2006/relationships/hyperlink" Target="http://alexandr3.e812.ru/open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3573360"/>
            <a:ext cx="8424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Виртуальная экскурсия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179280" y="4724280"/>
            <a:ext cx="864072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28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c28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Легенды о конных верховых памятниках </a:t>
            </a:r>
            <a:endParaRPr b="0" lang="en-US" sz="1800" spc="1" strike="noStrike">
              <a:ln w="19080">
                <a:solidFill>
                  <a:srgbClr val="ffc285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285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Санкт- Петербурга </a:t>
            </a:r>
            <a:endParaRPr b="0" lang="en-US" sz="1800" spc="1" strike="noStrike">
              <a:ln w="19080">
                <a:solidFill>
                  <a:srgbClr val="ffc285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&amp;Fcy;&amp;ocy;&amp;tcy;&amp;ocy; &amp;pcy;&amp;ucy;&amp;tcy;&amp;iecy;&amp;shcy;&amp;iecy;&amp;scy;&amp;tcy;&amp;vcy;&amp;icy;&amp;yacy;, &amp;gcy;&amp;ocy;&amp;rcy;&amp;ocy;&amp;dcy;, &amp;rcy;&amp;iecy;&amp;kcy;&amp;acy;, &amp;bcy;&amp;iecy;&amp;rcy;&amp;iecy;&amp;gcy;, &amp;acy;&amp;rcy;&amp;khcy;&amp;icy;&amp;tcy;&amp;iecy;&amp;kcy;&amp;tcy;&amp;ucy;&amp;rcy;&amp;acy;, &amp;icy;&amp;scy;&amp;kcy;&amp;ucy;&amp;scy;&amp;scy;&amp;tcy;&amp;vcy;&amp;ocy;, &amp;icy;&amp;scy;&amp;tcy;&amp;ocy;&amp;rcy;&amp;icy;&amp;yacy;, &amp;rcy;&amp;ocy;&amp;scy;&amp;scy;&amp;icy;&amp;yacy;, &amp;scy;&amp;acy;&amp;ncy;&amp;kcy;&amp;tcy;-&amp;pcy;&amp;iecy;&amp;tcy;&amp;iecy;&amp;rcy;&amp;bcy;&amp;ucy;&amp;rcy;&amp;gcy;"/>
          <p:cNvPicPr/>
          <p:nvPr/>
        </p:nvPicPr>
        <p:blipFill>
          <a:blip r:embed="rId1"/>
          <a:srcRect l="0" t="0" r="0" b="3798"/>
          <a:stretch/>
        </p:blipFill>
        <p:spPr>
          <a:xfrm>
            <a:off x="2050920" y="260280"/>
            <a:ext cx="4753080" cy="317016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44" name="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37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250920" y="189000"/>
            <a:ext cx="8569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Памятник императору Николаю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>
            <a:off x="8820000" y="404640"/>
            <a:ext cx="0" cy="50328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http://fotopitera.ru/wp-content/uploads/2011/06/P1Mz_6-465x309.jpg"/>
          <p:cNvPicPr/>
          <p:nvPr/>
        </p:nvPicPr>
        <p:blipFill>
          <a:blip r:embed="rId1"/>
          <a:srcRect l="8941" t="0" r="18695" b="18346"/>
          <a:stretch/>
        </p:blipFill>
        <p:spPr>
          <a:xfrm>
            <a:off x="1116000" y="1268280"/>
            <a:ext cx="7056360" cy="5291280"/>
          </a:xfrm>
          <a:prstGeom prst="rect">
            <a:avLst/>
          </a:prstGeom>
          <a:ln w="66600">
            <a:solidFill>
              <a:srgbClr val="993300"/>
            </a:solidFill>
            <a:miter/>
          </a:ln>
        </p:spPr>
      </p:pic>
      <p:pic>
        <p:nvPicPr>
          <p:cNvPr id="103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ttp://fotopitera.ru/wp-content/uploads/2011/06/P1Mz_7-465x309.jpg"/>
          <p:cNvPicPr/>
          <p:nvPr/>
        </p:nvPicPr>
        <p:blipFill>
          <a:blip r:embed="rId3"/>
          <a:srcRect l="7315" t="0" r="13005" b="12231"/>
          <a:stretch/>
        </p:blipFill>
        <p:spPr>
          <a:xfrm>
            <a:off x="1042920" y="1197000"/>
            <a:ext cx="7147080" cy="5400720"/>
          </a:xfrm>
          <a:prstGeom prst="rect">
            <a:avLst/>
          </a:prstGeom>
          <a:ln w="73080">
            <a:solidFill>
              <a:srgbClr val="993300"/>
            </a:solidFill>
            <a:miter/>
          </a:ln>
        </p:spPr>
      </p:pic>
      <p:pic>
        <p:nvPicPr>
          <p:cNvPr id="105" name="Picture 4" descr="&amp;Kcy;&amp;lcy;&amp;iecy;&amp;ncy;&amp;ocy;&amp;vcy;&amp;acy;&amp;yacy; &amp;acy;&amp;lcy;&amp;lcy;&amp;iecy;&amp;yacy; &amp;icy; &amp;pcy;&amp;acy;&amp;mcy;&amp;yacy;&amp;tcy;&amp;ncy;&amp;icy;&amp;kcy; &amp;Pcy;&amp;iecy;&amp;tcy;&amp;rcy;&amp;ucy; I"/>
          <p:cNvPicPr/>
          <p:nvPr/>
        </p:nvPicPr>
        <p:blipFill>
          <a:blip r:embed="rId4"/>
          <a:stretch/>
        </p:blipFill>
        <p:spPr>
          <a:xfrm>
            <a:off x="539640" y="1197000"/>
            <a:ext cx="8137800" cy="542448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106" name="Picture 6" descr="http://fotopitera.ru/wp-content/uploads/2011/06/P1Mz_5-398x533.jpg"/>
          <p:cNvPicPr/>
          <p:nvPr/>
        </p:nvPicPr>
        <p:blipFill>
          <a:blip r:embed="rId5"/>
          <a:srcRect l="0" t="0" r="0" b="56020"/>
          <a:stretch/>
        </p:blipFill>
        <p:spPr>
          <a:xfrm>
            <a:off x="611280" y="1268280"/>
            <a:ext cx="7993080" cy="5329440"/>
          </a:xfrm>
          <a:prstGeom prst="rect">
            <a:avLst/>
          </a:prstGeom>
          <a:ln w="82440">
            <a:solidFill>
              <a:srgbClr val="993300"/>
            </a:solidFill>
            <a:miter/>
          </a:ln>
        </p:spPr>
      </p:pic>
    </p:spTree>
  </p:cSld>
  <p:transition spd="med">
    <p:strips dir="l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612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5"/>
          <p:cNvSpPr txBox="1"/>
          <p:nvPr/>
        </p:nvSpPr>
        <p:spPr>
          <a:xfrm>
            <a:off x="324000" y="476280"/>
            <a:ext cx="849780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за внимание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1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&amp;Acy;&amp;rcy;&amp;iecy;&amp;ncy;&amp;dcy;&amp;acy; &amp;scy;&amp;kcy;&amp;lcy;&amp;acy;&amp;dcy;&amp;acy; &amp;vcy; &amp;Scy;&amp;acy;&amp;ncy;&amp;kcy;&amp;tcy;-&amp;Pcy;&amp;iecy;&amp;tcy;&amp;iecy;&amp;rcy;&amp;bcy;&amp;ucy;&amp;rcy;&amp;gcy;&amp;iecy; CARGO9 - &amp;Lcy;&amp;Icy;&amp;Dcy;&amp;IEcy;&amp;Rcy; &amp;Gcy;&amp;Rcy;&amp;Ucy;&amp;Zcy;&amp;Ocy;&amp;Vcy;&amp;Ycy;&amp;KHcy; &amp;Pcy;&amp;IEcy;&amp;Rcy;&amp;IEcy;&amp;Vcy;&amp;Ocy;&amp;Zcy;&amp;Ocy;&amp;Kcy; &amp;Icy;&amp;Zcy; &amp;Scy;&amp;Pcy;&amp;Bcy;"/>
          <p:cNvPicPr/>
          <p:nvPr/>
        </p:nvPicPr>
        <p:blipFill>
          <a:blip r:embed="rId2"/>
          <a:stretch/>
        </p:blipFill>
        <p:spPr>
          <a:xfrm>
            <a:off x="2627280" y="4005360"/>
            <a:ext cx="367344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175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826920" y="18900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Список литературы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539640" y="999000"/>
            <a:ext cx="842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Каганович А. «Медный всадник»: История создания монумента. Л., 1975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Иванов Г.И. Камень-Гром. СПб., 199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Малиновский К.В. Памятник Петру I Фальконе // Три века Санкт-Петербурга. Энциклопедия. Т. 1. Осьмнадцатое столетие. Кн. 2. СПб., 2002. С. 87–8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Памятники Санкт-Петербурга: Справочник. СПб., 2002. С. 29–30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alibri"/>
                <a:ea typeface="Times New Roman"/>
              </a:rPr>
              <a:t>Кривдина О.А., Тычинин Б.Б. Скульптура и скульпторы Санкт-Петербурга, 1703–2007. СПб., 2007. С. 482–483, 485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826920" y="18900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Интернет-ресурсы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826920" y="1135440"/>
            <a:ext cx="73454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"/>
              </a:rPr>
              <a:t>http://papa-gen.livejournal.com/404032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2"/>
              </a:rPr>
              <a:t>http://s-pb.in/pamyatniki/pamyatnik-nikolaiy-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3"/>
              </a:rPr>
              <a:t>Spb-Guide.ru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›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4"/>
              </a:rPr>
              <a:t>Аничков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5"/>
              </a:rPr>
              <a:t>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6"/>
              </a:rPr>
              <a:t>м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7"/>
              </a:rPr>
              <a:t>alladolls.ru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›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8"/>
              </a:rPr>
              <a:t>gallery2/v/elses/skulptur/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9"/>
              </a:rPr>
              <a:t>spp.lfond.spb.ru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›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0"/>
              </a:rPr>
              <a:t>russia/memorials/0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1"/>
              </a:rPr>
              <a:t>arina-tour.ru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›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2"/>
              </a:rPr>
              <a:t>Медный Всад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3"/>
              </a:rPr>
              <a:t>spp.lfond.spb.ru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›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4"/>
              </a:rPr>
              <a:t>russia/memorials/0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5"/>
              </a:rPr>
              <a:t>http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6"/>
              </a:rPr>
              <a:t>://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7"/>
              </a:rPr>
              <a:t>alexandr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Calibri"/>
                <a:ea typeface="Times New Roman"/>
                <a:hlinkClick r:id="rId18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812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ope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lexandr3.e812.r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900000" y="573264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adff"/>
                </a:solidFill>
                <a:latin typeface="Tahoma"/>
              </a:rPr>
              <a:t>http://fotopitera.ru/2011/06/28/2-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0"/>
          <p:cNvSpPr/>
          <p:nvPr/>
        </p:nvSpPr>
        <p:spPr>
          <a:xfrm>
            <a:off x="395280" y="333360"/>
            <a:ext cx="7705800" cy="107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АВТОРЫ ПРОЕКТ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Творческая группа учащихся 9 А и 4 Б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24000" y="4221000"/>
            <a:ext cx="8137440" cy="2376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doni MT"/>
              </a:rPr>
              <a:t>РУКОВОДИТЕЛИ   ПРОЕКТ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doni MT"/>
              </a:rPr>
              <a:t>ВИСИЦКАЯ   ЕКАТЕРИНА   ЮР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doni MT"/>
              </a:rPr>
              <a:t>УЧИТЕЛЬ  НАЧАЛЬНЫХ   КЛА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doni MT"/>
              </a:rPr>
              <a:t>ПРИВЕЗЕНЦОВА ТАТЬЯНА  ПЕТ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doni MT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Рисунок 1" descr="Санкт-Петербург"/>
          <p:cNvPicPr/>
          <p:nvPr/>
        </p:nvPicPr>
        <p:blipFill>
          <a:blip r:embed="rId1"/>
          <a:stretch/>
        </p:blipFill>
        <p:spPr>
          <a:xfrm>
            <a:off x="3348000" y="1628640"/>
            <a:ext cx="1984320" cy="2160720"/>
          </a:xfrm>
          <a:prstGeom prst="rect">
            <a:avLst/>
          </a:prstGeom>
          <a:ln w="57240">
            <a:solidFill>
              <a:srgbClr val="a50021"/>
            </a:solidFill>
            <a:round/>
          </a:ln>
        </p:spPr>
      </p:pic>
      <p:pic>
        <p:nvPicPr>
          <p:cNvPr id="48" name="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636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324000" y="476280"/>
            <a:ext cx="8424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маршрут экскурсии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250920" y="4221000"/>
            <a:ext cx="3744720" cy="19940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Памятник императо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Петру1 пере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Михайловским зам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AutoShape 8">
            <a:hlinkClick r:id="rId2" action="ppaction://hlinksldjump"/>
          </p:cNvPr>
          <p:cNvSpPr/>
          <p:nvPr/>
        </p:nvSpPr>
        <p:spPr>
          <a:xfrm>
            <a:off x="5614920" y="4941720"/>
            <a:ext cx="3349800" cy="1440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doni MT"/>
              </a:rPr>
              <a:t>Памятник император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doni MT"/>
              </a:rPr>
              <a:t>Александру </a:t>
            </a:r>
            <a:r>
              <a:rPr b="1" lang="ru-RU" sz="2400" spc="-1" strike="noStrike">
                <a:solidFill>
                  <a:srgbClr val="224568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I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AutoShape 9">
            <a:hlinkClick r:id="rId3" action="ppaction://hlinksldjump"/>
          </p:cNvPr>
          <p:cNvSpPr/>
          <p:nvPr/>
        </p:nvSpPr>
        <p:spPr>
          <a:xfrm>
            <a:off x="5003640" y="2924280"/>
            <a:ext cx="39610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Памятник императо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Николаю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3059280" y="1341360"/>
            <a:ext cx="38163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Аничков м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13"/>
          <p:cNvSpPr/>
          <p:nvPr/>
        </p:nvSpPr>
        <p:spPr>
          <a:xfrm rot="19409400">
            <a:off x="1414440" y="1984320"/>
            <a:ext cx="1355760" cy="486000"/>
          </a:xfrm>
          <a:custGeom>
            <a:avLst/>
            <a:gdLst>
              <a:gd name="textAreaLeft" fmla="*/ 169200 w 1355760"/>
              <a:gd name="textAreaRight" fmla="*/ 1186560 w 13557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4"/>
          <p:cNvSpPr/>
          <p:nvPr/>
        </p:nvSpPr>
        <p:spPr>
          <a:xfrm rot="2446800">
            <a:off x="6948000" y="2060640"/>
            <a:ext cx="1355760" cy="485640"/>
          </a:xfrm>
          <a:custGeom>
            <a:avLst/>
            <a:gdLst>
              <a:gd name="textAreaLeft" fmla="*/ 169200 w 1355760"/>
              <a:gd name="textAreaRight" fmla="*/ 1186560 w 13557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15"/>
          <p:cNvSpPr/>
          <p:nvPr/>
        </p:nvSpPr>
        <p:spPr>
          <a:xfrm rot="7169400">
            <a:off x="7171560" y="4162320"/>
            <a:ext cx="1051200" cy="485640"/>
          </a:xfrm>
          <a:custGeom>
            <a:avLst/>
            <a:gdLst>
              <a:gd name="textAreaLeft" fmla="*/ 169560 w 1051200"/>
              <a:gd name="textAreaRight" fmla="*/ 881640 w 10512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625" y="5400"/>
                </a:lnTo>
                <a:lnTo>
                  <a:pt x="14625" y="0"/>
                </a:lnTo>
                <a:lnTo>
                  <a:pt x="21600" y="10800"/>
                </a:lnTo>
                <a:lnTo>
                  <a:pt x="14625" y="21600"/>
                </a:lnTo>
                <a:lnTo>
                  <a:pt x="14625" y="16200"/>
                </a:lnTo>
                <a:lnTo>
                  <a:pt x="0" y="16200"/>
                </a:lnTo>
                <a:lnTo>
                  <a:pt x="348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16"/>
          <p:cNvSpPr/>
          <p:nvPr/>
        </p:nvSpPr>
        <p:spPr>
          <a:xfrm rot="10800000">
            <a:off x="4067280" y="5229000"/>
            <a:ext cx="1355760" cy="485640"/>
          </a:xfrm>
          <a:custGeom>
            <a:avLst/>
            <a:gdLst>
              <a:gd name="textAreaLeft" fmla="*/ 169200 w 1355760"/>
              <a:gd name="textAreaRight" fmla="*/ 1186560 w 13557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250920" y="2781360"/>
            <a:ext cx="381636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Памятник Петру 1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Bodoni MT"/>
              </a:rPr>
              <a:t>на Сенатской площад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3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151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5"/>
          <p:cNvSpPr txBox="1"/>
          <p:nvPr/>
        </p:nvSpPr>
        <p:spPr>
          <a:xfrm>
            <a:off x="755640" y="260280"/>
            <a:ext cx="78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Памятник Петру</a:t>
            </a:r>
            <a:endParaRPr b="0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На Сенатской площади </a:t>
            </a:r>
            <a:endParaRPr b="0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Прямая соединительная линия 8"/>
          <p:cNvSpPr/>
          <p:nvPr/>
        </p:nvSpPr>
        <p:spPr>
          <a:xfrm>
            <a:off x="7596360" y="333360"/>
            <a:ext cx="0" cy="50328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&amp;Fcy;&amp;ocy;&amp;tcy;&amp;ocy;&amp;gcy;&amp;rcy;&amp;acy;&amp;fcy;&amp;icy;&amp;yacy; - &amp;Pcy;&amp;acy;&amp;mcy;&amp;yacy;&amp;tcy;&amp;ncy;&amp;icy;&amp;kcy; &amp;Pcy;&amp;iecy;&amp;tcy;&amp;rcy;&amp;ucy; I &amp;ncy;&amp;acy; &amp;Scy;&amp;iecy;&amp;ncy;&amp;acy;&amp;tcy;&amp;scy;&amp;kcy;&amp;ocy;&amp;jcy; &amp;pcy;&amp;lcy;&amp;ocy;&amp;shchcy;&amp;acy;&amp;dcy;&amp;icy; - &amp;Fcy;&amp;ocy;&amp;tcy;&amp;ocy;&amp;gcy;&amp;rcy;&amp;acy;&amp;fcy;&amp;icy;&amp;icy; &amp;scy;&amp;tcy;&amp;acy;&amp;rcy;&amp;ocy;&amp;gcy;&amp;ocy; &amp;Pcy;&amp;iecy;&amp;tcy;&amp;iecy;&amp;rcy;&amp;bcy;&amp;ucy;&amp;rcy;&amp;gcy;&amp;acy;"/>
          <p:cNvPicPr/>
          <p:nvPr/>
        </p:nvPicPr>
        <p:blipFill>
          <a:blip r:embed="rId1"/>
          <a:stretch/>
        </p:blipFill>
        <p:spPr>
          <a:xfrm>
            <a:off x="1908000" y="1979640"/>
            <a:ext cx="5400720" cy="466740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63" name="Picture 11" descr="March 2013 Books &amp; The Invisible City Page 2"/>
          <p:cNvPicPr/>
          <p:nvPr/>
        </p:nvPicPr>
        <p:blipFill>
          <a:blip r:embed="rId2"/>
          <a:stretch/>
        </p:blipFill>
        <p:spPr>
          <a:xfrm>
            <a:off x="2556000" y="1844640"/>
            <a:ext cx="3887640" cy="4786200"/>
          </a:xfrm>
          <a:prstGeom prst="rect">
            <a:avLst/>
          </a:prstGeom>
          <a:ln w="69840">
            <a:solidFill>
              <a:srgbClr val="993300"/>
            </a:solidFill>
            <a:miter/>
          </a:ln>
        </p:spPr>
      </p:pic>
      <p:pic>
        <p:nvPicPr>
          <p:cNvPr id="64" name="4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&amp;Ncy;&amp;acy; &amp;tcy;&amp;rcy;&amp;iecy;&amp;ncy;&amp;icy;&amp;rcy;&amp;ocy;&amp;vcy;&amp;ocy;&amp;chcy;&amp;ncy;&amp;ycy;&amp;khcy; &amp;vcy;&amp;ycy;&amp;bcy;&amp;ocy;&amp;rcy;&amp;acy;&amp;khcy; &amp;vcy; &amp;Mcy;&amp;ocy;&amp;scy;&amp;kcy;&amp;vcy;&amp;iecy; &amp;pcy;&amp;ocy;&amp;bcy;&amp;iecy;&amp;dcy;&amp;icy;&amp;lcy; &amp;Pcy;&amp;iocy;&amp;tcy;&amp;rcy; &amp;Pcy;&amp;iecy;&amp;rcy;&amp;vcy;&amp;ycy;&amp;jcy; - &amp;Pcy;&amp;ocy;&amp;lcy;&amp;icy;&amp;tcy;&amp;icy;&amp;kcy;&amp;acy; &amp;ncy;&amp;acy; &amp;Ncy;&amp;ocy;&amp;vcy;&amp;ocy;&amp;scy;&amp;tcy;&amp;iecy;&amp;jcy;.COM"/>
          <p:cNvPicPr/>
          <p:nvPr/>
        </p:nvPicPr>
        <p:blipFill>
          <a:blip r:embed="rId4"/>
          <a:stretch/>
        </p:blipFill>
        <p:spPr>
          <a:xfrm>
            <a:off x="1476360" y="1844640"/>
            <a:ext cx="6456240" cy="4835520"/>
          </a:xfrm>
          <a:prstGeom prst="rect">
            <a:avLst/>
          </a:prstGeom>
          <a:ln w="66600">
            <a:solidFill>
              <a:srgbClr val="993300"/>
            </a:solidFill>
            <a:miter/>
          </a:ln>
        </p:spPr>
      </p:pic>
      <p:pic>
        <p:nvPicPr>
          <p:cNvPr id="66" name="Picture 13" descr="&amp;Mcy;&amp;iecy;&amp;dcy;&amp;ncy;&amp;ycy;&amp;jcy; &amp;vcy;&amp;scy;&amp;acy;&amp;dcy;&amp;ncy;&amp;icy;&amp;kcy; - &amp;Pcy;&amp;ucy;&amp;tcy;&amp;iecy;&amp;shcy;&amp;iecy;&amp;scy;&amp;tcy;&amp;vcy;&amp;ucy;&amp;iecy;&amp;mcy; &amp;pcy;&amp;ocy; &amp;Rcy;&amp;ocy;&amp;scy;&amp;scy;&amp;icy;&amp;icy;- &amp;Mcy;&amp;acy;&amp;tcy;&amp;ucy;&amp;shcy;&amp;kcy;&amp;iecy;!- &amp;yacy;.&amp;rcy;&amp;ucy;"/>
          <p:cNvPicPr/>
          <p:nvPr/>
        </p:nvPicPr>
        <p:blipFill>
          <a:blip r:embed="rId5"/>
          <a:srcRect l="4252" t="3779" r="2835" b="3307"/>
          <a:stretch/>
        </p:blipFill>
        <p:spPr>
          <a:xfrm>
            <a:off x="1332000" y="1698480"/>
            <a:ext cx="6624720" cy="498960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</p:spTree>
  </p:cSld>
  <p:transition spd="med"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5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5"/>
          <p:cNvSpPr txBox="1"/>
          <p:nvPr/>
        </p:nvSpPr>
        <p:spPr>
          <a:xfrm>
            <a:off x="755640" y="189000"/>
            <a:ext cx="7848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Памятник Петру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На Сенатской площади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Прямая соединительная линия 8"/>
          <p:cNvSpPr/>
          <p:nvPr/>
        </p:nvSpPr>
        <p:spPr>
          <a:xfrm>
            <a:off x="7524720" y="333360"/>
            <a:ext cx="0" cy="50328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9" descr="&amp;Ecy;&amp;tcy;&amp;ocy;&amp;tcy; &amp;bcy;&amp;rcy;&amp;ocy;&amp;ncy;&amp;zcy;&amp;ocy;&amp;vcy;&amp;ycy;&amp;jcy; &quot;&amp;Mcy;&amp;iecy;&amp;dcy;&amp;ncy;&amp;ycy;&amp;jcy; &amp;vcy;&amp;scy;&amp;acy;&amp;dcy;&amp;ncy;&amp;icy;&amp;kcy;&quot;. SOFTMIXER"/>
          <p:cNvPicPr/>
          <p:nvPr/>
        </p:nvPicPr>
        <p:blipFill>
          <a:blip r:embed="rId1"/>
          <a:srcRect l="0" t="5415" r="0" b="0"/>
          <a:stretch/>
        </p:blipFill>
        <p:spPr>
          <a:xfrm>
            <a:off x="1403280" y="1989000"/>
            <a:ext cx="6308640" cy="460872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70" name="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&amp;Scy;&amp;iecy;&amp;vcy;&amp;iecy;&amp;rcy;&amp;ncy;&amp;acy;&amp;yacy; &amp;Kcy;&amp;ocy;&amp;rcy;&amp;iecy;&amp;yacy; &amp;ncy;&amp;acy;&amp;kcy;&amp;acy;&amp;ncy;&amp;ucy;&amp;ncy;&amp;iecy; &amp;vcy;&amp;ocy;&amp;jcy;&amp;ncy;&amp;ycy;. - 27 &amp;Dcy;&amp;iecy;&amp;kcy;&amp;acy;&amp;bcy;&amp;rcy;&amp;yacy; 2013 - Blog - Dn…"/>
          <p:cNvPicPr/>
          <p:nvPr/>
        </p:nvPicPr>
        <p:blipFill>
          <a:blip r:embed="rId3"/>
          <a:srcRect l="0" t="14698" r="0" b="0"/>
          <a:stretch/>
        </p:blipFill>
        <p:spPr>
          <a:xfrm>
            <a:off x="971640" y="1916280"/>
            <a:ext cx="7316640" cy="4681440"/>
          </a:xfrm>
          <a:prstGeom prst="rect">
            <a:avLst/>
          </a:prstGeom>
          <a:ln w="66600">
            <a:solidFill>
              <a:srgbClr val="993300"/>
            </a:solidFill>
            <a:miter/>
          </a:ln>
        </p:spPr>
      </p:pic>
    </p:spTree>
  </p:cSld>
  <p:transition spd="med">
    <p:strips dir="l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899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826920" y="189000"/>
            <a:ext cx="7848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Памятник Петру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На Сенатской площади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7524720" y="260280"/>
            <a:ext cx="0" cy="43200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Grafika.ru - 12-000255"/>
          <p:cNvPicPr/>
          <p:nvPr/>
        </p:nvPicPr>
        <p:blipFill>
          <a:blip r:embed="rId1"/>
          <a:srcRect l="0" t="1208" r="0" b="3623"/>
          <a:stretch/>
        </p:blipFill>
        <p:spPr>
          <a:xfrm>
            <a:off x="1547640" y="2060640"/>
            <a:ext cx="5904000" cy="449244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75" name="Picture 2" descr="&amp;Tcy;&amp;icy;&amp;shcy;&amp;acy;&amp;jcy;&amp;shcy;&amp;icy;&amp;jcy; &amp;Acy;&amp;lcy;&amp;iecy;&amp;kcy;&amp;scy;&amp;acy;&amp;ncy;&amp;dcy;&amp;rcy; I - &amp;Scy;&amp;mcy;&amp;ocy;&amp;tcy;&amp;rcy;&amp;iecy;&amp;tcy;&amp;softcy; &amp;ocy;&amp;ncy;&amp;lcy;&amp;acy;&amp;jcy;&amp;ncy; &amp;fcy;&amp;icy;&amp;lcy;&amp;softcy;&amp;mcy;&amp;ycy;, &amp;scy;&amp;iecy;&amp;rcy;&amp;icy;&amp;acy;&amp;lcy;&amp;ycy; &amp;icy; &amp;pcy;&amp;rcy;&amp;ocy;&amp;gcy;&amp;rcy;&amp;acy;&amp;mcy;&amp;mcy;&amp;ycy; - &amp;Scy;&amp;ocy;&amp;tscy;&amp;icy;&amp;acy;&amp;lcy;&amp;softcy;&amp;ncy;&amp;acy;&amp;yacy; &amp;kcy;&amp;icy;&amp;ncy;&amp;ocy;&amp;scy;&amp;iecy;&amp;tcy;&amp;softcy; SFILM"/>
          <p:cNvPicPr/>
          <p:nvPr/>
        </p:nvPicPr>
        <p:blipFill>
          <a:blip r:embed="rId2"/>
          <a:stretch/>
        </p:blipFill>
        <p:spPr>
          <a:xfrm>
            <a:off x="1332000" y="1916280"/>
            <a:ext cx="6446880" cy="460836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76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&amp;zhcy;&amp;iecy;&amp;ncy;&amp;shchcy;&amp;icy;&amp;ncy;&amp;ycy; &amp;vcy;&amp;iecy;&amp;lcy;&amp;icy;&amp;kcy;&amp;icy;&amp;khcy;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4"/>
          <a:stretch/>
        </p:blipFill>
        <p:spPr>
          <a:xfrm>
            <a:off x="1403280" y="1773360"/>
            <a:ext cx="6408720" cy="480528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78" name="Picture 6" descr="&amp;bcy;&amp;icy;&amp;ocy;&amp;gcy;&amp;rcy;&amp;acy;&amp;fcy;&amp;icy;&amp;yacy; &amp;Acy;&amp;lcy;&amp;iecy;&amp;kcy;&amp;scy;&amp;acy;&amp;ncy;&amp;dcy;&amp;rcy; &amp;Pcy;&amp;ucy;&amp;shcy;&amp;kcy;&amp;icy;&amp;ncy;"/>
          <p:cNvPicPr/>
          <p:nvPr/>
        </p:nvPicPr>
        <p:blipFill>
          <a:blip r:embed="rId5"/>
          <a:srcRect l="-520" t="7820" r="5249" b="5213"/>
          <a:stretch/>
        </p:blipFill>
        <p:spPr>
          <a:xfrm>
            <a:off x="1332000" y="1844640"/>
            <a:ext cx="6443640" cy="4738680"/>
          </a:xfrm>
          <a:prstGeom prst="rect">
            <a:avLst/>
          </a:prstGeom>
          <a:ln w="69840">
            <a:solidFill>
              <a:srgbClr val="993300"/>
            </a:solidFill>
            <a:miter/>
          </a:ln>
        </p:spPr>
      </p:pic>
    </p:spTree>
  </p:cSld>
  <p:transition spd="med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840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65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684360" y="0"/>
            <a:ext cx="81356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Конные скульптуры на </a:t>
            </a:r>
            <a:endParaRPr b="0" lang="en-US" sz="2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Аничковом мосту </a:t>
            </a:r>
            <a:endParaRPr b="0" lang="en-US" sz="2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&amp;Scy;&amp;kcy;&amp;ucy;&amp;lcy;&amp;softcy;&amp;pcy;&amp;tcy;&amp;ucy;&amp;rcy;&amp;ycy; &amp;Ucy;&amp;kcy;&amp;rcy;&amp;ocy;&amp;tcy;&amp;icy;&amp;tcy;&amp;iecy;&amp;lcy;&amp;icy; &amp;kcy;&amp;ocy;&amp;ncy;&amp;iecy;&amp;jcy; &amp;ncy;&amp;acy; &amp;Acy;&amp;ncy;&amp;icy;&amp;chcy;&amp;kcy;&amp;ocy;&amp;vcy;&amp;ocy;&amp;mcy; &amp;mcy;&amp;ocy;&amp;scy;&amp;tcy;&amp;ucy;"/>
          <p:cNvPicPr/>
          <p:nvPr/>
        </p:nvPicPr>
        <p:blipFill>
          <a:blip r:embed="rId2"/>
          <a:srcRect l="17386" t="0" r="17008" b="5332"/>
          <a:stretch/>
        </p:blipFill>
        <p:spPr>
          <a:xfrm>
            <a:off x="1839960" y="1700280"/>
            <a:ext cx="5273640" cy="485604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82" name="Picture 6" descr="&amp;Pcy;&amp;iecy;&amp;tcy;&amp;rcy; &amp;Kcy;&amp;lcy;&amp;ocy;&amp;dcy;&amp;tcy; &amp;icy; &amp;mcy;&amp;icy;&amp;lcy;&amp;acy;&amp;yacy;, &amp;mcy;&amp;icy;&amp;lcy;&amp;acy;&amp;yacy; &amp;Ucy;&amp;lcy;&amp;iecy;&amp;ncy;&amp;softcy;&amp;kcy;&amp;acy;"/>
          <p:cNvPicPr/>
          <p:nvPr/>
        </p:nvPicPr>
        <p:blipFill>
          <a:blip r:embed="rId3"/>
          <a:stretch/>
        </p:blipFill>
        <p:spPr>
          <a:xfrm>
            <a:off x="1763640" y="1413000"/>
            <a:ext cx="5256360" cy="5256000"/>
          </a:xfrm>
          <a:prstGeom prst="rect">
            <a:avLst/>
          </a:prstGeom>
          <a:ln w="66600">
            <a:solidFill>
              <a:srgbClr val="993300"/>
            </a:solidFill>
            <a:miter/>
          </a:ln>
        </p:spPr>
      </p:pic>
      <p:pic>
        <p:nvPicPr>
          <p:cNvPr id="83" name="Picture 8" descr="&amp;Fcy;&amp;ocy;&amp;rcy;&amp;ucy;&amp;mcy;&amp;ycy; - &amp;Pcy;&amp;ocy;&amp;rcy;&amp;tcy;&amp;rcy;&amp;iecy;&amp;tcy;&amp;ncy;&amp;ocy;&amp;iecy; &amp;ncy;&amp;iecy;&amp;scy;&amp;khcy;&amp;ocy;&amp;dcy;&amp;scy;&amp;tcy;&amp;vcy;&amp;ocy;"/>
          <p:cNvPicPr/>
          <p:nvPr/>
        </p:nvPicPr>
        <p:blipFill>
          <a:blip r:embed="rId4"/>
          <a:srcRect l="4060" t="0" r="2953" b="0"/>
          <a:stretch/>
        </p:blipFill>
        <p:spPr>
          <a:xfrm>
            <a:off x="1403280" y="1341360"/>
            <a:ext cx="6193080" cy="5326200"/>
          </a:xfrm>
          <a:prstGeom prst="rect">
            <a:avLst/>
          </a:prstGeom>
          <a:ln w="66600">
            <a:solidFill>
              <a:srgbClr val="993300"/>
            </a:solidFill>
            <a:miter/>
          </a:ln>
        </p:spPr>
      </p:pic>
      <p:pic>
        <p:nvPicPr>
          <p:cNvPr id="84" name="Picture 2" descr="&amp;Acy;&amp;ncy;&amp;icy;&amp;chcy;&amp;kcy;&amp;ocy;&amp;vcy; &amp;mcy;&amp;ocy;&amp;scy;&amp;tcy; &amp;vcy; &amp;Scy;&amp;acy;&amp;ncy;&amp;kcy;&amp;tcy;-&amp;Pcy;&amp;iecy;&amp;tcy;&amp;iecy;&amp;rcy;&amp;bcy;&amp;ucy;&amp;rcy;&amp;gcy;&amp;iecy;, &amp;fcy;&amp;ocy;&amp;tcy;&amp;ocy;"/>
          <p:cNvPicPr/>
          <p:nvPr/>
        </p:nvPicPr>
        <p:blipFill>
          <a:blip r:embed="rId5"/>
          <a:srcRect l="0" t="0" r="0" b="4968"/>
          <a:stretch/>
        </p:blipFill>
        <p:spPr>
          <a:xfrm>
            <a:off x="1403280" y="1235160"/>
            <a:ext cx="6264360" cy="543708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85" name="Picture 2" descr="&amp;Acy;&amp;ncy;&amp;icy;&amp;chcy;&amp;kcy;&amp;ocy;&amp;vcy; &amp;mcy;&amp;ocy;&amp;scy;&amp;tcy; &amp;vcy; &amp;Scy;&amp;acy;&amp;ncy;&amp;kcy;&amp;tcy;-&amp;Pcy;&amp;iecy;&amp;tcy;&amp;iecy;&amp;rcy;&amp;bcy;&amp;ucy;&amp;rcy;&amp;gcy;&amp;iecy;"/>
          <p:cNvPicPr/>
          <p:nvPr/>
        </p:nvPicPr>
        <p:blipFill>
          <a:blip r:embed="rId6"/>
          <a:srcRect l="0" t="0" r="0" b="6251"/>
          <a:stretch/>
        </p:blipFill>
        <p:spPr>
          <a:xfrm>
            <a:off x="1425600" y="1155600"/>
            <a:ext cx="6483240" cy="551340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86" name="Picture 4" descr="&amp;Scy;&amp;kcy;&amp;ucy;&amp;lcy;&amp;softcy;&amp;pcy;&amp;tcy;&amp;ucy;&amp;rcy;&amp;ycy; &amp;ncy;&amp;acy; &amp;Acy;&amp;ncy;&amp;icy;&amp;chcy;&amp;kcy;&amp;ocy;&amp;vcy;&amp;ocy;&amp;mcy; &amp;mcy;&amp;ocy;&amp;scy;&amp;tcy;&amp;ucy;"/>
          <p:cNvPicPr/>
          <p:nvPr/>
        </p:nvPicPr>
        <p:blipFill>
          <a:blip r:embed="rId7"/>
          <a:srcRect l="0" t="0" r="0" b="9107"/>
          <a:stretch/>
        </p:blipFill>
        <p:spPr>
          <a:xfrm>
            <a:off x="1042920" y="1197000"/>
            <a:ext cx="7102440" cy="552456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</p:spTree>
  </p:cSld>
  <p:transition spd="med">
    <p:strips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69899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33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39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>
            <a:off x="250920" y="189000"/>
            <a:ext cx="8569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Памятник императору Николаю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Прямая соединительная линия 8"/>
          <p:cNvSpPr/>
          <p:nvPr/>
        </p:nvSpPr>
        <p:spPr>
          <a:xfrm>
            <a:off x="8820000" y="404640"/>
            <a:ext cx="0" cy="50328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2" descr="&amp;Pcy;&amp;acy;&amp;mcy;&amp;yacy;&amp;tcy;&amp;ncy;&amp;icy;&amp;kcy; &amp;Ncy;&amp;icy;&amp;kcy;&amp;ocy;&amp;lcy;&amp;acy;&amp;yucy; I"/>
          <p:cNvPicPr/>
          <p:nvPr/>
        </p:nvPicPr>
        <p:blipFill>
          <a:blip r:embed="rId1"/>
          <a:srcRect l="0" t="6479" r="0" b="0"/>
          <a:stretch/>
        </p:blipFill>
        <p:spPr>
          <a:xfrm>
            <a:off x="2050920" y="1197000"/>
            <a:ext cx="5185080" cy="527040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90" name="Picture 6" descr="&amp;Pcy;&amp;acy;&amp;mcy;&amp;yacy;&amp;tcy;&amp;ncy;&amp;icy;&amp;kcy; &amp;Ncy;&amp;icy;&amp;kcy;&amp;ocy;&amp;lcy;&amp;acy;&amp;yucy; &amp;Pcy;&amp;iecy;&amp;rcy;&amp;vcy;&amp;ocy;&amp;mcy;&amp;ucy; &amp;vcy; &amp;Scy;&amp;acy;&amp;ncy;&amp;kcy;&amp;tcy;-&amp;Pcy;&amp;iecy;&amp;tcy;&amp;iecy;&amp;rcy;&amp;bcy;&amp;ucy;&amp;rcy;&amp;gcy;&amp;iecy;"/>
          <p:cNvPicPr/>
          <p:nvPr/>
        </p:nvPicPr>
        <p:blipFill>
          <a:blip r:embed="rId2"/>
          <a:stretch/>
        </p:blipFill>
        <p:spPr>
          <a:xfrm>
            <a:off x="900000" y="1125360"/>
            <a:ext cx="7491600" cy="554364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91" name="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5120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50920" y="189000"/>
            <a:ext cx="835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Памятник императору Александру 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Прямая соединительная линия 8"/>
          <p:cNvSpPr/>
          <p:nvPr/>
        </p:nvSpPr>
        <p:spPr>
          <a:xfrm>
            <a:off x="8532720" y="260280"/>
            <a:ext cx="0" cy="43200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рямая соединительная линия 4"/>
          <p:cNvSpPr/>
          <p:nvPr/>
        </p:nvSpPr>
        <p:spPr>
          <a:xfrm>
            <a:off x="8675640" y="260280"/>
            <a:ext cx="0" cy="43200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рямая соединительная линия 5"/>
          <p:cNvSpPr/>
          <p:nvPr/>
        </p:nvSpPr>
        <p:spPr>
          <a:xfrm>
            <a:off x="8820000" y="260280"/>
            <a:ext cx="0" cy="43200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&amp;Pcy;&amp;acy;&amp;mcy;&amp;yacy;&amp;tcy;&amp;ncy;&amp;icy;&amp;kcy; &amp;Acy;&amp;lcy;&amp;iecy;&amp;kcy;&amp;scy;&amp;acy;&amp;ncy;&amp;dcy;&amp;rcy;&amp;ucy; &amp;Tcy;&amp;rcy;&amp;iecy;&amp;tcy;&amp;softcy;&amp;iecy;&amp;mcy;&amp;ucy; &amp;vcy; &amp;Scy;&amp;acy;&amp;ncy;&amp;kcy;&amp;tcy;-&amp;Pcy;&amp;iecy;&amp;tcy;&amp;iecy;&amp;rcy;&amp;bcy;&amp;ucy;&amp;rcy;&amp;gcy;&amp;iecy;"/>
          <p:cNvPicPr/>
          <p:nvPr/>
        </p:nvPicPr>
        <p:blipFill>
          <a:blip r:embed="rId1"/>
          <a:stretch/>
        </p:blipFill>
        <p:spPr>
          <a:xfrm>
            <a:off x="1187280" y="1197000"/>
            <a:ext cx="6919920" cy="519732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97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&amp;Tcy;&amp;iecy;&amp;gcy; &amp;Acy;&amp;lcy;&amp;iecy;&amp;kcy;&amp;scy;&amp;acy;&amp;ncy;&amp;dcy;&amp;rcy; III &amp;Rcy;&amp;Icy;&amp;Acy; &amp;Ncy;&amp;ocy;&amp;vcy;&amp;ocy;&amp;scy;&amp;tcy;&amp;icy;"/>
          <p:cNvPicPr/>
          <p:nvPr/>
        </p:nvPicPr>
        <p:blipFill>
          <a:blip r:embed="rId3"/>
          <a:srcRect l="10394" t="0" r="8976" b="0"/>
          <a:stretch/>
        </p:blipFill>
        <p:spPr>
          <a:xfrm>
            <a:off x="971640" y="1197000"/>
            <a:ext cx="7207200" cy="520848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pic>
        <p:nvPicPr>
          <p:cNvPr id="99" name="Picture 2" descr="&amp;Pcy;&amp;acy;&amp;mcy;&amp;yacy;&amp;tcy;&amp;ncy;&amp;icy;&amp;kcy; &amp;Acy;&amp;lcy;&amp;iecy;&amp;kcy;&amp;scy;&amp;acy;&amp;ncy;&amp;dcy;&amp;rcy;&amp;ucy; &amp;Tcy;&amp;rcy;&amp;iecy;&amp;tcy;&amp;softcy;&amp;iecy;&amp;mcy;&amp;ucy; &amp;vcy; &amp;Scy;&amp;acy;&amp;ncy;&amp;kcy;&amp;tcy;-&amp;Pcy;&amp;iecy;&amp;tcy;&amp;iecy;&amp;rcy;&amp;bcy;&amp;ucy;&amp;rcy;&amp;gcy;&amp;iecy;"/>
          <p:cNvPicPr/>
          <p:nvPr/>
        </p:nvPicPr>
        <p:blipFill>
          <a:blip r:embed="rId4"/>
          <a:stretch/>
        </p:blipFill>
        <p:spPr>
          <a:xfrm>
            <a:off x="971640" y="1197000"/>
            <a:ext cx="7200720" cy="534996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</p:spTree>
  </p:cSld>
  <p:transition spd="med">
    <p:strips dir="l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709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7:50:06Z</dcterms:created>
  <dc:creator>виталик</dc:creator>
  <dc:description/>
  <dc:language>en-US</dc:language>
  <cp:lastModifiedBy>виталик</cp:lastModifiedBy>
  <dcterms:modified xsi:type="dcterms:W3CDTF">2015-02-26T22:56:59Z</dcterms:modified>
  <cp:revision>114</cp:revision>
  <dc:subject/>
  <dc:title>Фото максима</dc:title>
</cp:coreProperties>
</file>