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D72-85D8-458C-BC38-0DD99DF7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A96-230B-4F0A-B039-6A3B8959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E5A-DE5F-483F-B158-04306F6C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E0E-45F3-4C80-AC12-11DF726B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AA4-B31E-428B-9793-61846226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5FF-8C16-441A-8F09-F7FB2057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6CA-DF36-47C5-AC42-99793FF7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13F-F135-408D-8DD8-C702D214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582-D3BE-40E1-ABE5-1DEDF00B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542-3EBD-4DAF-AD6F-F4692640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101-47AA-43F1-9A0E-35A0409B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C01-0303-4015-91F0-3A492EC2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BCEB-77F7-48F3-ACE3-FEB4DBB4EF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018800"/>
            <a:ext cx="896472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еликая Отечественная вой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лаз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временной молодеж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 учителе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549360"/>
            <a:ext cx="82310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изучение отношения к ВОВ разных поколений люде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ивших после ее заверше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2421000"/>
            <a:ext cx="820908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адачи проек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основе исследований ученых обобщить основные этапы историографии Великой Отечественной войн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ведя социологический опрос разных поколений людей, выявить их знания и отношение к Великой Отечественной войне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равнить знания современников о Великой Отечественной войне, с оценкой ее уче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281160"/>
            <a:ext cx="87138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течественная историограф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945 – 1988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гг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Акцент при изучении ВОВ сделан на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вознесении успехов Красной армии. О недостатках в подготовке страны к обороне, о поражениях и потерях в ходе войны говорилось вскользь. О ряде событий, которые могли быть истолкованы во вред руководству КПСС и страны предпочиталось умалчива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3068640"/>
            <a:ext cx="8569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арубежная историограф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чительная часть американских исследований о ВОВ была пропитана духом «холодной войны».Исследования американских ученых, в первую очередь, были посвящены войне США с Японией. Отдельной темой в англоязычной исторической литературе стоит вопрос об открытии второго фронта. Из большинства англоязычных исследований складывается мнение, что западный фронт был основн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33360" y="549360"/>
            <a:ext cx="65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оциологическое исследование и его результ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484280"/>
            <a:ext cx="85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просы, направленные на выявление знаний о В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484000" y="1989000"/>
            <a:ext cx="129564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989000"/>
            <a:ext cx="8650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1640" y="1989000"/>
            <a:ext cx="100800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4280" y="3208320"/>
            <a:ext cx="3288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просы на остаточну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мять о В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19320" y="3141720"/>
            <a:ext cx="3329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вопросы на историческу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мять о В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2200" y="352440"/>
            <a:ext cx="830088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езультаты социологического опро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авляющее большинство учащихся 5 – 9 класс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труднились ответить на вопросы о конкрет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торических событиях времен 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инство опрошенных учителей и работников школы успешно ответили на поставленные вопро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подавляющего большинства опрошенных, вне зависимости от их возрастной категории, война ассоциируется с голодом, смертью, страхом, разрух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инство опрошенных, вне зависимости от их возрастной категории, любят смотреть фильмы о войне. В целом, знают памятники ВОВ, но не всегда могут точно указать их название и редко автор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80640"/>
            <a:ext cx="8713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ывод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следование Второй мировой войны выходит за чисто исторические рамки и затрагивает политическую сферу жизни общества. Современное поколение россиян относится к войне резко негативно, имеет общее представление о событиях, происходивших в мире в 1939 – 1945 года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ое представление вызвано в первую очередь пропагандой (которая, вне всякого сомнения, является правильной и необходимой), а не систематическими, глубокими знаниями о событиях времен Второй мировой вой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того чтобы трагедия 1939 – 1945 гг. не повторилась, необходимо всесторонне подходить к изучению Второй мировой войны, знакомиться с различными т.з. относительно ее спорных вопросов. Критически относиться к пропаганд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20:18:12Z</dcterms:created>
  <dc:creator>tenj</dc:creator>
  <dc:description/>
  <dc:language>en-US</dc:language>
  <cp:lastModifiedBy>tenj</cp:lastModifiedBy>
  <dcterms:modified xsi:type="dcterms:W3CDTF">2015-02-26T21:22:49Z</dcterms:modified>
  <cp:revision>3</cp:revision>
  <dc:subject/>
  <dc:title>PowerPoint Presentation</dc:title>
</cp:coreProperties>
</file>