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7A6-EC0E-4A0F-8D94-65ECCC3D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33A-CAB2-4ABB-8CB3-B16AF36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26C-735E-43CC-81E0-AE84AFA1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906-5573-47A6-B171-0094A2A5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0B0-AF49-44EA-BB80-5C88AA7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DCB-B504-4D49-8C41-F1CA04F1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BEE-C5C0-4E6B-A1F7-9CD8819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A7D-E8C2-4658-B7D9-930F5DCA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E25-3E49-4717-9DF2-B6C337E3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D8D-194F-4227-ABEF-D7C123DC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F20-6140-4A4C-8B95-7B28ED64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7DE-D8B4-467F-9F29-62905E8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FE77-EB23-461D-95F4-7FB0A33D8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JECT “HOW TO STAY HEALTH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eated by Shevtsova V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27492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4038840" cy="212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05320" y="4800600"/>
            <a:ext cx="1828800" cy="147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1596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4724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ush your teeth after breakfast and after dinne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o to the dentist every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6216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’t eat lots of swe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igh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https://im-tub-ap-ru.yandex.net/pic/d98ecaf0e9f615f3df20a324b0b86385/www.diets.ru/data/cache/2011mar/15/52/121858_95065-700x700.jpg"/>
          <p:cNvPicPr/>
          <p:nvPr/>
        </p:nvPicPr>
        <p:blipFill>
          <a:blip r:embed="rId1"/>
          <a:stretch/>
        </p:blipFill>
        <p:spPr>
          <a:xfrm>
            <a:off x="152280" y="762120"/>
            <a:ext cx="4843440" cy="4857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https://im-tub-ap-ru.yandex.net/pic/cc29fc244d19847b32136b3c8fdd0899/img.velvet.by/files/userfiles/4467/4_14-thumb.jpeg"/>
          <p:cNvPicPr/>
          <p:nvPr/>
        </p:nvPicPr>
        <p:blipFill>
          <a:blip r:embed="rId2"/>
          <a:stretch/>
        </p:blipFill>
        <p:spPr>
          <a:xfrm>
            <a:off x="5410080" y="2133720"/>
            <a:ext cx="34830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ercise f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5625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52578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help with jobs at home. Doing good things for other people will make you feel good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8380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can play sports in the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 out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281400" cy="218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27672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181480" y="3809880"/>
            <a:ext cx="3249720" cy="218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63165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`s good to spend time outdoors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`s a good way to stay healthy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t and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7913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t`s also important to sleep well. You need to sleep so that your brain can rest.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Smile and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678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mile to look younger.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mile to stay posit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mile to help your immune system work bet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mile to seem more success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mile-day.net/wp-content/uploads/2012/03/Healthy-Smile1.jpg"/>
          <p:cNvPicPr/>
          <p:nvPr/>
        </p:nvPicPr>
        <p:blipFill>
          <a:blip r:embed="rId1"/>
          <a:stretch/>
        </p:blipFill>
        <p:spPr>
          <a:xfrm>
            <a:off x="4114800" y="3429000"/>
            <a:ext cx="48290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Arial"/>
              </a:rPr>
              <a:t>Let`s remember! How can you stay healt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828800"/>
            <a:ext cx="81532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at food that`s good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Drink water every day to protect your body. Water gives you more energ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o to the doctor when you get sick, and go to the dentist every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Do exercise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Spend more time in the fresh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It`s good to sleep when you are t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ccff"/>
                </a:solidFill>
                <a:latin typeface="Arial"/>
              </a:rPr>
              <a:t>Smile to stay positive and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867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https://im-tub-ap-ru.yandex.net/pic/1a32f37219f78dd145a9f737d569f373/take.az/uploads/posts/2013-02/1361970318_19002_512818308758794_1174782750_n.jpg"/>
          <p:cNvPicPr/>
          <p:nvPr/>
        </p:nvPicPr>
        <p:blipFill>
          <a:blip r:embed="rId1"/>
          <a:stretch/>
        </p:blipFill>
        <p:spPr>
          <a:xfrm>
            <a:off x="5562720" y="4114800"/>
            <a:ext cx="32734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631656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91440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the exercise that you do and the food that you 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much water do you drink every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time do you go to 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much time do you spend outdo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often do you sm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health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326844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124080" cy="198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105520" y="1447920"/>
            <a:ext cx="3352680" cy="20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tch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y computer ga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63165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t fast f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03884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302112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46483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brain tells you what you see, hear, and touch. It helps you to write, speak, draw, and do puzzles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791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r a helmet when you ride a bi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yes and 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02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962440" cy="367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876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eyes help you to see the world around yo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ears help you to listen to ever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ct your eyes and 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74320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038480" cy="224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480" y="5257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n’t listen to very loud music – it’s bad for your 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 sunny days, wear sunglasses to protect your eyes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kin and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486400" y="2666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ke a shower every day, so you can get dirt and sweat off your skin and 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34476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6019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skeleton helps you to stand 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4191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ride a skateboard, wear pads to protect your bones and joints. Wear a helmet to protect your head, to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scle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3328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4495680"/>
            <a:ext cx="2857680" cy="21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124080" y="3429000"/>
            <a:ext cx="2971800" cy="19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24280" y="2133720"/>
            <a:ext cx="3138480" cy="176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2680" y="5715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rcise makes your muscles, bones, and joints strong, too. We need do exercise every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1148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75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44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4952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ding a bi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6629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Y</cp:lastModifiedBy>
  <dcterms:modified xsi:type="dcterms:W3CDTF">2015-02-07T13:41:28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