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6248-1571-4E8B-90FB-640BF1EDB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CF4D-5CA8-4732-9BAF-5FDCBDED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494A-A17E-4C71-82D5-CC6B349E1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639F-359F-4D62-9007-8D9B7BE4A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C4C8-88C8-46AE-9739-F3F6F9171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6B71-05D5-4DE1-9F2C-ADACF024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3E7A-1B05-4BF4-B9ED-8756F2D0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4D23-1C12-4C30-879D-6E141C3A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4B39-5A58-46C9-ABE9-EF23BEAD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A26B-CA41-4D81-BE6F-92BD096A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7577-A82A-49F4-A991-A885BBE9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47F5-8B73-41D5-A9A3-316AD613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5A6C-B0AC-4E0E-B3FB-54658799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88D6-AE96-4D93-8B27-E96752E7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05B1-5E7B-4937-8C2F-BD29DD10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7807-E151-488C-870C-3834267ED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4BF2-C048-4427-8B61-271402DF5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9866-9171-4D41-BEA7-BD549F79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8E0C-E1DE-4299-BA8D-9BDAB045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BE2D-7D0D-4756-91B1-B6CE3CB9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421D-51EE-473B-AE53-ED1E1B44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54C0-E7C5-43F3-A9E4-84CB1809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1B8E-3919-4D46-A405-37C3A210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B0CE-8146-4030-B793-22F505F5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11E9-FDC4-4D71-8FFF-9CF59DAF962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C507-1F65-4010-82FE-F222D20916D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6633"/>
                </a:solidFill>
                <a:latin typeface="Garamond"/>
              </a:rPr>
              <a:t>Исследование коммуникативной толерантности участников образовательного процесса в лицее №329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уководитель проек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рхипова Ольга Серафим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боту выполнил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лузова Анастас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гачёва Ма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хова Александ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ыжова Ан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D:\Desktop\фото исследование\DSC00470.JPG"/>
          <p:cNvPicPr/>
          <p:nvPr/>
        </p:nvPicPr>
        <p:blipFill>
          <a:blip r:embed="rId1"/>
          <a:stretch/>
        </p:blipFill>
        <p:spPr>
          <a:xfrm>
            <a:off x="4859280" y="4221000"/>
            <a:ext cx="352908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нципы исследова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бровольность участия в исследован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онимность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нфиденциальность личных результа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Результаты исследова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оличество участников исследования составило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405 человек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. В исследовании приняли участие учащиеся 4-11 классов и педагог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редний показатель уровня развития коммуникативной толерантности участников образовательного процесса в лицее № 329 составил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ля учащихся 4-7 классов -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6,5 балла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, что согласно методике исследования классифицируется как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высокая степень толерантност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ля учащихся 8-11 классов –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49,3 балла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что согласно методике исследования классифицируется как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средняя степень толерантност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ля учителей –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40 баллов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, что согласно методике исследования классифицируется как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высокая степень толерантност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и один из участников исследования не показал низкой степени толерантности и полного неприятия окружающи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Результаты исследова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видетельствуют о том, что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ля участников образовательного процесса нашей школы характерной чертой является достаточно высокий уровень развития коммуникативной толерантн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тверждают мнение исследователей о том, что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ля подростков в силу возрастных особенностей может быть характерен невысокий уровень развития коммуникативной толерантн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Результаты исследова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огут быть использованы для целевого планирования воспитательной работы в школе, в работе классных руководителей, а также для саморазвития и самосовершенствования каждого из участников исследова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зволили  участникам исследования уже в процессе тестирования узнать не только общий уровень развития собственной коммуникативной толерантности, но и определить ряд её качественных характеристик, лучше узнать себя, увидеть причины существующих проблем во взаимоотношениях с окружающи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Результаты нашей работы над проектом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аствуя в проекте, мы получили новые знания в области психологии,  ценный опыт проведения психологического исследования, узнали собственный уровень развития коммуникативной толерантност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ы благодарны  лицею №329 за возможность реализации  нашего познавательного, творческого потенциала  в процессе научно-исследовательской и проектной деятельности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Мы говорим «спасибо»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астникам исследования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уководителю проекта Архиповой Ольге Серафимовне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ам, участники конференции «Будущее – это мы»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пасибо за внимание!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8" name="Picture 2" descr="D:\Desktop\фото исследование\DSC00472.JPG"/>
          <p:cNvPicPr/>
          <p:nvPr/>
        </p:nvPicPr>
        <p:blipFill>
          <a:blip r:embed="rId1"/>
          <a:stretch/>
        </p:blipFill>
        <p:spPr>
          <a:xfrm>
            <a:off x="684360" y="1341360"/>
            <a:ext cx="762768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онятие «толерантность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психологии толерантность (лат. 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tolerantia —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ерпимость) - это терпимость, снисходительность к кому или чему-либо.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установка на либеральное, уважительное отношение и принятие (понимание) поведения, убеждений, национальных и иных традиций и ценностей других людей, отличающихся от собственных. Толерантность способствует предупреждению конфликтов и установлению взаимопонимания между людь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онятие «коммуникативная толерантность»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муникативная толерантность - это характеристика отношения личности к людям, показывающая степень переносимости ею неприятных или неприемлемых, по ее мнению, психических состояний, качеств и поступков партнеров по взаимодействию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едмет исследова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ммуникативная толерантность участников образовательного процесса в нашей школ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Актуальность исследова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шние факторы, характеризующие сегодняшнюю ситуацию в мире: социальные и межэтнические конфликты, рост насилия и терроризма, напряженная социальная, экономическая, идеологическая обстановка; активизация внимания исследователей к проблеме толеран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утренние факторы: в нашей школе одной из задач образовательного процесса является воспитание социально-адаптированной личности на основе развития коммуникативных навыков у учащихся. Большое внимание уделяется воспитанию толерантности. Мы решили внести свой вклад в эту рабо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Цель исследова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ить средний показатель  уровня развития коммуникативной толерантности учащихся 4-11 классов и учителей нашей школ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Задачи исследова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йти литературу по теме исслед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учить теорию толерант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обрать методики для практического исслед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вести тестирование среди участников исслед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работать полученные дан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ить и оформить результаты исследован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Гипотеза исследова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нашей школы – лицея № 329 – в силу благоприятной образовательной и воспитательной среды характерен высокий уровень коммуникативной толерантности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подростков в силу возрастных особенностей может быть характерен невысокий уровень коммуникативной толерант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Методики исследова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Проявляешь ли ты толерантность?» для учеников 4-7 классов, приведённая в сборнике Л.И. Дегтев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Опросник коммуникативной толерантности» В.В.Бойко в двух вариантах: для учащихся 8-11 классов и для учителе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2T13:28:02Z</dcterms:created>
  <dc:creator>Nikita</dc:creator>
  <dc:description/>
  <dc:language>en-US</dc:language>
  <cp:lastModifiedBy>teacher</cp:lastModifiedBy>
  <dcterms:modified xsi:type="dcterms:W3CDTF">2014-03-03T06:17:21Z</dcterms:modified>
  <cp:revision>5</cp:revision>
  <dc:subject/>
  <dc:title>Исследование коммуникативной толерантности участников образовательного процесса в лицее №329</dc:title>
</cp:coreProperties>
</file>