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1CCE-D3B5-4B43-BB71-0B875447A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B60B-957C-4C42-9939-EE5158E65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9376-C84D-4BB1-8FD0-901BE6906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15B2-EC58-412F-BFE1-6AF738024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EA93-19C9-405B-9537-A42AE61DF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BBEF-F6B0-4878-9D91-74AC448A8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5CE7-B4C9-4BA8-AECB-7BF3EE4FE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CB60-4A49-4408-A113-4AE094D88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664E-4AF8-4A87-995F-B18D3624E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263C-1F78-41F9-839D-8940E457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8A00-1B8F-4994-905B-83141001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7759-5861-4104-9F42-2FAF4E8D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394C2-92EF-4065-948C-EC1EC7A0EC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«Освещенность при использовании экономичных источников света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92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ли: Кораблина А, Савченко 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1 а класс 329 лиц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Экономическая эффективнос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395280" y="2133720"/>
            <a:ext cx="84978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усть лампы светят в течение 3 лет по 5 часов в сутки, то общее время работы будет 365,25 суток∙5 часов∙3 г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4"/>
          <p:cNvSpPr/>
          <p:nvPr/>
        </p:nvSpPr>
        <p:spPr>
          <a:xfrm>
            <a:off x="1714680" y="4286160"/>
            <a:ext cx="678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T=15∙365,5=5478,25 час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Экономическая эффективнос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893880" y="2495880"/>
            <a:ext cx="83055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За это время лампа в 6,5 В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затрати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Q=P∙T=5478,25∙6,5 Вт= 35,612 кВт∙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лампа в 6 Вт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затрати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3"/>
          <p:cNvSpPr/>
          <p:nvPr/>
        </p:nvSpPr>
        <p:spPr>
          <a:xfrm>
            <a:off x="1164240" y="5929200"/>
            <a:ext cx="596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Q=5478,25∙6=32,8725 кВт∙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-10044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Экономическая эффективнос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539640" y="1700280"/>
          <a:ext cx="7929720" cy="4267080"/>
        </p:xfrm>
        <a:graphic>
          <a:graphicData uri="http://schemas.openxmlformats.org/drawingml/2006/table">
            <a:tbl>
              <a:tblPr/>
              <a:tblGrid>
                <a:gridCol w="2452680"/>
                <a:gridCol w="1871640"/>
                <a:gridCol w="2043360"/>
                <a:gridCol w="1562040"/>
              </a:tblGrid>
              <a:tr h="91512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ламп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m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on L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ULTRA (6,5 Вт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uss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6 Вт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юминесцентных 18 В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496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 электроэнергии одной лампой за 3 года, при работе 5 ч в сутки, кВт∙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бходимое число лам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04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ий расход электроэнергии за 3 года, при работе 5 ч в сутки, кВт∙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-10044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Экономическая эффективнос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39640" y="1628640"/>
          <a:ext cx="7929720" cy="3657600"/>
        </p:xfrm>
        <a:graphic>
          <a:graphicData uri="http://schemas.openxmlformats.org/drawingml/2006/table">
            <a:tbl>
              <a:tblPr/>
              <a:tblGrid>
                <a:gridCol w="2452680"/>
                <a:gridCol w="1871640"/>
                <a:gridCol w="2043360"/>
                <a:gridCol w="1562040"/>
              </a:tblGrid>
              <a:tr h="91512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ламп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m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on L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ULTRA (6,5 Вт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uss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6 Вт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юминесцентных 18 В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04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стоимость электроэнергии за 3 года, при работе 5 ч в сутки, руб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4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а одной лампы, руб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стоимость всех ламп, руб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7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, руб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6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8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6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"/>
          <p:cNvSpPr/>
          <p:nvPr/>
        </p:nvSpPr>
        <p:spPr>
          <a:xfrm>
            <a:off x="250920" y="145440"/>
            <a:ext cx="8066160" cy="62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680" rIns="90000" tIns="152280" bIns="38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в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.Светодиодные лампы одинаковой мощности, но разных производителей имеют различные световые характеристики при одинаковой мощности. Различия могут составлять десятки процен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. На примере кабинета физики показано, что при замене люминесцентных ламп на светодиодные, освещенность кабинета останется в тех же предел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. Светодиодные лампы потребляют значительно меньше электроэнергии, но за счёт высокой стоимости светодиодных ламп замена люминесцентных в учреждениях в настоящее время экономически нецелесообраз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4.Светодиодные лампы более перспективны, однако, их распределение должно быть равномер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5.Ртутные люминесцентные лампы требуют утилизации, а светодиодные – не требую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474560" y="2923200"/>
            <a:ext cx="622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19285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Актуальност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ереход на экономичные источники освещения является в настоящий момент актуальным. В прошлом году были проведены сравнительные исследования освещенности бытовых ламп и сделан вывод о том,что наиболее эффективными источниками являются лампы на светодиодах ( или светодиодные лампы).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3"/>
          <p:cNvSpPr/>
          <p:nvPr/>
        </p:nvSpPr>
        <p:spPr>
          <a:xfrm>
            <a:off x="285840" y="3929040"/>
            <a:ext cx="8572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Цель и задач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провести оценочные расчеты для замены люминесцентных ламп , которые используются в учереждениях, на светодиод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исследования освещённости используется в работе «люксметр Ю 116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Экспериментальная установ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0" y="2421000"/>
            <a:ext cx="9144000" cy="38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4839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Освещённость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- световая величина, равная отношению светового потока, падающего на малый участок поверхности, к его площади. Единица освещённости (кд/м</a:t>
            </a:r>
            <a:r>
              <a:rPr b="0" i="1" lang="ru-RU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5"/>
              <p:cNvSpPr txBox="1"/>
              <p:nvPr/>
            </p:nvSpPr>
            <p:spPr>
              <a:xfrm>
                <a:off x="2700360" y="4149720"/>
                <a:ext cx="2951280" cy="21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Φ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хема эксперимента, формула освещённости точечного источни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Object 7"/>
          <p:cNvGraphicFramePr/>
          <p:nvPr/>
        </p:nvGraphicFramePr>
        <p:xfrm>
          <a:off x="4071960" y="2428920"/>
          <a:ext cx="4896000" cy="34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1960" y="2428920"/>
                    <a:ext cx="4896000" cy="34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Rectangle 10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9"/>
              <p:cNvSpPr txBox="1"/>
              <p:nvPr/>
            </p:nvSpPr>
            <p:spPr>
              <a:xfrm>
                <a:off x="142920" y="1643040"/>
                <a:ext cx="3995640" cy="191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" name="Rectangle 11"/>
          <p:cNvSpPr/>
          <p:nvPr/>
        </p:nvSpPr>
        <p:spPr>
          <a:xfrm>
            <a:off x="468360" y="594900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ла света точечного источн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" descr=""/>
          <p:cNvPicPr/>
          <p:nvPr/>
        </p:nvPicPr>
        <p:blipFill>
          <a:blip r:embed="rId3"/>
          <a:stretch/>
        </p:blipFill>
        <p:spPr>
          <a:xfrm>
            <a:off x="-468360" y="4065480"/>
            <a:ext cx="12142800" cy="12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Экономическая эффективнос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PLNQ-VkrhWk"/>
          <p:cNvPicPr/>
          <p:nvPr/>
        </p:nvPicPr>
        <p:blipFill>
          <a:blip r:embed="rId1"/>
          <a:stretch/>
        </p:blipFill>
        <p:spPr>
          <a:xfrm>
            <a:off x="4443480" y="1500120"/>
            <a:ext cx="3585960" cy="4786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F:\bluetooth\IMG_20150211_085354.jpg"/>
          <p:cNvPicPr/>
          <p:nvPr/>
        </p:nvPicPr>
        <p:blipFill>
          <a:blip r:embed="rId2"/>
          <a:stretch/>
        </p:blipFill>
        <p:spPr>
          <a:xfrm>
            <a:off x="500040" y="1571760"/>
            <a:ext cx="362916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68360" y="581040"/>
          <a:ext cx="8143920" cy="6310440"/>
        </p:xfrm>
        <a:graphic>
          <a:graphicData uri="http://schemas.openxmlformats.org/drawingml/2006/table">
            <a:tbl>
              <a:tblPr/>
              <a:tblGrid>
                <a:gridCol w="1798560"/>
                <a:gridCol w="2725920"/>
                <a:gridCol w="3619440"/>
              </a:tblGrid>
              <a:tr h="1400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тояние до лампы, с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uss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6 Вт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m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on L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ULTRA (6,5 Вт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ол при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=100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Прямоугольник 2"/>
          <p:cNvSpPr/>
          <p:nvPr/>
        </p:nvSpPr>
        <p:spPr>
          <a:xfrm>
            <a:off x="351000" y="-4680"/>
            <a:ext cx="810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Характеристики светодиодных лам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1071720" y="214200"/>
            <a:ext cx="671508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500040"/>
          <a:ext cx="8358120" cy="6000840"/>
        </p:xfrm>
        <a:graphic>
          <a:graphicData uri="http://schemas.openxmlformats.org/drawingml/2006/table">
            <a:tbl>
              <a:tblPr/>
              <a:tblGrid>
                <a:gridCol w="2089080"/>
                <a:gridCol w="2089080"/>
                <a:gridCol w="2089080"/>
                <a:gridCol w="2090880"/>
              </a:tblGrid>
              <a:tr h="1000080"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ч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uss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6 Вт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m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on L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ULTRA (6,5 Вт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ординаты точки, с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0,58;0,5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1,45;0,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2,32;0,5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4,35;0,29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400"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5,22;0,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1,45;2,0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4,35;3,29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-0,3;1,7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-0,3; 0,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3T00:19:55Z</dcterms:created>
  <dc:creator>Влад</dc:creator>
  <dc:description/>
  <dc:language>en-US</dc:language>
  <cp:lastModifiedBy>fizika</cp:lastModifiedBy>
  <dcterms:modified xsi:type="dcterms:W3CDTF">2015-02-27T10:44:40Z</dcterms:modified>
  <cp:revision>27</cp:revision>
  <dc:subject/>
  <dc:title>«Исследование освещенности, создаваемой бытовыми источниками света»</dc:title>
</cp:coreProperties>
</file>