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5782-928B-4EA9-8D2D-12D5DF4D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ACDF-1F3F-4B62-93BB-8C4000E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888E-18EB-409D-A68B-78610387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A8E4-C703-457D-AD35-21EFAE57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732E-8771-4D70-AB89-78224386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EFD8-E97C-4D73-8B2E-A2D8D104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2414-9C4B-4A05-A336-2E16A5A4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6441-FFE3-429A-801C-5C154755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546C-3C77-4520-B360-DE85CD34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8C26-AED5-4485-888A-FE8BC4F4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AF74-6E8A-47C3-8367-848BCDC3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8587-6B83-43EA-B1A8-E09F13FD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63AC-39EE-457D-AFC2-A7370490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CEAE-6EAB-46EB-970E-84CE6106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2915-325B-40BF-9C67-3042E640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1F1F-DD7F-40D1-812C-5D28783E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D880-83C8-4BE5-BEA2-FA776A0E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0C46-3515-4C2A-B9C8-531D8A49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CEB9-0260-464E-9F08-FF7BD62D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FF11-46BF-4F9B-A76D-776FB1EB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2A91-AE93-4D32-A43E-C751C04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2265-E8AD-4F28-9446-8366509B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E667-1700-48E1-9B0D-4148C6B4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C57D-E00F-4F93-9C2B-8B1D29E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3442-AA1A-4F22-BFE4-DF9FD2DF36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1B9C-DF64-4196-BA86-81D4A5A19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050920" y="2349360"/>
            <a:ext cx="58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Эволюция звезд на примере Солн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364360" y="551664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Выполнил ученик 5 «А» кла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Ратников Вик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Астрономический ликбез. Классификация звезд"/>
          <p:cNvPicPr/>
          <p:nvPr/>
        </p:nvPicPr>
        <p:blipFill>
          <a:blip r:embed="rId1"/>
          <a:stretch/>
        </p:blipFill>
        <p:spPr>
          <a:xfrm>
            <a:off x="385920" y="290520"/>
            <a:ext cx="83721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345040" y="18900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Эволюция звезд типа Солн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78544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832360" cy="51609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3422160" y="40464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984680" y="2637000"/>
            <a:ext cx="545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Ученые пересчитали звезды аналогичные Солнцу - Наука и технологии - NewsUkraine"/>
          <p:cNvPicPr/>
          <p:nvPr/>
        </p:nvPicPr>
        <p:blipFill>
          <a:blip r:embed="rId1"/>
          <a:stretch/>
        </p:blipFill>
        <p:spPr>
          <a:xfrm>
            <a:off x="539640" y="1197000"/>
            <a:ext cx="8137800" cy="52084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566520" y="47628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559240" y="47628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Звезды и их класс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ShockLife.info &quot; Звезды вселенной"/>
          <p:cNvPicPr/>
          <p:nvPr/>
        </p:nvPicPr>
        <p:blipFill>
          <a:blip r:embed="rId1"/>
          <a:stretch/>
        </p:blipFill>
        <p:spPr>
          <a:xfrm>
            <a:off x="1547640" y="1557360"/>
            <a:ext cx="61930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85840" y="385920"/>
            <a:ext cx="857232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635280" y="5996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75960" y="615780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аграмма Герцшпрунга - Расс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5058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735840" y="255744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елый кар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770280" y="26305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сный кар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41760" y="263052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ичневый кар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48360" y="55897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ичневый субкар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344200" y="56088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рный кар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385720" cy="23860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3492360" y="8100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6265800" y="115920"/>
            <a:ext cx="2338560" cy="23382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900000" y="3137040"/>
            <a:ext cx="3262320" cy="2452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4788000" y="3213000"/>
            <a:ext cx="4186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548880" y="587700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йтронная звез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478240" y="620640"/>
            <a:ext cx="4325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284120" y="580536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вая звез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59480" y="4076640"/>
            <a:ext cx="22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рхновая звез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427640" y="189000"/>
            <a:ext cx="4716360" cy="2735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79200" y="2349360"/>
            <a:ext cx="4348440" cy="28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113120" y="589752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ойная звез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02040" y="594216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ваз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6360" y="1989000"/>
            <a:ext cx="4248360" cy="29768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4419720" y="1844640"/>
            <a:ext cx="4689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9:03:13Z</dcterms:created>
  <dc:creator>Vad</dc:creator>
  <dc:description/>
  <dc:language>en-US</dc:language>
  <cp:lastModifiedBy>Vad</cp:lastModifiedBy>
  <dcterms:modified xsi:type="dcterms:W3CDTF">2014-12-22T20:12:51Z</dcterms:modified>
  <cp:revision>2</cp:revision>
  <dc:subject/>
  <dc:title>Слайд 1</dc:title>
</cp:coreProperties>
</file>