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291-F994-4B58-B7BB-942BC96D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9BA-3567-47A2-B25F-A010D5C5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3A7-B38D-4C81-9594-8D1EA240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0B0-4EC0-4420-80D2-4DADFF1A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070-E35D-4AD3-9D16-2473D28F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E47-0178-4AD2-AA78-FCF4BB8C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6BF-8B83-4B56-953E-9C465431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4A2-5603-4D8E-B349-F4C6743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310-CAE4-4F1E-ADA1-8E9DB14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BC8-AE04-4A46-90C8-ABA277F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C43-ECE9-4ED3-A000-5BFDE8F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10E-511E-4AAA-9F06-0EDFA37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CD66-4F50-414C-8512-128FCCBD51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Овал 7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8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8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дзаголовок 3"/>
          <p:cNvSpPr/>
          <p:nvPr/>
        </p:nvSpPr>
        <p:spPr>
          <a:xfrm>
            <a:off x="1403280" y="1700280"/>
            <a:ext cx="64771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Lobster"/>
                <a:ea typeface="Leelawadee"/>
              </a:rPr>
              <a:t>Очень интересны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Lobster"/>
                <a:ea typeface="Leelawadee"/>
              </a:rPr>
              <a:t>школь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Lobster"/>
                <a:ea typeface="Leelawadee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Lobster"/>
                <a:ea typeface="Leelawadee"/>
              </a:rPr>
              <a:t>професси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дзаголовок 2"/>
          <p:cNvSpPr/>
          <p:nvPr/>
        </p:nvSpPr>
        <p:spPr>
          <a:xfrm>
            <a:off x="3203640" y="549360"/>
            <a:ext cx="352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Школьный вр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IMG_0783.JPG"/>
          <p:cNvPicPr/>
          <p:nvPr/>
        </p:nvPicPr>
        <p:blipFill>
          <a:blip r:embed="rId1"/>
          <a:srcRect l="15354" t="8273" r="21651" b="-1575"/>
          <a:stretch/>
        </p:blipFill>
        <p:spPr>
          <a:xfrm>
            <a:off x="755640" y="1341360"/>
            <a:ext cx="350028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032480" y="4797360"/>
            <a:ext cx="28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Бровкина Ирина Александ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356000" y="1628640"/>
            <a:ext cx="42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пределит он быстро симулянта,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А кто болеет – тех освободит.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дь он, ребя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не наивный Санта,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А школьный врач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 многом говори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3"/>
          <p:cNvSpPr/>
          <p:nvPr/>
        </p:nvSpPr>
        <p:spPr>
          <a:xfrm>
            <a:off x="5364000" y="1844640"/>
            <a:ext cx="302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Повар – это человек, который готовит пищу. Эта профессия самая древняя и нужная.. Наши повара очень любят готовить для ребят.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Всегда в халате белом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Готовят кашу детям.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От поваров зависит наше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Здоровье и настроение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2987640" y="765000"/>
            <a:ext cx="1513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Пова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80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одзаголовок 2"/>
          <p:cNvSpPr/>
          <p:nvPr/>
        </p:nvSpPr>
        <p:spPr>
          <a:xfrm flipH="1" flipV="1" rot="5400000">
            <a:off x="4930920" y="3355920"/>
            <a:ext cx="432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4788000" y="1989000"/>
            <a:ext cx="334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лотник   должен знать основы математики, физики, черчения  иметь хороший глазомер, обладать физической силой и выносливостью, такими качествами как точность, аккуратность, вним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2987640" y="69228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Плот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IMG_0793.JPG"/>
          <p:cNvPicPr/>
          <p:nvPr/>
        </p:nvPicPr>
        <p:blipFill>
          <a:blip r:embed="rId1"/>
          <a:stretch/>
        </p:blipFill>
        <p:spPr>
          <a:xfrm>
            <a:off x="1000080" y="1857240"/>
            <a:ext cx="3708360" cy="2471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8"/>
          <p:cNvSpPr/>
          <p:nvPr/>
        </p:nvSpPr>
        <p:spPr>
          <a:xfrm>
            <a:off x="1789200" y="4572000"/>
            <a:ext cx="220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Александр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одзаголовок 2"/>
          <p:cNvSpPr/>
          <p:nvPr/>
        </p:nvSpPr>
        <p:spPr>
          <a:xfrm>
            <a:off x="2411280" y="422100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Единое цел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Users\MaMa\Desktop\Альбом\учителя.jpg"/>
          <p:cNvPicPr/>
          <p:nvPr/>
        </p:nvPicPr>
        <p:blipFill>
          <a:blip r:embed="rId1"/>
          <a:stretch/>
        </p:blipFill>
        <p:spPr>
          <a:xfrm>
            <a:off x="1258920" y="549360"/>
            <a:ext cx="6408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042920" y="1916280"/>
            <a:ext cx="71294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Друзья, берегите минуту и час Любого из школьных дней!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усть станет профессором Каждый из в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 профессии нужной своей.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              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(М. Раскато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2"/>
          <p:cNvSpPr/>
          <p:nvPr/>
        </p:nvSpPr>
        <p:spPr>
          <a:xfrm>
            <a:off x="1187280" y="1341360"/>
            <a:ext cx="662328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У нас испокон веков говорили, что не профессия красит человека, а человек профессию и не важно, на кого вы учитесь, главное, чтобы работа вам нравилась, вы в нее вкладывали душу. А когда вас спрашивали о вашей профессии, то вы могли с гордостью ее наз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      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Недаром в детском стихотворении говор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1" i="1" lang="ru-RU" sz="2000" spc="-1" strike="noStrike">
                <a:solidFill>
                  <a:srgbClr val="ffff00"/>
                </a:solidFill>
                <a:latin typeface="Calibri"/>
              </a:rPr>
              <a:t>«Все работы хороши, выбирай на вку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2195640" y="549360"/>
            <a:ext cx="410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иректор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79280" y="4437000"/>
            <a:ext cx="3529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Беля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льга Александ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MaMa\Desktop\Альбом\beljaeva.JPG"/>
          <p:cNvPicPr/>
          <p:nvPr/>
        </p:nvPicPr>
        <p:blipFill>
          <a:blip r:embed="rId1"/>
          <a:stretch/>
        </p:blipFill>
        <p:spPr>
          <a:xfrm>
            <a:off x="719280" y="1268280"/>
            <a:ext cx="2342880" cy="3127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132000" y="1757160"/>
            <a:ext cx="54356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бы быть директором школы, мало быть просто педагогом и организатором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</a:rPr>
              <a:t>Нужно быть  психологом , менеджером, юристом, завхозом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00"/>
                </a:solidFill>
                <a:latin typeface="Arial"/>
              </a:rPr>
              <a:t>И постоянно учиться</a:t>
            </a:r>
            <a:r>
              <a:rPr b="1" i="1" lang="ru-RU" sz="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1619280" y="549360"/>
            <a:ext cx="60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Заместител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директора  по  У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332000" y="4581360"/>
            <a:ext cx="648000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Завуч является “учителем учителей”. Для завуча одно из главных качеств – умение организовать работу коллектива, создать атмосферу доброжелательности, взаимопонимания и сотрудни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MaMa\Desktop\Альбом\rjazanova.jpg"/>
          <p:cNvPicPr/>
          <p:nvPr/>
        </p:nvPicPr>
        <p:blipFill>
          <a:blip r:embed="rId1"/>
          <a:stretch/>
        </p:blipFill>
        <p:spPr>
          <a:xfrm>
            <a:off x="826920" y="119700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MaMa\Desktop\Альбом\smolnikova.jpg"/>
          <p:cNvPicPr/>
          <p:nvPr/>
        </p:nvPicPr>
        <p:blipFill>
          <a:blip r:embed="rId2"/>
          <a:stretch/>
        </p:blipFill>
        <p:spPr>
          <a:xfrm>
            <a:off x="3995640" y="1052640"/>
            <a:ext cx="1881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MaMa\Desktop\Альбом\veselovaev.jpg"/>
          <p:cNvPicPr/>
          <p:nvPr/>
        </p:nvPicPr>
        <p:blipFill>
          <a:blip r:embed="rId3"/>
          <a:stretch/>
        </p:blipFill>
        <p:spPr>
          <a:xfrm>
            <a:off x="6659640" y="1125360"/>
            <a:ext cx="1447560" cy="23036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833400" y="335772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Ряза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аталья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6227640" y="335772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есел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лена Виктор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3714480" y="3789360"/>
            <a:ext cx="20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мольн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Ирина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яче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одзаголовок 2"/>
          <p:cNvSpPr/>
          <p:nvPr/>
        </p:nvSpPr>
        <p:spPr>
          <a:xfrm>
            <a:off x="324000" y="4653000"/>
            <a:ext cx="64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771640" y="549360"/>
            <a:ext cx="295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Уч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971640" y="4005360"/>
            <a:ext cx="687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  </a:t>
            </a: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Учитель</a:t>
            </a: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 — это лицо, которое кого-либо чему-либо обучает. Когда-то давно  учителями становились люди, владевшие тем  или иным ремеслом  и передававшие эти знания другим. И лишь в 18 — 19 веках, преподавание как официально признанная профессия стало массовым явлением  во всё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2" descr="IMG_0737.JPG"/>
          <p:cNvPicPr/>
          <p:nvPr/>
        </p:nvPicPr>
        <p:blipFill>
          <a:blip r:embed="rId1"/>
          <a:srcRect l="23231" t="25199" r="30316" b="0"/>
          <a:stretch/>
        </p:blipFill>
        <p:spPr>
          <a:xfrm>
            <a:off x="6156360" y="1268280"/>
            <a:ext cx="2016000" cy="216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school329.spb.ru/images/adm/chivina.JPG"/>
          <p:cNvPicPr/>
          <p:nvPr/>
        </p:nvPicPr>
        <p:blipFill>
          <a:blip r:embed="rId2"/>
          <a:stretch/>
        </p:blipFill>
        <p:spPr>
          <a:xfrm>
            <a:off x="3995640" y="1268280"/>
            <a:ext cx="1513080" cy="226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school329.spb.ru/images/adm/vinogradov.jpg"/>
          <p:cNvPicPr/>
          <p:nvPr/>
        </p:nvPicPr>
        <p:blipFill>
          <a:blip r:embed="rId3"/>
          <a:srcRect l="16679" t="10578" r="0" b="0"/>
          <a:stretch/>
        </p:blipFill>
        <p:spPr>
          <a:xfrm>
            <a:off x="755640" y="1268280"/>
            <a:ext cx="2879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5"/>
          <p:cNvSpPr/>
          <p:nvPr/>
        </p:nvSpPr>
        <p:spPr>
          <a:xfrm>
            <a:off x="695160" y="3645000"/>
            <a:ext cx="29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иноградов Николай Никола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646440" y="357336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Цивина Евгения Семено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5730840" y="3429000"/>
            <a:ext cx="26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Моисеева Наталия Ив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2571840" y="285840"/>
            <a:ext cx="4103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Библиотекарь</a:t>
            </a:r>
            <a:r>
              <a:rPr b="0" i="1" lang="ru-RU" sz="44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500120" y="428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обслуживает учеников и работников школы на абонементе и в читальном зале, организует и проводит связанную с этим   работу (выставки, викторины, и другие мероприятия по пропаганде книги) ; осуществляет подбор литературы по заявкам чита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2357280" y="928800"/>
            <a:ext cx="4319640" cy="2879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3225960" y="3929040"/>
            <a:ext cx="27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амойлова Елена Васил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Заголовок 1"/>
          <p:cNvSpPr/>
          <p:nvPr/>
        </p:nvSpPr>
        <p:spPr>
          <a:xfrm>
            <a:off x="2556000" y="404640"/>
            <a:ext cx="41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147636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2556000" y="404640"/>
            <a:ext cx="41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1371600" y="1871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2143080" y="500040"/>
            <a:ext cx="4246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Секретарь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500120" y="428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Обязанности секретаря школы - прием и передачи информации от сотрудников учреждения и учащихся директору. Даже если директора нет на месте, его помощник должен записать всех посетителей, звонки и вопросы, по которым они обращались. Даже если зашел первоклассник, нельзя упускать его жало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IMG_0791.JPG"/>
          <p:cNvPicPr/>
          <p:nvPr/>
        </p:nvPicPr>
        <p:blipFill>
          <a:blip r:embed="rId1"/>
          <a:stretch/>
        </p:blipFill>
        <p:spPr>
          <a:xfrm>
            <a:off x="2643120" y="1071720"/>
            <a:ext cx="3672000" cy="24476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8"/>
          <p:cNvSpPr/>
          <p:nvPr/>
        </p:nvSpPr>
        <p:spPr>
          <a:xfrm>
            <a:off x="3145680" y="378612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Будакова Лариса Ю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3"/>
          <p:cNvSpPr/>
          <p:nvPr/>
        </p:nvSpPr>
        <p:spPr>
          <a:xfrm>
            <a:off x="3059280" y="333360"/>
            <a:ext cx="345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371600" y="1871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523880" y="202392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4643280" y="1197000"/>
            <a:ext cx="3745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Без бухгалтера  зарплаты 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Не дождались ваши папы,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Ведь бухгалтер            подсчитает,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Где расход, а где приход.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Он деньгам ведёт учёт!!!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Цифр много он считает,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Но и толк он в этом знает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Материалы, дивиденды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И различные проценты,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По местам всё разложил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Ничего он не забыл</a:t>
            </a:r>
            <a:r>
              <a:rPr b="1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MaMa\Desktop\Альбом\главный бухгалтер.jpg"/>
          <p:cNvPicPr/>
          <p:nvPr/>
        </p:nvPicPr>
        <p:blipFill>
          <a:blip r:embed="rId1"/>
          <a:stretch/>
        </p:blipFill>
        <p:spPr>
          <a:xfrm>
            <a:off x="826920" y="1341360"/>
            <a:ext cx="3384720" cy="22669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1258920" y="3716280"/>
            <a:ext cx="23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Arial"/>
              </a:rPr>
              <a:t>Щербак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Arial"/>
              </a:rPr>
              <a:t>Елена Викторов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3"/>
          <p:cNvSpPr/>
          <p:nvPr/>
        </p:nvSpPr>
        <p:spPr>
          <a:xfrm>
            <a:off x="3059280" y="333360"/>
            <a:ext cx="3439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Бухгал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Заголовок 1"/>
          <p:cNvSpPr/>
          <p:nvPr/>
        </p:nvSpPr>
        <p:spPr>
          <a:xfrm>
            <a:off x="685800" y="54936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Технический 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2771640" y="1413000"/>
            <a:ext cx="36338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Тетя Маша, баба Катя -</a:t>
            </a: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Наши феи чистоты!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Чтоб вокруг без вас творилось?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Даже слов нам не найти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Мы порою и не ценим,</a:t>
            </a:r>
            <a:r>
              <a:rPr b="0" i="1" lang="ru-RU" sz="1800" spc="-1" strike="noStrike">
                <a:solidFill>
                  <a:srgbClr val="ffff00"/>
                </a:solidFill>
                <a:latin typeface="Calibri"/>
              </a:rPr>
              <a:t> 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Ваш такой нелегкий труд,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Мусор в урны не кидаем,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И рисуем на столах,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Вам работу прибавляем...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Вы простите глупых нас!</a:t>
            </a: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IMG_0789.JPG"/>
          <p:cNvPicPr/>
          <p:nvPr/>
        </p:nvPicPr>
        <p:blipFill>
          <a:blip r:embed="rId1"/>
          <a:srcRect l="23228" t="25197" r="35827" b="9843"/>
          <a:stretch/>
        </p:blipFill>
        <p:spPr>
          <a:xfrm>
            <a:off x="5919840" y="1484280"/>
            <a:ext cx="224784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IMG_0790.JPG"/>
          <p:cNvPicPr/>
          <p:nvPr/>
        </p:nvPicPr>
        <p:blipFill>
          <a:blip r:embed="rId2"/>
          <a:srcRect l="29528" t="20468" r="29528" b="9842"/>
          <a:stretch/>
        </p:blipFill>
        <p:spPr>
          <a:xfrm>
            <a:off x="755640" y="1413000"/>
            <a:ext cx="228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Irenus</dc:creator>
  <dc:description/>
  <dc:language>en-US</dc:language>
  <cp:lastModifiedBy>Масленикова Маргарита Леонидовна</cp:lastModifiedBy>
  <dcterms:modified xsi:type="dcterms:W3CDTF">2015-02-27T08:08:51Z</dcterms:modified>
  <cp:revision>35</cp:revision>
  <dc:subject/>
  <dc:title>Классная доска</dc:title>
</cp:coreProperties>
</file>