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10080625" cy="7559675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41040" y="755640"/>
            <a:ext cx="4971960" cy="37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49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dt" idx="16"/>
          </p:nvPr>
        </p:nvSpPr>
        <p:spPr>
          <a:xfrm>
            <a:off x="3881520" y="0"/>
            <a:ext cx="29750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17"/>
          </p:nvPr>
        </p:nvSpPr>
        <p:spPr>
          <a:xfrm>
            <a:off x="0" y="9448920"/>
            <a:ext cx="29750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18"/>
          </p:nvPr>
        </p:nvSpPr>
        <p:spPr>
          <a:xfrm>
            <a:off x="3881520" y="9448920"/>
            <a:ext cx="29750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AA87F-E2D2-4E69-9129-B8F7356ECA58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3881520" y="9448920"/>
            <a:ext cx="2975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EE232-149D-4A65-9677-3992470552A1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881520" y="9448920"/>
            <a:ext cx="2975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51818-85C6-44B1-97C8-8014F0D92BFD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881520" y="9448920"/>
            <a:ext cx="2975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97643-07F6-4720-A22F-86B21F6751DB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881520" y="9448920"/>
            <a:ext cx="2975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21C2B-D527-4E4E-95CD-C9F3F8163846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3881520" y="9448920"/>
            <a:ext cx="2975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D0E9E-E999-4985-AC57-F36360F9BFFF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881520" y="9448920"/>
            <a:ext cx="2975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6EEF2-0F72-42FB-86C4-CF8ABCEE8105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208-0C90-4548-9F94-D1B4C692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90741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3280" y="4969800"/>
            <a:ext cx="90741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C68-6B65-430D-8C62-39B06659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328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5304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ABD-2ECA-40B8-8FF0-B70A320C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71560" y="247968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639840" y="247968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03280" y="496980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71560" y="496980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639840" y="496980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807-A1E2-4D75-82D8-B2EB5948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5A90-97E2-4D0B-A5FA-384CF2DF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3280" y="2479680"/>
            <a:ext cx="9074160" cy="47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4AE8-45E8-49E6-AE87-4710B90A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907416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EE55-1690-4355-99E7-EAED0300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9798-A9F2-4723-B726-96A9A1FB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96AB-946B-4309-A6A8-AE2B4DE2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03280" y="1260360"/>
            <a:ext cx="907416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C2C0-70FC-4B3F-9A4D-2C1C8E9B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328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19D7-7684-4B10-ACBC-9AF1CC51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03280" y="2479680"/>
            <a:ext cx="9074160" cy="47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75F-D735-4FAA-A354-0C58D926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5304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CCDD-966E-437A-B35E-C6595F24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3280" y="4969800"/>
            <a:ext cx="90741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E5EB-B449-482A-8768-C901F8A8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90741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3280" y="4969800"/>
            <a:ext cx="90741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AA50-76EB-4425-944A-E1E76FCE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328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5304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4E52-D9FB-477E-901C-C55E82B0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71560" y="247968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9840" y="247968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3280" y="496980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71560" y="496980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9840" y="496980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6A07-B197-405E-9349-ED1AE6F6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D7A00-04DB-42E1-A737-AF3FB494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03280" y="2479680"/>
            <a:ext cx="9074160" cy="47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0044B-44FD-43A9-980B-2EC814A2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907416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0DF29D-22E7-4077-AA7B-9BCC7698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60472-6ABC-486C-BCE1-2A841EDE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6B343-9614-4DAD-B68C-1884D341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907416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7FFE-BC36-45B6-A78B-B96F857B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03280" y="1260360"/>
            <a:ext cx="907416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2AB50-674A-4B52-97BF-18358A3A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F86D3-AA97-4DDA-8F02-F7721B5F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5304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8F75B-4542-4B65-8070-BDB79CDD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3280" y="4969800"/>
            <a:ext cx="90741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17452-9A87-46C6-9CD3-E954C6CD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90741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3280" y="4969800"/>
            <a:ext cx="90741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5909B-37F3-457C-9C14-8FFE0A0A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328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5304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FC9A9-AFB2-4A4C-A566-D919524C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71560" y="247968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639840" y="247968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3280" y="496980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71560" y="496980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639840" y="496980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98C8E-EDB1-43B0-BB12-4D671906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CF95C-A6CE-4427-98AF-328B6AA83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3280" y="2479680"/>
            <a:ext cx="9074160" cy="47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2A7DB-95C3-435B-9DAD-F88C0768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907416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0056D-D8A8-4336-AA19-4627AD2E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460-6508-4A95-91D2-1AC3A627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61454-4BFA-4FAE-88CE-9F33013B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1D573-CDF0-4818-9660-AD431D26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3280" y="1260360"/>
            <a:ext cx="907416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1E8DB-F5A7-4CC6-8D93-85468E7E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328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A4797-D010-49E4-974C-6C7638C9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15304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91E71-35A5-4318-87B8-EA6DB641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3280" y="4969800"/>
            <a:ext cx="90741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F886-8671-454D-A336-AED6563E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90741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3280" y="4969800"/>
            <a:ext cx="90741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26E1A-C437-4A54-A24A-8B23E045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15304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235E1-A633-4395-9B49-7048D5ED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71560" y="247968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9840" y="247968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3280" y="496980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71560" y="496980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639840" y="496980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AE2EB-5667-4F53-AFCE-413A884C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9C331-8311-4C44-A8C3-A2EE0E78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E89-61BE-4AEB-9C36-84793B00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03280" y="2479680"/>
            <a:ext cx="9074160" cy="47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46A03-3DD2-4F26-A0F4-7ECC1C14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907416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1694A-BEEA-4FD5-87DA-99151E89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88ACA-201F-4081-8DD6-BDC2509A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9CB2F-81D6-41A0-9804-FD4A709E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503280" y="1260360"/>
            <a:ext cx="907416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E7E1F-4109-4DFB-9191-C332FCC3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A4200-FBD8-4420-BF52-FF98768C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15304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E6056-AB63-4CE4-A17A-E3DB2212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3280" y="4969800"/>
            <a:ext cx="90741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550D6-60F2-4CF8-9B08-FEC161E9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90741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3280" y="4969800"/>
            <a:ext cx="90741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1A70B-A8B3-4110-8532-505D64DC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0328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15304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29A80-8A01-4AFC-8F34-14757C3B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03280" y="1260360"/>
            <a:ext cx="907416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060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B05-5D7E-45FF-8319-C97445C1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71560" y="247968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639840" y="247968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03280" y="496980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571560" y="496980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639840" y="4969800"/>
            <a:ext cx="29217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EFDE0-1CE0-4DF4-9D86-C2ED37C3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9A4-3161-4099-8372-51FBE349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53040" y="496980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1A7-1CD7-4274-89E5-6C9448C1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3040" y="2479680"/>
            <a:ext cx="442800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3280" y="4969800"/>
            <a:ext cx="9074160" cy="22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28C-D62B-4FDB-85CE-C98A5521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404640"/>
            <a:ext cx="10080720" cy="9216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1760" bIns="417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10080720" cy="3430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39840"/>
            <a:ext cx="10080720" cy="1015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964120" y="396360"/>
            <a:ext cx="4116600" cy="1000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964120" y="485280"/>
            <a:ext cx="4116600" cy="19872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961240" y="547560"/>
            <a:ext cx="3376440" cy="32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21240" bIns="-212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8129520" y="649440"/>
            <a:ext cx="1763640" cy="3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14400" bIns="-14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10015560" y="-1440"/>
            <a:ext cx="63360" cy="684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970920" y="-1440"/>
            <a:ext cx="30240" cy="684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950400" y="-1440"/>
            <a:ext cx="9720" cy="684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9894960" y="-1440"/>
            <a:ext cx="30240" cy="684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9828360" y="0"/>
            <a:ext cx="61920" cy="6462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9782280" y="0"/>
            <a:ext cx="9360" cy="646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503280" y="2479680"/>
            <a:ext cx="907416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326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1" marL="725400" indent="-271440">
              <a:spcBef>
                <a:spcPts val="326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2" marL="1017720" indent="-241560">
              <a:spcBef>
                <a:spcPts val="326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1300320" indent="-220680">
              <a:spcBef>
                <a:spcPts val="326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4" marL="1531800" indent="-199800">
              <a:spcBef>
                <a:spcPts val="326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5" marL="1531800" indent="-199800">
              <a:spcBef>
                <a:spcPts val="326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6" marL="1531800" indent="-199800">
              <a:spcBef>
                <a:spcPts val="326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7260840" y="674640"/>
            <a:ext cx="105588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566EEB-0733-43CE-9C9C-3DA521BAFEF8}" type="datetime">
              <a:rPr b="0" lang="ru-RU" sz="900" spc="-1" strike="noStrike">
                <a:solidFill>
                  <a:srgbClr val="438086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795640" y="674640"/>
            <a:ext cx="14619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9011880" y="3240"/>
            <a:ext cx="8398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2DD5E6-DEF9-49FB-A663-D36CA319946C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964120" y="4200480"/>
            <a:ext cx="4116600" cy="1000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964120" y="4295880"/>
            <a:ext cx="4116600" cy="21096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964120" y="4535640"/>
            <a:ext cx="4116600" cy="1080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39600" bIns="-39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964120" y="4590360"/>
            <a:ext cx="21672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31320" bIns="-313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964120" y="4629240"/>
            <a:ext cx="21672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41040" bIns="-410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964120" y="4367160"/>
            <a:ext cx="3376800" cy="30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23040" bIns="-230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8132760" y="4476600"/>
            <a:ext cx="1763640" cy="39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14040" bIns="-140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4022640"/>
            <a:ext cx="10080720" cy="27000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4051440"/>
            <a:ext cx="10080720" cy="1555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7070760" y="4016520"/>
            <a:ext cx="3009960" cy="272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10080720" cy="4079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03280" y="2479680"/>
            <a:ext cx="907416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326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1" marL="725400" indent="-271440">
              <a:spcBef>
                <a:spcPts val="326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2" marL="1017720" indent="-241560">
              <a:spcBef>
                <a:spcPts val="326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1300320" indent="-220680">
              <a:spcBef>
                <a:spcPts val="326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4" marL="1531800" indent="-199800">
              <a:spcBef>
                <a:spcPts val="326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5" marL="1531800" indent="-199800">
              <a:spcBef>
                <a:spcPts val="326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6" marL="1531800" indent="-199800">
              <a:spcBef>
                <a:spcPts val="326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7392600" y="4637160"/>
            <a:ext cx="105732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3BBDEE-887C-45E4-A924-6AF25E4F61E8}" type="datetime">
              <a:rPr b="0" lang="ru-RU" sz="900" spc="-1" strike="noStrike">
                <a:solidFill>
                  <a:srgbClr val="438086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963760" y="4635360"/>
            <a:ext cx="14288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9172080" y="1440"/>
            <a:ext cx="82404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1F8D65-AC8D-4305-8348-9333D5455AA7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404640"/>
            <a:ext cx="10080720" cy="9216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1760" bIns="417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10080720" cy="3430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39840"/>
            <a:ext cx="10080720" cy="1015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964120" y="396360"/>
            <a:ext cx="4116600" cy="1000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964120" y="485280"/>
            <a:ext cx="4116600" cy="19872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961240" y="547560"/>
            <a:ext cx="3376440" cy="32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21240" bIns="-212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8129520" y="649440"/>
            <a:ext cx="1763640" cy="3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14400" bIns="-14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10015560" y="-1440"/>
            <a:ext cx="63360" cy="684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970920" y="-1440"/>
            <a:ext cx="30240" cy="684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950400" y="-1440"/>
            <a:ext cx="9720" cy="684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9894960" y="-1440"/>
            <a:ext cx="30240" cy="684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9828360" y="0"/>
            <a:ext cx="61920" cy="6462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9782280" y="0"/>
            <a:ext cx="9360" cy="646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03280" y="2479680"/>
            <a:ext cx="907416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326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1" marL="725400" indent="-271440">
              <a:spcBef>
                <a:spcPts val="326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2" marL="1017720" indent="-241560">
              <a:spcBef>
                <a:spcPts val="326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1300320" indent="-220680">
              <a:spcBef>
                <a:spcPts val="326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4" marL="1531800" indent="-199800">
              <a:spcBef>
                <a:spcPts val="326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5" marL="1531800" indent="-199800">
              <a:spcBef>
                <a:spcPts val="326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6" marL="1531800" indent="-199800">
              <a:spcBef>
                <a:spcPts val="326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7260840" y="674640"/>
            <a:ext cx="105588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C3B3C9-790B-4BAD-9B6B-729C4A94ED3B}" type="datetime">
              <a:rPr b="0" lang="ru-RU" sz="900" spc="-1" strike="noStrike">
                <a:solidFill>
                  <a:srgbClr val="438086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9011880" y="3240"/>
            <a:ext cx="8398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169D0B-120D-408A-8CC1-3BC32371CE8D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795640" y="674640"/>
            <a:ext cx="14619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404640"/>
            <a:ext cx="10080720" cy="9216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1760" bIns="417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10080720" cy="3430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39840"/>
            <a:ext cx="10080720" cy="1015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964120" y="396360"/>
            <a:ext cx="4116600" cy="1000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964120" y="485280"/>
            <a:ext cx="4116600" cy="19872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961240" y="547560"/>
            <a:ext cx="3376440" cy="32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21240" bIns="-212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8129520" y="649440"/>
            <a:ext cx="1763640" cy="3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14400" bIns="-14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10015560" y="-1440"/>
            <a:ext cx="63360" cy="684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970920" y="-1440"/>
            <a:ext cx="30240" cy="684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950400" y="-1440"/>
            <a:ext cx="9720" cy="684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9894960" y="-1440"/>
            <a:ext cx="30240" cy="684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9828360" y="0"/>
            <a:ext cx="61920" cy="6462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9782280" y="0"/>
            <a:ext cx="9360" cy="646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3280" y="2479680"/>
            <a:ext cx="907416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326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1" marL="725400" indent="-271440">
              <a:spcBef>
                <a:spcPts val="326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2" marL="1017720" indent="-241560">
              <a:spcBef>
                <a:spcPts val="326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1300320" indent="-220680">
              <a:spcBef>
                <a:spcPts val="326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4" marL="1531800" indent="-199800">
              <a:spcBef>
                <a:spcPts val="326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5" marL="1531800" indent="-199800">
              <a:spcBef>
                <a:spcPts val="326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6" marL="1531800" indent="-199800">
              <a:spcBef>
                <a:spcPts val="326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7257600" y="674640"/>
            <a:ext cx="105588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2EFA02-EECE-4C06-889B-6D50C00CCCAC}" type="datetime">
              <a:rPr b="0" lang="ru-RU" sz="900" spc="-1" strike="noStrike">
                <a:solidFill>
                  <a:srgbClr val="438086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795640" y="674640"/>
            <a:ext cx="146196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9011880" y="3240"/>
            <a:ext cx="8398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E97F20-0BB3-40B5-9DA0-C79B85651837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404640"/>
            <a:ext cx="10080720" cy="9216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1760" bIns="417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10080720" cy="3430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39840"/>
            <a:ext cx="10080720" cy="1015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964120" y="396360"/>
            <a:ext cx="4116600" cy="1000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49680" bIns="496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964120" y="485280"/>
            <a:ext cx="4116600" cy="19872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961240" y="547560"/>
            <a:ext cx="3376440" cy="32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21240" bIns="-212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8129520" y="649440"/>
            <a:ext cx="1763640" cy="3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-14400" bIns="-14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10015560" y="-1440"/>
            <a:ext cx="63360" cy="684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970920" y="-1440"/>
            <a:ext cx="30240" cy="684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950400" y="-1440"/>
            <a:ext cx="9720" cy="684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9894960" y="-1440"/>
            <a:ext cx="30240" cy="684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9828360" y="0"/>
            <a:ext cx="61920" cy="6462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9782280" y="0"/>
            <a:ext cx="9360" cy="646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1260360"/>
            <a:ext cx="9074160" cy="117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503280" y="2479680"/>
            <a:ext cx="9074160" cy="4767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326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1" marL="725400" indent="-271440">
              <a:spcBef>
                <a:spcPts val="326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2" marL="1017720" indent="-241560">
              <a:spcBef>
                <a:spcPts val="326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1300320" indent="-220680">
              <a:spcBef>
                <a:spcPts val="326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4" marL="1531800" indent="-199800">
              <a:spcBef>
                <a:spcPts val="326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5" marL="1531800" indent="-199800">
              <a:spcBef>
                <a:spcPts val="326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6" marL="1531800" indent="-199800">
              <a:spcBef>
                <a:spcPts val="326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4825A2-024E-4746-84EB-FA8FC9F3FAE9}" type="datetime">
              <a:rPr b="0" lang="ru-RU" sz="900" spc="-1" strike="noStrike">
                <a:solidFill>
                  <a:srgbClr val="438086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A4E5B7-6B4E-40BB-BBF5-90D78410CEC7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gabook.ru/article/&#1055;&#1088;&#1086;&#1084;&#1099;&#1096;&#1083;&#1077;&#1085;&#1085;&#1099;&#1081; &#1088;&#1086;&#1073;&#1086;&#1090;" TargetMode="External"/><Relationship Id="rId2" Type="http://schemas.openxmlformats.org/officeDocument/2006/relationships/hyperlink" Target="http://ru.wikipedia.org/wiki/&#1056;&#1086;&#1073;&#1086;&#1090;" TargetMode="External"/><Relationship Id="rId3" Type="http://schemas.openxmlformats.org/officeDocument/2006/relationships/hyperlink" Target="http://www.slideshare.net/igorod2/ss-39205128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Номер слайда 4"/>
          <p:cNvSpPr/>
          <p:nvPr/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4E2FCD-E47F-4B14-BCEF-7BA8EA8CE0D8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6400" y="2433600"/>
            <a:ext cx="9071280" cy="1974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Робот-сортировщик. V3.0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0" y="5206680"/>
            <a:ext cx="10080720" cy="156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eorgia"/>
              </a:rPr>
              <a:t>Молчанов Иван Романович, 6В класс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eorgia"/>
              </a:rPr>
              <a:t>Научный руководитель: Молчанова Марина Михайловна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716040" y="576360"/>
            <a:ext cx="907092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ниципальное общеобразовательное учреждени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Средняя общеобразовательная школа г. Светогорс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22"/>
          <p:cNvSpPr/>
          <p:nvPr/>
        </p:nvSpPr>
        <p:spPr>
          <a:xfrm>
            <a:off x="9012240" y="3240"/>
            <a:ext cx="839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180E62-2736-4C5D-9C7F-7EC83B78406D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779400"/>
            <a:ext cx="9072720" cy="1176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4456"/>
                </a:solidFill>
                <a:latin typeface="Trebuchet MS"/>
              </a:rPr>
              <a:t>Применение проекта: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2136240"/>
            <a:ext cx="9074160" cy="5110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Проект может иметь практическое применение на производствах, складах продукции, при сортировке багажа в аэропортах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4"/>
          <p:cNvSpPr/>
          <p:nvPr/>
        </p:nvSpPr>
        <p:spPr>
          <a:xfrm>
            <a:off x="9012240" y="3240"/>
            <a:ext cx="839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D3A550-7D49-4168-90CF-A265CDF5D8BF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1260000"/>
            <a:ext cx="9074160" cy="1179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4456"/>
                </a:solidFill>
                <a:latin typeface="Trebuchet MS"/>
              </a:rPr>
              <a:t>Спасибо за внимание!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22"/>
          <p:cNvSpPr/>
          <p:nvPr/>
        </p:nvSpPr>
        <p:spPr>
          <a:xfrm>
            <a:off x="9012240" y="3240"/>
            <a:ext cx="839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820F50-530F-45AD-9A6E-0065DFC5CDFB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707760"/>
            <a:ext cx="9072360" cy="117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4456"/>
                </a:solidFill>
                <a:latin typeface="Trebuchet MS"/>
              </a:rPr>
              <a:t>Источники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03280" y="1922400"/>
            <a:ext cx="9074160" cy="5324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326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Копосов Д.Г., Первый шаг в робототехнику. Практикум для 5–6 классов, Бином. Лаборатория знаний, Москва, 2013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401760" indent="-281160">
              <a:spcBef>
                <a:spcPts val="326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megabook.ru/article/Промышленный%20робот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401760" indent="-281160">
              <a:spcBef>
                <a:spcPts val="326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http://ru.wikipedia.org/wiki/Робот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401760" indent="-281160">
              <a:spcBef>
                <a:spcPts val="326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http://www.slideshare.net/igorod2/ss-39205128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401760" indent="-281160">
              <a:spcBef>
                <a:spcPts val="326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22"/>
          <p:cNvSpPr/>
          <p:nvPr/>
        </p:nvSpPr>
        <p:spPr>
          <a:xfrm>
            <a:off x="9012240" y="3240"/>
            <a:ext cx="839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179916-A132-459F-9773-81C4E68021B9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4456"/>
                </a:solidFill>
                <a:latin typeface="Trebuchet MS"/>
              </a:rPr>
              <a:t>Что такое робот?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1493640"/>
            <a:ext cx="10080720" cy="606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3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Термин «робот» придумал чешский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писатель-фантаст Карел Чапек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в 1920 году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401760" indent="-281160">
              <a:spcBef>
                <a:spcPts val="3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2" name="Рисунок 5" descr="чапек.jpg"/>
          <p:cNvPicPr/>
          <p:nvPr/>
        </p:nvPicPr>
        <p:blipFill>
          <a:blip r:embed="rId1"/>
          <a:stretch/>
        </p:blipFill>
        <p:spPr>
          <a:xfrm>
            <a:off x="7540560" y="922320"/>
            <a:ext cx="2181240" cy="291960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85820043.jpg"/>
          <p:cNvPicPr/>
          <p:nvPr/>
        </p:nvPicPr>
        <p:blipFill>
          <a:blip r:embed="rId2"/>
          <a:stretch/>
        </p:blipFill>
        <p:spPr>
          <a:xfrm>
            <a:off x="81000" y="3308400"/>
            <a:ext cx="2943360" cy="414324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2"/>
          <p:cNvSpPr/>
          <p:nvPr/>
        </p:nvSpPr>
        <p:spPr>
          <a:xfrm>
            <a:off x="3024360" y="3995640"/>
            <a:ext cx="7056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marL="401760" indent="-28116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  <a:ea typeface="Arial Unicode MS"/>
              </a:rPr>
              <a:t>Сейчас роботом называют автоматическое устройство для осуществления производственных и других операций по определённой программ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Номер слайда 22"/>
          <p:cNvSpPr/>
          <p:nvPr/>
        </p:nvSpPr>
        <p:spPr>
          <a:xfrm>
            <a:off x="9012240" y="3240"/>
            <a:ext cx="839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6EF524-2B3B-4DA1-813A-86FD1B34C6B9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4456"/>
                </a:solidFill>
                <a:latin typeface="Trebuchet MS"/>
              </a:rPr>
              <a:t>Промышленный робот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Промышленный робот – это программно-управляемое устройство, применяемое в производственных процессах для выполнения действий, аналогичных тем, какие выполняет человек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8" name="Рисунок 6" descr="images (1).jpg"/>
          <p:cNvPicPr/>
          <p:nvPr/>
        </p:nvPicPr>
        <p:blipFill>
          <a:blip r:embed="rId1"/>
          <a:stretch/>
        </p:blipFill>
        <p:spPr>
          <a:xfrm>
            <a:off x="2468520" y="4280040"/>
            <a:ext cx="3538440" cy="32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22"/>
          <p:cNvSpPr/>
          <p:nvPr/>
        </p:nvSpPr>
        <p:spPr>
          <a:xfrm>
            <a:off x="9012240" y="3240"/>
            <a:ext cx="839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6601C7-09E8-401A-A15F-5BE76083E6DF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3280" y="993600"/>
            <a:ext cx="9074160" cy="625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Проект «Робот-сортировщик» носит практический характер. Как известно, процессы сортировки и выбора – одни из важнейших автоматизированных процессов на производстве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1" name="Рисунок 3" descr="images (2).jpg"/>
          <p:cNvPicPr/>
          <p:nvPr/>
        </p:nvPicPr>
        <p:blipFill>
          <a:blip r:embed="rId1"/>
          <a:stretch/>
        </p:blipFill>
        <p:spPr>
          <a:xfrm>
            <a:off x="2486160" y="3494160"/>
            <a:ext cx="50544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22"/>
          <p:cNvSpPr/>
          <p:nvPr/>
        </p:nvSpPr>
        <p:spPr>
          <a:xfrm>
            <a:off x="9012240" y="3240"/>
            <a:ext cx="839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E6EA03-C727-4552-9727-5A4E0225883F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4456"/>
                </a:solidFill>
                <a:latin typeface="Trebuchet MS"/>
              </a:rPr>
              <a:t>Цель проект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 algn="just">
              <a:spcBef>
                <a:spcPts val="326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Создание и программирование робота, способного автономно обнаруживать блоки, определять их цвет и, в зависимости от установок, перемещать их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22"/>
          <p:cNvSpPr/>
          <p:nvPr/>
        </p:nvSpPr>
        <p:spPr>
          <a:xfrm>
            <a:off x="9012240" y="3240"/>
            <a:ext cx="839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33049E-B3D5-4729-AD17-50BE9AB74C70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2509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8880" bIns="5040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4456"/>
                </a:solidFill>
                <a:latin typeface="Trebuchet MS"/>
              </a:rPr>
              <a:t>Задачи: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12760" y="1242720"/>
            <a:ext cx="9655200" cy="5514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410040" indent="-307440" algn="just">
              <a:spcBef>
                <a:spcPts val="326"/>
              </a:spcBef>
              <a:buClr>
                <a:srgbClr val="a04da3"/>
              </a:buClr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Построить манёвренного робота, способного достаточно быстро перемещаться и осуществлять поворот на одном месте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410040" indent="-307440" algn="just">
              <a:spcBef>
                <a:spcPts val="326"/>
              </a:spcBef>
              <a:buClr>
                <a:srgbClr val="a04da3"/>
              </a:buClr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Разместить на роботе датчики расстояния таким образом, чтобы он мог «видеть» предмет; датчики цвета так, чтобы определять цвет блока и не покидать пределов поля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410040" indent="-307440" algn="just">
              <a:spcBef>
                <a:spcPts val="326"/>
              </a:spcBef>
              <a:buClr>
                <a:srgbClr val="a04da3"/>
              </a:buClr>
              <a:buFont typeface="Georgia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Запрограммировать робота на перемещение, обнаружение предметов, определение их цвета, выбор действия: вернуться назад или сдвинуть предмет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Номер слайда 22"/>
          <p:cNvSpPr/>
          <p:nvPr/>
        </p:nvSpPr>
        <p:spPr>
          <a:xfrm>
            <a:off x="9012240" y="3240"/>
            <a:ext cx="839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108115-C9F4-4291-8DFE-AD243745C2C9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02920" y="555120"/>
            <a:ext cx="9070920" cy="620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t">
            <a:normAutofit/>
          </a:bodyPr>
          <a:p>
            <a:pPr marL="343080" indent="-343080" algn="just">
              <a:spcBef>
                <a:spcPts val="326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ект выполнен на базе комплекта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ego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indstorms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v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3 и запрограммирован в среде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abVIEW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0" name="Рисунок 1" descr=""/>
          <p:cNvPicPr/>
          <p:nvPr/>
        </p:nvPicPr>
        <p:blipFill>
          <a:blip r:embed="rId1"/>
          <a:stretch/>
        </p:blipFill>
        <p:spPr>
          <a:xfrm>
            <a:off x="2496960" y="2050920"/>
            <a:ext cx="5080320" cy="50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22"/>
          <p:cNvSpPr/>
          <p:nvPr/>
        </p:nvSpPr>
        <p:spPr>
          <a:xfrm>
            <a:off x="9012240" y="3240"/>
            <a:ext cx="839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1A8FDA-637F-42A8-A685-2E645FD2640C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Рисунок 3" descr=""/>
          <p:cNvPicPr/>
          <p:nvPr/>
        </p:nvPicPr>
        <p:blipFill>
          <a:blip r:embed="rId1"/>
          <a:srcRect l="10577" t="5559" r="4000" b="10681"/>
          <a:stretch/>
        </p:blipFill>
        <p:spPr>
          <a:xfrm>
            <a:off x="825480" y="851040"/>
            <a:ext cx="8543880" cy="6286320"/>
          </a:xfrm>
          <a:prstGeom prst="rect">
            <a:avLst/>
          </a:prstGeom>
          <a:ln w="0">
            <a:noFill/>
          </a:ln>
        </p:spPr>
      </p:pic>
      <p:grpSp>
        <p:nvGrpSpPr>
          <p:cNvPr id="303" name="Group 3"/>
          <p:cNvGrpSpPr/>
          <p:nvPr/>
        </p:nvGrpSpPr>
        <p:grpSpPr>
          <a:xfrm>
            <a:off x="1246320" y="1351080"/>
            <a:ext cx="7794360" cy="4571640"/>
            <a:chOff x="1246320" y="1351080"/>
            <a:chExt cx="7794360" cy="4571640"/>
          </a:xfrm>
        </p:grpSpPr>
        <p:sp>
          <p:nvSpPr>
            <p:cNvPr id="304" name="AutoShape 4"/>
            <p:cNvSpPr/>
            <p:nvPr/>
          </p:nvSpPr>
          <p:spPr>
            <a:xfrm>
              <a:off x="2795760" y="1351080"/>
              <a:ext cx="582840" cy="367920"/>
            </a:xfrm>
            <a:prstGeom prst="wedgeRectCallout">
              <a:avLst>
                <a:gd name="adj1" fmla="val 68421"/>
                <a:gd name="adj2" fmla="val 1075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93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5"/>
            <p:cNvSpPr/>
            <p:nvPr/>
          </p:nvSpPr>
          <p:spPr>
            <a:xfrm>
              <a:off x="8457840" y="3713760"/>
              <a:ext cx="582840" cy="368280"/>
            </a:xfrm>
            <a:prstGeom prst="wedgeRectCallout">
              <a:avLst>
                <a:gd name="adj1" fmla="val -21050"/>
                <a:gd name="adj2" fmla="val 186666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93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6"/>
            <p:cNvSpPr/>
            <p:nvPr/>
          </p:nvSpPr>
          <p:spPr>
            <a:xfrm>
              <a:off x="2458440" y="3222720"/>
              <a:ext cx="582840" cy="368280"/>
            </a:xfrm>
            <a:prstGeom prst="wedgeRectCallout">
              <a:avLst>
                <a:gd name="adj1" fmla="val 13157"/>
                <a:gd name="adj2" fmla="val 161666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93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7"/>
            <p:cNvSpPr/>
            <p:nvPr/>
          </p:nvSpPr>
          <p:spPr>
            <a:xfrm>
              <a:off x="1246320" y="3591000"/>
              <a:ext cx="582840" cy="367920"/>
            </a:xfrm>
            <a:prstGeom prst="wedgeRectCallout">
              <a:avLst>
                <a:gd name="adj1" fmla="val 18421"/>
                <a:gd name="adj2" fmla="val 1575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93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8"/>
            <p:cNvSpPr/>
            <p:nvPr/>
          </p:nvSpPr>
          <p:spPr>
            <a:xfrm>
              <a:off x="4314960" y="5554800"/>
              <a:ext cx="582840" cy="367920"/>
            </a:xfrm>
            <a:prstGeom prst="wedgeRectCallout">
              <a:avLst>
                <a:gd name="adj1" fmla="val 76314"/>
                <a:gd name="adj2" fmla="val -184166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93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9"/>
            <p:cNvSpPr/>
            <p:nvPr/>
          </p:nvSpPr>
          <p:spPr>
            <a:xfrm>
              <a:off x="7230240" y="3713760"/>
              <a:ext cx="582840" cy="368280"/>
            </a:xfrm>
            <a:prstGeom prst="wedgeRectCallout">
              <a:avLst>
                <a:gd name="adj1" fmla="val -113157"/>
                <a:gd name="adj2" fmla="val 53333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93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22"/>
          <p:cNvSpPr/>
          <p:nvPr/>
        </p:nvSpPr>
        <p:spPr>
          <a:xfrm>
            <a:off x="9012240" y="3240"/>
            <a:ext cx="839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A6D872-AADF-48B6-B4FC-D86D4F9C658A}" type="slidenum">
              <a:rPr b="0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000" y="707760"/>
            <a:ext cx="9072360" cy="117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4456"/>
                </a:solidFill>
                <a:latin typeface="Trebuchet MS"/>
              </a:rPr>
              <a:t>Вывод: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25440" y="1922400"/>
            <a:ext cx="9429840" cy="5324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01760" indent="-2811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В ходе работы удалось собрать и запрограммировать робота, способного автономно двигаться по рабочему полю, определять нахождение предмета, приближаться к нему, определять цвет и сдвигать предмет, если его цвет удовлетворяет условию. Робот повторяет свои действия со многими предметами, пока не достигнет конца рабочего поля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6:21:12Z</dcterms:created>
  <dc:creator>Teacher-15</dc:creator>
  <dc:description/>
  <dc:language>en-US</dc:language>
  <cp:lastModifiedBy>Teacher-15</cp:lastModifiedBy>
  <cp:lastPrinted>2015-02-27T04:28:06Z</cp:lastPrinted>
  <dcterms:modified xsi:type="dcterms:W3CDTF">2015-02-27T04:31:10Z</dcterms:modified>
  <cp:revision>13</cp:revision>
  <dc:subject/>
  <dc:title>Робот-сортировщик. V3.0</dc:title>
</cp:coreProperties>
</file>