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159-9EEC-4739-98C1-8405B03A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9FF-8BC2-4FB1-9BB9-E4636D2D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180-04C9-41A1-901C-35BA9B1C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34B1-FED0-40E9-A119-08D67E99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15A-52A3-4390-B38C-D44EE1B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2F0-2991-439B-985D-A26B16F5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BC7-F98D-4C0F-97E8-F3BD664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72E-883D-4886-91E9-31BF4528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BE0-7B95-414C-93A1-20ACDD75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2E6-11FC-4941-8C35-BA00399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7E9-DBFC-42B3-A7E6-4BBDA64E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11C-F249-419F-9752-B88841B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5F2E6-97EA-42FF-B2A8-46B04A4846A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6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ме «Золотое сеч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цы 6«Б» класса, ГБОУ лицея №3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хман Эми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63640" y="6480000"/>
            <a:ext cx="8856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олотое сечение в пятиконечной з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71640" y="144360"/>
            <a:ext cx="633564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03280" y="301680"/>
            <a:ext cx="9069480" cy="64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знала историю возникновения золотого с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лучила знания, стала применять их на занятиях в художествен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явился интерес к истории возникновения различных разделов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287280"/>
            <a:ext cx="906948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изучить тему «Золотое сечение», исследовать на различных объектах золотую  пропорцию, узнать историю возникновения данного терми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3280" y="301680"/>
            <a:ext cx="906948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пропорция» (от латинского proportio) означает «соразмерность», «определённое  соотношение частей между собо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ым сечением и даже «божественной пропорцией» называли математики древности и Средневековья деление отрезка, при котором длина его большей части так относится к длине всего отрезка, как длина меньшей части к большей. Это отношение приближенно равно 0,61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⁮⁭≈5/8. Золотое сечение чаще всего применяется в произведениях искусства, в архитектуре, встречается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43640" y="2879640"/>
            <a:ext cx="3887640" cy="404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11280" y="2941560"/>
            <a:ext cx="35272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24000" y="-71280"/>
            <a:ext cx="7737480" cy="590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5680" y="5948280"/>
            <a:ext cx="95803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ав квадрат от прямоугольника, построенного по принципу золотого сечения, мы получаем новый, уменьшенный прямоугольник с тем же отношением сторон a/b=(a+b)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7080" y="104760"/>
            <a:ext cx="7630920" cy="5294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95640" y="6116760"/>
            <a:ext cx="4464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2876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порции пирамиды Хеоп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565128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егреческий храм Парфен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16000" y="158760"/>
            <a:ext cx="691200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6520" y="604800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олотое сечение Да Вин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48000" y="71280"/>
            <a:ext cx="540072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42880" y="4680000"/>
            <a:ext cx="442584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оложение семян подсолне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0360" y="352440"/>
            <a:ext cx="5543640" cy="310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88160" y="2808360"/>
            <a:ext cx="4408200" cy="438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9640" y="1152360"/>
            <a:ext cx="3560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950920" y="662436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заика Пенроу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87640" y="21600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8:43:09Z</dcterms:created>
  <dc:creator>Эмилия Лехман</dc:creator>
  <dc:description/>
  <dc:language>en-US</dc:language>
  <cp:lastModifiedBy/>
  <cp:revision>1</cp:revision>
  <dc:subject/>
  <dc:title/>
</cp:coreProperties>
</file>