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41040" y="755640"/>
            <a:ext cx="4971960" cy="37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32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9E0FD-7340-40B5-821D-B77A82F42C0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2F86B-C5B7-4A2D-A4AB-9006106B661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519B1-DD35-4DC3-93A1-B76E5CEF5D5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E7A24-12C1-4BA2-9BA6-76389EECC40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C0253-064C-4674-869C-29E692D46A2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E2823-959C-4664-A162-25C606333DE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8804A-3070-4011-9F78-CEE69951543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D60FD-3D36-4C3F-8626-1AFD37AA2E9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1B3D0-B4D2-44A6-8B17-492B0AB102E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5310D-0239-4C85-B461-801BA6AE9428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06E1-0132-43B3-8E49-6F797CD7B18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67382-A2AD-4811-9A0B-E6B9BA76874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8D1DB-DB92-4902-8484-E30C6E13356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3D75-FAEF-4657-9E70-A0EFE07143F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74F1-20B7-4798-AB53-43A4DE4E448E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647B-980D-442E-96AE-DA1C1D77B4B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263F4-7DAD-4416-A94D-9021D28234B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7170B-9160-4199-8902-1B82AAFB04A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C1DB8-7C2F-49D9-8889-36BCC4D370E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D6B3C-893B-4260-8251-22A566B3E90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C1973-3905-482E-9048-0CB279357FA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EFD2C-6952-4927-B5D6-824C00EAFDBD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73AF4-866E-4617-A316-1109C81165B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49C4C-E9D9-4E7C-B6D1-3C5826DE989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0B5CA-1E9A-462F-9B8D-28647743E2E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2E699-C313-4C0C-9BC8-3795CABC0E8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172DB-A849-45DD-A37C-FF00C9BD8A2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80AAB-AC5A-4824-8CFA-2286187B050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088B-3384-4D9B-9F8E-7E81BC69EA4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3882960" y="9448920"/>
            <a:ext cx="2973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5280"/>
                <a:tab algn="l" pos="1332000"/>
                <a:tab algn="l" pos="1998720"/>
                <a:tab algn="l" pos="26654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3F63D-7B21-4F12-B160-0003946C25A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1400" y="75564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CB9-E9FA-4773-BACC-D4492F18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584-B9A3-4920-890B-959B8E6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0BA-84C8-4D0C-B537-AFDF4D3D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4C6-E502-43F1-868B-169A743E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7FC2-2FB7-4C1C-9561-E7D845C3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9A5-512B-4B6B-99BA-2D064644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2E1-98D0-4128-A486-D37E952E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54C-6188-4D88-AD0C-C1E9C43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565-B84B-463F-9523-801232B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D92-CF8A-41A1-AEF0-61AB57B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006-2184-47B1-8095-895A8F7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2E0-A954-4F17-8B3F-3B79F98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60F2D-84BE-4175-932B-7BC88AE1A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C2B6-72EF-4B40-A0CD-BEBFC60609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аринные русские меры длин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39640" y="3321000"/>
            <a:ext cx="907092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агина Таисия, Чеперегина Анастасия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«А»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СОШ г. Светогорс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ный руководитель: Молчанова М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C5A9A-25C2-4AD4-A5BB-123F7518C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Локоть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дит от названия части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7417A-27BD-47C2-95F6-A25D814125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рши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4356360" cy="3319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400720" y="175752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всей руки от плеча до кончика среднего паль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1079640" y="3600360"/>
            <a:ext cx="2700360" cy="181080"/>
          </a:xfrm>
          <a:custGeom>
            <a:avLst/>
            <a:gdLst/>
            <a:ahLst/>
            <a:rect l="l" t="t" r="r" b="b"/>
            <a:pathLst>
              <a:path w="7501" h="501">
                <a:moveTo>
                  <a:pt x="0" y="0"/>
                </a:moveTo>
                <a:lnTo>
                  <a:pt x="7500" y="500"/>
                </a:lnTo>
              </a:path>
            </a:pathLst>
          </a:custGeom>
          <a:noFill/>
          <a:ln w="36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259D1-74D8-4458-BC60-10065F483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Аршин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было заимствовано у татар, в чьем языке означает локоть как меру д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8E134-7DAD-46DC-8684-686E864AD7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аховая сажень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53080" y="180036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ялась размаху рук человека, от кончиков пальцев одной руки до кончиков пальцев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 7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5327640" cy="3265200"/>
          </a:xfrm>
          <a:prstGeom prst="rect">
            <a:avLst/>
          </a:prstGeom>
          <a:ln w="0">
            <a:noFill/>
          </a:ln>
        </p:spPr>
      </p:pic>
      <p:sp>
        <p:nvSpPr>
          <p:cNvPr id="98" name="Freeform 4"/>
          <p:cNvSpPr/>
          <p:nvPr/>
        </p:nvSpPr>
        <p:spPr>
          <a:xfrm>
            <a:off x="360360" y="3419640"/>
            <a:ext cx="5040360" cy="1440"/>
          </a:xfrm>
          <a:custGeom>
            <a:avLst/>
            <a:gdLst>
              <a:gd name="textAreaLeft" fmla="*/ 0 w 5040360"/>
              <a:gd name="textAreaRight" fmla="*/ 5040360 w 5040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4001" h="1">
                <a:moveTo>
                  <a:pt x="0" y="0"/>
                </a:moveTo>
                <a:lnTo>
                  <a:pt x="14000" y="0"/>
                </a:lnTo>
              </a:path>
            </a:pathLst>
          </a:custGeom>
          <a:noFill/>
          <a:ln w="36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D28F3-AE0A-4ABF-9A36-BF14E713C4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7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ая сажень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19640" y="1835280"/>
            <a:ext cx="4425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от носка левой ноги до конца среднего пальца поднятой вверх правой ру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м 4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-52560" y="2573280"/>
            <a:ext cx="10214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39640" y="1692360"/>
            <a:ext cx="3959280" cy="586728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5"/>
          <p:cNvSpPr/>
          <p:nvPr/>
        </p:nvSpPr>
        <p:spPr>
          <a:xfrm>
            <a:off x="968400" y="1851120"/>
            <a:ext cx="2786040" cy="542916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5429160"/>
              <a:gd name="textAreaBottom" fmla="*/ 5429520 h 5429160"/>
            </a:gdLst>
            <a:ahLst/>
            <a:rect l="textAreaLeft" t="textAreaTop" r="textAreaRight" b="textAreaBottom"/>
            <a:pathLst>
              <a:path w="8001" h="15501">
                <a:moveTo>
                  <a:pt x="8000" y="0"/>
                </a:moveTo>
                <a:lnTo>
                  <a:pt x="0" y="15500"/>
                </a:lnTo>
              </a:path>
            </a:pathLst>
          </a:custGeom>
          <a:noFill/>
          <a:ln w="36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7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жень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6920" y="1768320"/>
            <a:ext cx="9285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змерении земли, в строительстве использовали усреднённое значение сажени, равное 213,36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BAD5-0824-4E04-841F-7F81CBB641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19CC-44A0-4D58-BE6C-413BFD3124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972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Сажень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18000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«сажень» происходит от глагола «сягать» (доставать до чего-либо, хватать, достига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1D630-5F8F-4369-A18D-6D91A8D561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рс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95120" y="1389240"/>
            <a:ext cx="4303800" cy="5991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ста измеряется в саженях. В одной версте 500 саж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66 м 8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79640" y="7920000"/>
            <a:ext cx="7508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41276-A541-4F55-AF9E-1FD8FEA111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Верста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лова вертеть. Первоначально – расстояние от одного поворота плуга до другого во время пах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61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и поговорки о старинных русских мерах длин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02E8D-5E82-4127-9C39-488ED5FAB1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оявились названия старинных мер дл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ъяснить пословицы о старинных мерах дл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яснить, почему в наше время люди не используют старинные меры д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8A860-BF69-467F-9A94-6CE4D0113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о перст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, как пер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, не имеющий ни родных, ни близких, ни друз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указывай на людей перстом! Не указали бы тебя шест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удешь кого-то обвинять (показывать на него пальцем), то тебя могут обвинить в чем-то значительно худшем и сделать это в еще более грубой манер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70494-36F4-46B6-9157-A6426D7B68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о вершк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горшка два вершка, а уже указ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лодой человек, не имеющий жизненного опыта, но самонадеянно поучающий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ее суббота через пятницу на два вершка вылез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м сейчас известна изменённая: Из-под пятницы суб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еаккуратной женщине, у которой нижняя рубашка длиннее ю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B86B0-DB37-47AC-9581-93F6B0F064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о пяд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уступить ни п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дать даже самой малости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ядей во лб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очень умно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F3437-EC2C-4E66-BA63-C831D2E0A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о локт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 с ноготок, а борода с лок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еловеке незавидной внешности, но пользующемся авторитетом благодаря своему уму, социальному положению или жизненному опы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360" y="3462480"/>
            <a:ext cx="10114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F3E59-149A-410A-AF2A-D9E92C9FEF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ы об аршине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800360"/>
            <a:ext cx="90709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купец на свой аршин меря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судит о любом деле односторонне, исходя из собственных интересов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ит (ходит), словно аршин проглот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человеке с неестественно прямой спиной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1771-B50F-4F53-86EA-A68B131AE4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овица о косой сажен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ая сажень в пле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говорят об очень большом и могуче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3C4B-1541-413C-A520-73A3D9634C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-360"/>
            <a:ext cx="90709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ше исследование. Почему сейчас не используются старинные русские меры длин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834920"/>
            <a:ext cx="907092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таринные русские меры длины не используются в современном мире, потому что у разных людей будут получаться разные значения м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одтвердить нашу гипотезу, мы дали одноклассникам задание: измерить себя и своих взрослых родственников, данные занести в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2267F-0301-431B-9573-5DC6CE9AEF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68360" y="0"/>
            <a:ext cx="9070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езультат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20" y="790560"/>
          <a:ext cx="10082160" cy="6723000"/>
        </p:xfrm>
        <a:graphic>
          <a:graphicData uri="http://schemas.openxmlformats.org/drawingml/2006/table">
            <a:tbl>
              <a:tblPr/>
              <a:tblGrid>
                <a:gridCol w="2305080"/>
                <a:gridCol w="1787760"/>
                <a:gridCol w="2100240"/>
                <a:gridCol w="2063520"/>
                <a:gridCol w="1825560"/>
              </a:tblGrid>
              <a:tr h="147636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един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значение,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ьшее значение,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большее значение,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d6e5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-принятое значение,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fd6e5"/>
                    </a:solidFill>
                  </a:tcPr>
                </a:tc>
              </a:tr>
              <a:tr h="617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17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ш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17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17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1776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о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46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17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ш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7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113040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ховая саж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17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285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ая саж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ffd320"/>
                          </a:solidFill>
                          <a:latin typeface="Arial"/>
                        </a:rPr>
                        <a:t>24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B308-7E1B-479E-99ED-58BFEC753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йчас не используют старинные меры длины, так как у всех размеры разные, и точную длину выяснить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AEB9A-8581-44D7-B49B-C84793E0D5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у выполняли:  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13080" y="1608120"/>
            <a:ext cx="37069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перег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ста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rcRect l="0" t="0" r="21871" b="0"/>
          <a:stretch/>
        </p:blipFill>
        <p:spPr>
          <a:xfrm>
            <a:off x="179280" y="1440000"/>
            <a:ext cx="553896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54159-08C6-43D4-88EF-6820BAA69E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ерс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равен ширине указательного паль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825480" y="22082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58" name="Freeform 4"/>
          <p:cNvSpPr/>
          <p:nvPr/>
        </p:nvSpPr>
        <p:spPr>
          <a:xfrm>
            <a:off x="2540160" y="4851360"/>
            <a:ext cx="720720" cy="1800"/>
          </a:xfrm>
          <a:custGeom>
            <a:avLst/>
            <a:gdLst>
              <a:gd name="textAreaLeft" fmla="*/ 0 w 720720"/>
              <a:gd name="textAreaRight" fmla="*/ 721080 w 720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001" h="1">
                <a:moveTo>
                  <a:pt x="0" y="0"/>
                </a:moveTo>
                <a:lnTo>
                  <a:pt x="2000" y="0"/>
                </a:lnTo>
              </a:path>
            </a:pathLst>
          </a:custGeom>
          <a:noFill/>
          <a:ln w="72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4EAD1-5424-49C9-AD88-BDAE325CB5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у выполняли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40000" y="1767960"/>
            <a:ext cx="36385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чагина  Таи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540072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85924-BFB4-4B7E-9D1C-6FC1FA598B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ленкин Н.Я. и др., Математика. 5 класс : учеб. для общеобразоват. Учреждений, Мнемозина, Москва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ru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ru.wiktionary.org/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mer.kakra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enc-dic.com/krylov/Pjad-1819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krylov.academic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ordweb.ru/en_ru_byt/03_03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ic.academic.ru/dic.nsf/mera/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400" indent="-300960">
              <a:lnSpc>
                <a:spcPct val="100000"/>
              </a:lnSpc>
              <a:spcAft>
                <a:spcPts val="601"/>
              </a:spcAft>
              <a:buClr>
                <a:srgbClr val="ff6309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maxcom.pp.ru/bike/2006/05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771FE-653B-48D0-8EB8-04973811E5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Перст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993680"/>
            <a:ext cx="907092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ревшее: палец на ру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70817-BA6A-4881-8526-670817427D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ршо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46000" y="176832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3440" y="1800360"/>
            <a:ext cx="4426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начально равнялся длине двух фаланг указательного паль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,4 с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3060720" y="3419640"/>
            <a:ext cx="1440" cy="2520720"/>
          </a:xfrm>
          <a:custGeom>
            <a:avLst/>
            <a:gdLst>
              <a:gd name="textAreaLeft" fmla="*/ 0 w 1440"/>
              <a:gd name="textAreaRight" fmla="*/ 1800 w 144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1" h="7001">
                <a:moveTo>
                  <a:pt x="0" y="0"/>
                </a:moveTo>
                <a:lnTo>
                  <a:pt x="0" y="7000"/>
                </a:lnTo>
              </a:path>
            </a:pathLst>
          </a:custGeom>
          <a:noFill/>
          <a:ln w="108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D2F16-A722-45A0-AF4D-A18FAF580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Вершок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лось с помощью суффикса «ок» от слова «вер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CCC6C-B19A-4989-A939-99BA803050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ядь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33440" y="1800360"/>
            <a:ext cx="4425840" cy="3319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54560" y="1779120"/>
            <a:ext cx="442584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начально равнялась расстоянию между концами растянутых пальцев руки — большого и указа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,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4"/>
          <p:cNvSpPr/>
          <p:nvPr/>
        </p:nvSpPr>
        <p:spPr>
          <a:xfrm>
            <a:off x="900000" y="2700360"/>
            <a:ext cx="2880000" cy="36036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001" h="1001">
                <a:moveTo>
                  <a:pt x="0" y="1000"/>
                </a:moveTo>
                <a:lnTo>
                  <a:pt x="8000" y="0"/>
                </a:lnTo>
              </a:path>
            </a:pathLst>
          </a:custGeom>
          <a:noFill/>
          <a:ln w="72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8DDF5-70DE-4C8F-99DC-8A4AA401F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исхождение слова «Пядь»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280" y="1760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о от древнерусского слова «пясть», что означает «кисть ру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5A2D-4657-4C0E-ABAB-60D1872A05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окоть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900000" y="16700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но соответствует расстоянию от локтевого сустава до конца вытянутого среднего пальца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6,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"/>
          <p:cNvSpPr/>
          <p:nvPr/>
        </p:nvSpPr>
        <p:spPr>
          <a:xfrm>
            <a:off x="2519280" y="2879640"/>
            <a:ext cx="360360" cy="3060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060720"/>
              <a:gd name="textAreaBottom" fmla="*/ 3061080 h 3060720"/>
            </a:gdLst>
            <a:ahLst/>
            <a:rect l="textAreaLeft" t="textAreaTop" r="textAreaRight" b="textAreaBottom"/>
            <a:pathLst>
              <a:path w="1001" h="8501">
                <a:moveTo>
                  <a:pt x="1000" y="0"/>
                </a:moveTo>
                <a:lnTo>
                  <a:pt x="0" y="8500"/>
                </a:lnTo>
              </a:path>
            </a:pathLst>
          </a:custGeom>
          <a:noFill/>
          <a:ln w="36000">
            <a:solidFill>
              <a:srgbClr val="ff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0:03:21Z</dcterms:created>
  <dc:creator>klass15-comp5 </dc:creator>
  <dc:description/>
  <dc:language>en-US</dc:language>
  <cp:lastModifiedBy>Teacher-15</cp:lastModifiedBy>
  <cp:lastPrinted>2015-02-25T11:21:40Z</cp:lastPrinted>
  <dcterms:modified xsi:type="dcterms:W3CDTF">2015-02-25T12:41:12Z</dcterms:modified>
  <cp:revision>62</cp:revision>
  <dc:subject/>
  <dc:title>Старинные русские меры длины</dc:title>
</cp:coreProperties>
</file>