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click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8429-1C5F-4C5A-964C-1733F6DB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ED9C-F49E-4043-BBEF-D4DF7DFF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6F92-51B7-47E6-8594-42BBF6D8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0ED1-0468-4D3C-ADC1-35235DF8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FC72-D946-4E21-A082-3A2B21F7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B6D5-D974-4F79-B49E-9C170987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A1CC-7535-49F5-AA5E-915E1655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1EAF-885D-459D-BE9A-D81E36C6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0A08-B119-416E-8AFE-F47C68E1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DF2C-DE67-49F0-8089-F6B1FFE4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9410-F5B3-47E0-BDC5-4540463E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2D57-9E4C-4C18-B1D7-29A3A28B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9BC7-83EC-4966-A433-60DAC8E1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60C2-3A88-47C6-9C65-250D4C00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5C73-0B49-4BE7-8001-21FFA780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56DC-05E1-44EE-9B07-5A2C206D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B95C-39AC-4460-A350-F8E8586F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2B581-CEE2-408B-820E-83EFE16B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F2178-9168-4AD0-B2BF-5D163D42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F1CCE-0F15-4EC8-84B9-1BEC0D2E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378F4-AD78-4573-9AB1-A9071E09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7AAE0-3F47-4B88-9833-38CA01F8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627CD-A83A-4080-BE06-B55E9350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29F2F-058B-4313-9051-A63472D5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C0EC-49D5-4F53-B9F9-88740E33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98FBC-BD09-4D43-9A47-17B2CBA7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AB80F-C8F9-4062-8EE9-14394217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3603C-B061-4DC3-9AC9-58A19C54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55424-67F3-427E-B5D6-5126DC53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1904-7EF5-4372-81A6-EFAC4725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7F42D-6ECB-4B8A-898F-76E50375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23E48-FCAE-4F62-B92F-0F857F0C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DEAA1-185F-4473-82A7-8D897DA1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6C72F-D66E-4BBD-B736-A4BDE7BD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C570B-F7AD-4096-98CF-D02A1F76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9CA5C-77FE-4790-8710-4C1624E9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780DE-02E1-444B-B6BD-4A10F20B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57A30-494D-495A-893A-E741BA0A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FDCC2-4129-4F71-8D01-D88EA060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AAA20-227B-4D6E-9A2C-5AB46B1C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99957-2EF2-4DF7-A9F9-27F0FE77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6809F-6227-4CBC-9421-F7933104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2F176-5EA2-4708-8F16-D79428D7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040BB-3AA3-4B36-A1D0-5CCD39F7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443AC-2D1F-4D53-B0BD-4093BFAC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5728D-430B-4BC1-AD1D-1B6469F2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4D3CF-4FB5-4DC1-8346-83F60D05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AA2B4-158F-4486-8F3F-96D10108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8C32C-3CC0-4F1D-9F23-C0A5C1C9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11A94-AC0E-428F-B473-916FC4DD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4FCCD-0565-432D-B220-03B420AC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ADEB5-BE9A-46FA-ABB1-BD75913B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46CB3-E107-43B0-94A3-7B9247DC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44A5E-46E4-4C1B-99CD-AC26E42C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7CF9A-0E55-4C85-B6CF-E2F6B971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2E6FF-E3F2-41A5-9B9C-D91C01F9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8492F-01EF-4CDA-931E-054DE343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DF961-50E6-4C85-9A74-0D292F7B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A1778-D56C-4F6F-B5E2-3AFDB3C6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D7212-3520-4585-B1CB-39EE0013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E39E8-6A45-49B0-891A-F199821B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79831-40D0-4C2A-95F7-56F1209B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670F9-02E5-4C91-868A-34CF6588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EA786-36AB-480B-B199-9745CA84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16C2B-1B8B-410B-9887-B2E98522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6EA6B-738F-4E95-B81A-AABDCB60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557A-BEAF-4BB5-B28F-B0FBD4A9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5107A-807C-4A74-91AE-7C0E91E0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A1FA6-21DA-42CF-A52D-1D3B3DE8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B0C0B-A1AE-43F0-8FFC-D60D1480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F89F-D883-456F-B377-8FC88521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44722-7E81-4382-9F3E-36392505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564E-E2D7-4E07-9F5F-FBF6A32F05D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A7F9-A972-44DA-BC4E-F32F2A7EEB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652E-BDB2-4340-B939-9CA01B58D3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F0B0-4E84-4978-AD8C-1556FA1610B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6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1DDA-AEDA-47B5-826C-520BA20BF0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9D7C-70D3-443E-B534-8CCE0514A3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ahoma"/>
              </a:rPr>
              <a:t>Старинные Меры Измерения </a:t>
            </a: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в</a:t>
            </a:r>
            <a:r>
              <a:rPr b="1" i="1" lang="ru-RU" sz="4400" spc="-1" strike="noStrike">
                <a:solidFill>
                  <a:srgbClr val="ffffcc"/>
                </a:solidFill>
                <a:latin typeface="Tahoma"/>
              </a:rPr>
              <a:t> Русских Пословицах и Поговорка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eec94"/>
                </a:solidFill>
                <a:uFillTx/>
                <a:latin typeface="Times New Roman"/>
              </a:rPr>
              <a:t>Заключ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егодня старинные русские меры для нас – метафоры, накрепко вросшие в язык и потому не исчезнувшие с изменением метрической системы. Знать исконный смысл этих метафор – значит постичь частицу истории нашей страны, углубить свою патриотическую память. Но ничто на земле не проходит бесследно. Появились новые меры веса и длины с новыми названиями. Но остались старые  в крупицах народной мудрости: пословицах и поговорках, и по-прежнему уважаемы люди «семи пядей» (умные), «косая сажень в плечах», (сильные), «верста коломенская» (высокие), потому что мы – частица нашей великой России, и надо помнить язык наших дедов и прадедов, беречь его и украшать, а не уродова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click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cc"/>
                </a:solidFill>
                <a:latin typeface="Tahoma"/>
              </a:rPr>
              <a:t>Спасибо за внимание!!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dbbd71"/>
                </a:solidFill>
                <a:uFillTx/>
                <a:latin typeface="Arial"/>
              </a:rPr>
              <a:t>Коломенская верс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Коломенская верст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«верзила» - шутливое название очень высокого челове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куда пошло это выражение??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Коломенская верст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берёт своё начало со времён царя Алексея Михайловича, царствовавшего с 1545 по 1576 год. Он повелел расставить вдоль дороги, ведшей от Калужской заставы Москвы до летнего дворца в селе Коломенском, столбы  на расстоянии 700 саженей друг от друга. Высота каждого из них была равна приблизительно двум саженям (4метра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8" descr="Верста коломенская"/>
          <p:cNvPicPr/>
          <p:nvPr/>
        </p:nvPicPr>
        <p:blipFill>
          <a:blip r:embed="rId1"/>
          <a:stretch/>
        </p:blipFill>
        <p:spPr>
          <a:xfrm>
            <a:off x="5219640" y="1989000"/>
            <a:ext cx="302436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dbbd71"/>
                </a:solidFill>
                <a:uFillTx/>
                <a:latin typeface="Arial"/>
              </a:rPr>
              <a:t>Аршин проглоти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ршин проглотил</a:t>
            </a:r>
            <a:r>
              <a:rPr b="1" i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 -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держаться неестественно прям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куда пошло это выражение??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исхождение. Турецкое слово «аршин», означающее меру длины в один локоть, давно уже стало русским. До самой революции русские купцы и мастеровые постоянно пользовались аршинами - деревянными и металлическими линейками длиной в семьдесят один сантиметр. Представьте себе, как должен выглядеть человек, проглотивший такую линейку, и вы поймете, почему это выражение применяется по отношению к чопорным и надменным людя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Picture 8" descr="Аршин проглотить"/>
          <p:cNvPicPr/>
          <p:nvPr/>
        </p:nvPicPr>
        <p:blipFill>
          <a:blip r:embed="rId1"/>
          <a:stretch/>
        </p:blipFill>
        <p:spPr>
          <a:xfrm>
            <a:off x="4859280" y="1700280"/>
            <a:ext cx="338472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lick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dbbd71"/>
                </a:solidFill>
                <a:uFillTx/>
                <a:latin typeface="Arial"/>
              </a:rPr>
              <a:t>У него косая сажень в плечах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 русских богатырях говорили: «У него косая сажень в плечах» - так говорят о сильном и могучем человек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куда пошло это выражение??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исхождение: "сажень" - расстояние между концами пальцев широко расставленных рук взрослого мужчины. "Косая сажень" - самая длинная: от подошвы ноги до конца пальцев вытянутой вверх противоположной руки. Именно поэтому сказать про человека "у него косая сажень в плечах" - то же самое, что назвать его богатырем, великан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468360" y="15858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Picture 10" descr="5151a44dd373f5e405a1bc68e20e595f"/>
          <p:cNvPicPr/>
          <p:nvPr/>
        </p:nvPicPr>
        <p:blipFill>
          <a:blip r:embed="rId1"/>
          <a:stretch/>
        </p:blipFill>
        <p:spPr>
          <a:xfrm>
            <a:off x="4451400" y="1628640"/>
            <a:ext cx="4692600" cy="4635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click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dbbd71"/>
                </a:solidFill>
                <a:uFillTx/>
                <a:latin typeface="Arial"/>
              </a:rPr>
              <a:t>Близок локоть да не укусиш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Близок локоть да не укусишь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ворится о чем-либо с виду доступном или легко осуществимом, но на самом деле недостижимом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куда пошло это выражение?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чного происхождения не существует…Ну или я не знаю =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Picture 10" descr="Близок локоть, да не укусишь"/>
          <p:cNvPicPr/>
          <p:nvPr/>
        </p:nvPicPr>
        <p:blipFill>
          <a:blip r:embed="rId1"/>
          <a:stretch/>
        </p:blipFill>
        <p:spPr>
          <a:xfrm>
            <a:off x="4643280" y="1773360"/>
            <a:ext cx="4040280" cy="403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lick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dbbd71"/>
                </a:solidFill>
                <a:uFillTx/>
                <a:latin typeface="Arial"/>
              </a:rPr>
              <a:t>Семь пядей во лб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«Семь пядей во лбу» - об очень умном человек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к возникло это выражение??? 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читалось, что высота лба у такого человека пропорциональна уму. По мнению некоторых ученых-лингвистов, в основе этого выражения лежат представления о том, что ум человека определяется высотой его лба. Очевидно, что эта пословица не что иное, как гипербола. Ибо что такое пядь, которых у умника во лбу аж целых семь? Пядь - старинная мера длины, в пяди было около 18 сантиметров. Представить себе человека, имеющего лоб высотой около полутора метров, вряд ли возможн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Picture 11" descr="Самостоятельная работа - Обогащение речи младших школьников русской фразеологией Учебно-методическое пособие"/>
          <p:cNvPicPr/>
          <p:nvPr/>
        </p:nvPicPr>
        <p:blipFill>
          <a:blip r:embed="rId1"/>
          <a:stretch/>
        </p:blipFill>
        <p:spPr>
          <a:xfrm>
            <a:off x="4716360" y="1628640"/>
            <a:ext cx="388944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2" name="click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Человека узнаешь, когда с ним пуд соли съешь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ка узнаешь, когда с ним пуд соли съешь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 же это обозначает??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означает: что человека, а особенно друга узнавать очень долго и тяжело.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уд сол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—  это шестнадцать килограммов ее. Подумайте, сколько времени должно пройти, прежде чем вы с кем-либо «на пару» успеете съесть шестнадцать килограммов сол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Picture 10" descr="Съесть пуд соли"/>
          <p:cNvPicPr/>
          <p:nvPr/>
        </p:nvPicPr>
        <p:blipFill>
          <a:blip r:embed="rId1"/>
          <a:stretch/>
        </p:blipFill>
        <p:spPr>
          <a:xfrm>
            <a:off x="4427640" y="1628640"/>
            <a:ext cx="424800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click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dbbd71"/>
                </a:solidFill>
                <a:uFillTx/>
                <a:latin typeface="Arial"/>
              </a:rPr>
              <a:t>Это тебе не фунт изюм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то тебе не фунт изюму» - шутливое выражение о каком – нибудь непростом дел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куда пошло это выражение??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гда известный русский булочник Филлипов придумал булки с изюмом, они сей же миг стали пользоваться невероятной популярностью. А между тем в средней полосе России виноград не растёт, поэтому весь изюм был привозным и стоил в те времена  дорого. Оттого покупалась винная ягода фунтами. Потому и вознёсся изюм в крылатые слова, так как его присутствие в доме было редк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Picture 11" descr="Gallery.ru / Фото #15 - Продавцы и покупатели - 2 - Olgica"/>
          <p:cNvPicPr/>
          <p:nvPr/>
        </p:nvPicPr>
        <p:blipFill>
          <a:blip r:embed="rId1"/>
          <a:stretch/>
        </p:blipFill>
        <p:spPr>
          <a:xfrm>
            <a:off x="4427640" y="1341360"/>
            <a:ext cx="4500360" cy="5283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click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Мал золотник, да дорог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 золотник, да дорог - о чем-нибудь незначительном на вид, но очень ценном. Золотник — старая русская мера веса, равная 4,26 грам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возникло это выражение??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олотник был самой малой мерой веса и употреблялся он, главным образом, при взвешивании золота и серебра, а так как серебро и золото считалось ценным, то и такая малая  как 5 граммов считалось ценностью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Picture 8" descr="50150_2"/>
          <p:cNvPicPr/>
          <p:nvPr/>
        </p:nvPicPr>
        <p:blipFill>
          <a:blip r:embed="rId1"/>
          <a:stretch/>
        </p:blipFill>
        <p:spPr>
          <a:xfrm>
            <a:off x="5219640" y="1700280"/>
            <a:ext cx="2857680" cy="3990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2" name="click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3T15:07:02Z</dcterms:created>
  <dc:creator>Админ</dc:creator>
  <dc:description/>
  <dc:language>en-US</dc:language>
  <cp:lastModifiedBy>CHOI</cp:lastModifiedBy>
  <dcterms:modified xsi:type="dcterms:W3CDTF">2015-02-27T09:35:49Z</dcterms:modified>
  <cp:revision>6</cp:revision>
  <dc:subject/>
  <dc:title>Старинные Меры Измерения В Русских Пословицах и Поговорках</dc:title>
</cp:coreProperties>
</file>