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AA76-DBA0-4625-96A6-BD942CD3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A34E-D130-4597-BAFC-6801F79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3244-72F3-4C9A-A3C7-C5458F38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0C7E-A21D-4040-8274-68E8C96F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190-7ED5-4666-8A66-43CBAF27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59F4-44C3-48FE-A7C3-6450E69C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FDE-F647-4FCC-B3D6-A818F732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D87-F5E3-4CA6-8EA2-707B9519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B263-F7A0-40F9-B29E-F958F171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023-5E72-448C-A02B-A19D2874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C442-CF4A-403F-B573-4862AFD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9192-D621-458A-AD49-D25A8D42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E12-BC5B-4A49-93FE-525D69A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4713-FF8A-4BD3-8AAE-BA411D7B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5CCA-5968-46B1-B56B-7E316C75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DB08-F8A1-451A-93B1-DEE31275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FCD1-A364-4958-9FDA-E4E27E8D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5618-D7F8-4468-8065-F8D0825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EB86-6E35-4476-8553-5545BA8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EFF9-3F74-4A99-A609-12B6E60A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33E8-FE58-465C-B1FC-A3CDC5E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A1A9-DB06-4E41-BA10-1F122A5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CB63-7EFD-46CC-A326-7D2CA4B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4860F-9204-4991-B28F-9FE67288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64E8E6-EDD3-428F-8C3D-BC2F09346C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prstGeom prst="pie">
                <a:avLst/>
              </a:pr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prstGeom prst="pie">
                <a:avLst/>
              </a:pr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prstGeom prst="pie">
              <a:avLst/>
            </a:pr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prstGeom prst="pie">
                <a:avLst/>
              </a:pr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prstGeom prst="pie">
                <a:avLst/>
              </a:pr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prstGeom prst="pie">
                <a:avLst/>
              </a:pr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prstGeom prst="pie">
              <a:avLst/>
            </a:pr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C648CB-C4A0-4013-B6E4-09649767CE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380880" y="49528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униципальное Бюджетное Общеобразовательное Учреждение «Средняя Общеобразовательная Школа  № 8 города Выборг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01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" y="8380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Число е и его применение.</a:t>
            </a:r>
            <a:br>
              <a:rPr sz="40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Автор: Скринникова Н. 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оведение опыт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боры и материалы: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з массой 100 г., несколько предметов с разными диаметрами окружностей (4), шерстяная веревка 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казания к работ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4000" indent="-324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евку с привязанным грузом поочередно навиваем на предметы с разными диаметрами до состояния покоя, считаем количество сделанных кругов. Все данные записываем в сравнительную таблиц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52280" y="39625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2362320" y="396252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826200" y="38862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=1,5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см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959920" y="38862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=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,5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см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258520" y="3886200"/>
            <a:ext cx="10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=5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см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4"/>
          <a:stretch/>
        </p:blipFill>
        <p:spPr>
          <a:xfrm>
            <a:off x="6934320" y="3962520"/>
            <a:ext cx="2058840" cy="2746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7459920" y="38862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=1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0 см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838080" y="5486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блица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990720"/>
          <a:ext cx="7850160" cy="4344840"/>
        </p:xfrm>
        <a:graphic>
          <a:graphicData uri="http://schemas.openxmlformats.org/drawingml/2006/table">
            <a:tbl>
              <a:tblPr/>
              <a:tblGrid>
                <a:gridCol w="530280"/>
                <a:gridCol w="2804760"/>
                <a:gridCol w="451512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Диаметр окружности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Количество сделанных кругов до состояния пок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99cc"/>
                      </a:solidFill>
                    </a:lnR>
                    <a:lnT w="1368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,5 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,5 (9 </a:t>
                      </a:r>
                      <a:r>
                        <a:rPr b="0" i="1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,5 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,5 (9 </a:t>
                      </a:r>
                      <a:r>
                        <a:rPr b="0" i="1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5 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,5 (9 </a:t>
                      </a:r>
                      <a:r>
                        <a:rPr b="0" i="1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0 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4,5 (9 </a:t>
                      </a:r>
                      <a:r>
                        <a:rPr b="0" i="1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5200" indent="-565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исло е (основание натурального логарифма) занимает не последнюю роль в физике и математике. Оно описывает множество  физических процессов, как например, затухающие колебания маятника, а так же используется в математике для построения функций – натуральный логарифм и функция у = 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5200" indent="-565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расчете числа е через предел, чем х будет больше, тем вычисления будут точне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5200" indent="-565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рмула Эйлера доказывает, что с увеличением числа оборотов в прогрессии арифметической, трение растет в прогрессии геометричес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5200" indent="-565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использовании стального каната в примере из романа Жюля Верна «Матиас Шандор» мы выигрываем в прочности, но проигрываем в величине необходимого усилия и весе кана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5200" indent="-565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иаметр окружности предмета не влияет на исход опыт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Список использованных источников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http://www.terver.ru/diff_ur_svobodnih_zatuhaushih_kolebaniy.ph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http://ucheba-legko.ru/lections/viewlection/matematika/9_klass/neravenstva/lec_vidyi_chisel__naturalnyie__tselyie__ratsionalnyie_i_deystvitelnyi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http://tehnopodium.ru/stati/%EA%EE%FD%F4%F4%E8%F6%E8%E5%ED%F2+%F2%F0%E5%ED%E8%FF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http://www.berdov.com/docs/logarithm/what/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ршова А.П., Голобородько В.В., Крижановский А.Ф. «Тетрадь-конспект по алгебре» (по учебнику Ю.Н. Макарычева и др.), Москва «Илекса» 2011, 112 ст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льман Я.И. «Занимательная физика», Москва «Наука» 1983, том 1, 224 ст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ельман Я.И. «Занимательная физика», Москва «Наука» 1983, том 2, 272 ст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вкин А.А., Рывкин А.З., Хренов Л.С. «Справочник по математике», Москва «Высшая школа» 1964, 520 ст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натьева А., Краснощекова Т., Смирнов В. «Курс высшей математики», Москва «Высшая школа» 1964, 685 ст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6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Цель работы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зучение числа е (основание натурального логарифма) и его примен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-320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Задачи исследовани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Изучение логарифма и функции и их свой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Изучение затухания колебаний маятни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Изучение формулы Эйлера и ее примен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) Подготовка и проведение эксперимен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Garamond"/>
              </a:rPr>
              <a:t>Натуральные числа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 – это числа ряда 1, 2, 3, 4, 5…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4440" indent="-33444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Garamond"/>
              </a:rPr>
              <a:t>Целые числа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 – это натуральные числа, числа, противоположные натуральным, и число 0.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4440" indent="-33444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Garamond"/>
              </a:rPr>
              <a:t>Рациональные числа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 – это числа, которые могут быть представлены в виде в виде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, где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mZ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nN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34440" indent="-334440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Garamond"/>
              </a:rPr>
              <a:t>Действительные (вещественные) числа</a:t>
            </a: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 – это любые конечные или бесконечные десятичные дроби. 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4560" t="8699" r="8898" b="8699"/>
          <a:stretch/>
        </p:blipFill>
        <p:spPr>
          <a:xfrm>
            <a:off x="2590920" y="2819520"/>
            <a:ext cx="4038480" cy="3003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980720" y="586692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Рисунок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1.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Круги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Эйлер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Что такое число е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лом е называют следующий предел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3124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 расчета числа 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0880" y="3809880"/>
            <a:ext cx="388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х = 1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(1 + 1/1.000.000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(1 + 0,000.001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1,000.00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</a:t>
            </a:r>
            <a:r>
              <a:rPr b="0" lang="ru-RU" sz="2000" spc="-1" strike="noStrike">
                <a:solidFill>
                  <a:srgbClr val="ff0000"/>
                </a:solidFill>
                <a:latin typeface="Garamond"/>
              </a:rPr>
              <a:t>2,71828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0469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267080" y="38098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х = 1.000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(1 + 1/1.000.000.000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(1 + 0,000.000.001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 1,000.000.001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^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000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= </a:t>
            </a:r>
            <a:r>
              <a:rPr b="0" lang="ru-RU" sz="2000" spc="-1" strike="noStrike">
                <a:solidFill>
                  <a:srgbClr val="ff0000"/>
                </a:solidFill>
                <a:latin typeface="Garamond"/>
              </a:rPr>
              <a:t>2,7182818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7…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53352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ем х больше, тем вычисления будут точ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573280" y="2073240"/>
            <a:ext cx="2683080" cy="951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тухание колебаний маятник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7640" y="4723920"/>
            <a:ext cx="801864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о – начальная амплит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– математическая константа (основание натурального логарифма 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δ – коэффициент затухания колебаний, зависящий от трения, деленный на удвоенную массу шара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/2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7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время колеба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253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351160" y="4103640"/>
            <a:ext cx="1752480" cy="358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425680" y="2840040"/>
            <a:ext cx="4640400" cy="7010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142920" y="571680"/>
            <a:ext cx="2663640" cy="37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6408720" y="216000"/>
            <a:ext cx="2570040" cy="36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Жюль-верновский силач и формула Эйл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295280" cy="37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28600" y="205740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сила, против которой направлено наше усилие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уквой е обозначено число 2,718…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коэффициент трения между канатом и тумб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уквой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означен «угол навивания», т. е. отношение длины дуги, охваченной веревкой, к радиусу этой дуг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672000" y="4368960"/>
            <a:ext cx="1904760" cy="59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3"/>
          <a:stretch/>
        </p:blipFill>
        <p:spPr>
          <a:xfrm>
            <a:off x="3657600" y="5029200"/>
            <a:ext cx="2971800" cy="6285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3657600" y="5635440"/>
            <a:ext cx="3429000" cy="1191240"/>
          </a:xfrm>
          <a:prstGeom prst="rect">
            <a:avLst/>
          </a:prstGeom>
          <a:solidFill>
            <a:srgbClr val="e5e5ff"/>
          </a:solidFill>
          <a:ln cap="sq"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5000 = </a:t>
            </a:r>
            <a:r>
              <a:rPr b="0" i="1" lang="ru-RU" sz="24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f + 2n </a:t>
            </a:r>
            <a:r>
              <a:rPr b="0" i="1" lang="ru-RU" sz="24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2,72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откуда  </a:t>
            </a:r>
            <a:r>
              <a:rPr b="0" i="1" lang="ru-RU" sz="2400" spc="-1" strike="noStrike">
                <a:solidFill>
                  <a:srgbClr val="000514"/>
                </a:solidFill>
                <a:latin typeface="Garamond"/>
              </a:rPr>
              <a:t>f</a:t>
            </a:r>
            <a:r>
              <a:rPr b="0" lang="ru-RU" sz="2400" spc="-1" strike="noStrike">
                <a:solidFill>
                  <a:srgbClr val="000514"/>
                </a:solidFill>
                <a:latin typeface="Garamond"/>
              </a:rPr>
              <a:t> = 9,3 кг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276720" y="1371600"/>
            <a:ext cx="5867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 судна 50 тон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клон стапеля 0,1; тогда на канат действовал не полный вес судна, а 0,1 его, т. е. 5 тонн, или 5000 к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у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коэффициента трения каната о железную тумбу –1/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у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легко определим, если примем, что Матифу обвил канат вокруг тумбы всего три р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Экспериментальная часть.</a:t>
            </a:r>
            <a:br>
              <a:rPr sz="4400"/>
            </a:b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постановки опыта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расчеты, по нахождению нужной величины усилия, чтобы остановить судно из романа Жюля Верна «Матиас Шандор», используя вместо пенькового каната, сталь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авнить получившийся результат с результатом в 5 параграфе (Жюль-верновский силач и формула Эйлер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сти опыт, используя груз, несколько предметов с разными диаметрами окружности и верев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ть выводы на основе опыта и сравнени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оведение расчет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28954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ила, против которой направлено наше усилие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f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 – основание натурального логарифма равное 2,717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3920" indent="-313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оэффициент трения стального каната о железную тумбу считаем как 1/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295640" cy="37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1905120" cy="59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3657600" y="1600200"/>
            <a:ext cx="3886200" cy="506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3321360" y="2465280"/>
            <a:ext cx="5165640" cy="3682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5000 = </a:t>
            </a:r>
            <a:r>
              <a:rPr b="0" i="1" lang="ru-RU" sz="18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f + 1,2n </a:t>
            </a:r>
            <a:r>
              <a:rPr b="0" i="1" lang="ru-RU" sz="1800" spc="-1" strike="noStrike">
                <a:solidFill>
                  <a:srgbClr val="000514"/>
                </a:solidFill>
                <a:latin typeface="Garamond"/>
              </a:rPr>
              <a:t>lg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2,72, откуда  </a:t>
            </a:r>
            <a:r>
              <a:rPr b="0" i="1" lang="ru-RU" sz="1800" spc="-1" strike="noStrike">
                <a:solidFill>
                  <a:srgbClr val="000514"/>
                </a:solidFill>
                <a:latin typeface="Garamond"/>
              </a:rPr>
              <a:t>f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= 115 к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657600" y="5546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аблица 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657600" y="3352680"/>
          <a:ext cx="5335560" cy="2171880"/>
        </p:xfrm>
        <a:graphic>
          <a:graphicData uri="http://schemas.openxmlformats.org/drawingml/2006/table">
            <a:tbl>
              <a:tblPr/>
              <a:tblGrid>
                <a:gridCol w="368280"/>
                <a:gridCol w="1231920"/>
                <a:gridCol w="990720"/>
                <a:gridCol w="1144440"/>
                <a:gridCol w="16002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Кан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В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ро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f </a:t>
                      </a: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(величина необходимого усил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99cc"/>
                      </a:solidFill>
                    </a:lnR>
                    <a:lnT w="18720">
                      <a:solidFill>
                        <a:srgbClr val="0099cc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Пеньк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Мен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Мен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Мен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cc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Стальн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Бол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Бол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514"/>
                          </a:solidFill>
                          <a:latin typeface="Calibri"/>
                          <a:ea typeface="Times New Roman"/>
                        </a:rPr>
                        <a:t>Больш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8720">
                      <a:solidFill>
                        <a:srgbClr val="0099cc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8720">
                      <a:solidFill>
                        <a:srgbClr val="0099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5-02-26T14:24:5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