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C3E-5A3E-46E0-9DA9-612BD04D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BA0-A856-4144-A052-B21F6F75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761-CE9C-4363-BCF8-2C5E86E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983-6AE5-460C-BD5F-59EAABF9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C449-BCA8-4EE1-A076-8553F52B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3074-7E85-4C7D-A0FE-1072631F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D78A-B0C9-4EEE-985A-B1D7DD87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42D9-082E-4058-B221-9C2CD2A4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8E65-D3D3-4BC5-91ED-F9521CCA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ECD7-294C-4EB7-937E-925F430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51FA-77B9-4F25-BD06-67CACAC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BB8-5C0E-412C-9847-56C307AB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61A1-8A7F-46CC-94D6-B3A3420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B4D4-349A-41E8-B58A-20339E3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3F55-EE63-466F-98D7-8E12D1D7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5E3D-F3E7-4FBB-ACE7-5A7B6232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958-24AE-46D9-86D0-96697060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4548-7DD2-40A2-89DF-A806FA9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F64D-74C6-480D-A4F5-A4D8D0B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C799-D80D-4312-961B-38071BD1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027F-13E1-43F8-9323-809C305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6E4E-A17B-4B88-98A4-5DCD3DA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A8C-53AE-4004-AA83-85DF248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DD656-9EC5-40C4-BE5D-F9070BC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C778E-1187-4685-BA0A-41E6206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ACD1-A790-4BFE-AD18-AF7F793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D124-B30E-49B8-A874-1F8427C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E7C0-26F4-49A1-B0FE-01E2BE9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CD2D-59CF-48C8-B3BD-79100AF2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CD57-09A0-402F-8962-699AD5E3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E6C5-AE51-45C7-B437-59A343F4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04AF-ADF9-4EE1-BA79-93F92667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8020-85CA-468C-BD23-EE8B3624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F10-D868-4F2A-A509-A5F5C9E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141C3-90DB-42B3-83D3-3A3D26A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C8CD-06DE-4095-A56D-B7CA1243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143EC-1626-4D6C-B4E3-FF3A4B6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0BAE-D383-489F-8328-0A6534D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D195-5F7F-400C-B3D5-522CE7C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B4B8-2405-4BB4-8755-1D06C6D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5510-6FD6-47A9-812E-3A20B597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3FB1-3930-436D-8DE1-3946EBC3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5EEC-B707-4F9D-B08C-9A62042C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555C-19F1-4108-B353-50489BAC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127-D9F9-4A44-B610-6C68FBF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E5F72-74D2-40F3-8306-E34A3CA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6403B-937A-464F-84D4-1B66C0A5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FE75-C821-4851-A9FC-18F58624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DF4B-79E4-4EA8-A351-2D52092D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58A8-FA3E-41F1-9EE0-FD7B870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2893-9E7A-47DC-87EF-FA88FF4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0916-140D-4558-9627-E4333A8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482C-825F-4B24-A859-5B45DA92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F774-B10A-4933-A711-A1BCFDD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B209-4159-42DE-993A-C8BBB368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FF1-2B2B-436B-9689-9325C9CC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39FEB-F324-4432-95B7-CBDD5445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567E9-F9F1-474C-86FC-5C747645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70B3-5C85-4AD5-934C-381B31F2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64E3-E954-4EE0-85BB-8A35087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6491E-D903-45C1-8992-FB5520BB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9BAE3-4699-4EED-9790-F9054E67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888C8-EEF3-4BDB-ABCA-CF377A01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C7FC-5234-4F09-BE06-071346F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A2187-BDFD-48D1-A97F-760C819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BB36D-F4A1-4094-954F-280B25F1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958-341C-468F-8944-E1975FF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6A00-0FC6-4486-99D3-75DE7711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AFAE3-54E7-4E69-BD13-BB415AD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FAAE3-F21F-4414-9DA3-7495D6EC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4EF-926E-4180-86B5-F15CA1C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5F6-DFB2-4345-B4DB-713CCD5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DBF-ABC8-4D2C-8DC4-A6F59761B81D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F28-84B7-4B2C-B4C5-8C748B13468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390B-32D0-499A-9984-4545C5E27D06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3F18-E829-4966-939C-9031E412A43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0B2-9AE2-4655-BE78-D913AF0E3B9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B73A-6D0B-4EE9-B07B-F7C1660C469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90084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Цель исследования: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авнить баллады разных народов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следить, изменился ли жанр баллады с течением времен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зобраться, почему и 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ке не исчез интерес к баллад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мет исследования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сти баллады как жанра в литературе разных народов и разных времё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ект исследования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мецкая баллада  «Лесной царь» Гёте (1782 г.), английская народная  баллада «Рождение Робин Гуда»,  французская баллада Франсуа Вийона «О дамах прошлых времен», американская баллада «Saturn»  Джона Купера (1996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balada -  «танцевальная, плясовая песнь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алла́д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 — лиро-эпическое произведение, то есть рассказ, изложенный в поэтической форме, исторического, мифического или героического характера. Сюжет баллады обычно заимствуется из фольклора. Баллады часто кладутся на музы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55640" y="333360"/>
          <a:ext cx="7467480" cy="621684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  <a:gridCol w="1866960"/>
                <a:gridCol w="1866600"/>
              </a:tblGrid>
              <a:tr h="17042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цкая баллада Гёте «Лесной царь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782 г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ая народная  балла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ождение Робин Гуд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ада Франсуа Вийона   (французска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дамах прошлых времен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ие призна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628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ьные герои – отец и сын, и вымышленные обитатели лес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н и реальность - сочетание реального с фантастически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удожественное изложение истории жизни легендарных женщин и их ухода в небыт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сочетание реального с фантастическ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60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Цветы бирюзовы, жемчужны струи;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золота слиты чертоги мои…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этой балладе сновидения графа  несут описание  вымышленного пейзаж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Тревожащее лоно рек; прошлогодний снег; лилея по весне; принц, с бегущим веком ссо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романтический (необычный) пейза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инственные обитатели дубрав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а рождения младенц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йна человеческой жизни и смерти 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мотив тай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Особенности  жанра «баллада»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ичие сюжета (есть кульминация, завязка и развязка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и автора и чувства герое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четание реального с фантастическим;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мантический (необычный) пейзаж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ив тайны;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южет может заменяться диалог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аконичность;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четание лирического и эпического нач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260280"/>
          <a:ext cx="8362800" cy="646596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обенности баллады как жанра: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aturn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»(1996 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наличие сюжета (есть кульминация, завязка и развязк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балладе «Сатурн» сюжет завязывается от вопроса , который тревожит героя , приводятся примеры вещей которых мы не видим , но которые точно существуют  и развязки в виде призыва безоглядно поверить в высшие силы , которые окружают и защищают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эмоции автора и чувства геро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мнение , вера, переживание , глубокая вер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сочетание реального с фантастически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круг Сатурна есть кольцо –реаль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 небес есть кольцо вокруг тебя -фантастическ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романтический (необычный) пейза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 Сатурна есть кольцо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ножество лун знают, что это прав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небесах есть кольцо, что их окружает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мотив тай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 никогда не сможешь увидеть его своими глаз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южет может заменяться диалог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южет построен на диалог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лаконич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тко изложенный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сочетание лирического и эпического нач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пическое начало представлено эмоциональным диалогом и рассуждением о грядущем действии и изменениях. Лирическим – сюжет пропитан насквозь, он соткан из чувств и сомнени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Вывод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аллада – это старинный литературный жанр, который, несмотря на привнесение в неё национальных особенностей,  сохранил свои сформированные в эпоху Средневековья признаки в литературе разных народо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Жанр баллады, существующий в Европе, по крайней мере, уже целое тысячелетие, активно развивается и в современном мире, творчески перерабатывая традиционные конфликты, оживляя застывшие форм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7:21:03Z</dcterms:created>
  <dc:creator>Владелец</dc:creator>
  <dc:description/>
  <dc:language>en-US</dc:language>
  <cp:lastModifiedBy>user</cp:lastModifiedBy>
  <dcterms:modified xsi:type="dcterms:W3CDTF">2014-03-03T12:27:07Z</dcterms:modified>
  <cp:revision>6</cp:revision>
  <dc:subject/>
  <dc:title>Жанр «баллада»:  вчера и сегодня.</dc:title>
</cp:coreProperties>
</file>