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48.wmf" ContentType="image/x-wmf"/>
  <Override PartName="/ppt/media/image9.jpeg" ContentType="image/jpeg"/>
  <Override PartName="/ppt/media/image30.jpeg" ContentType="image/jpeg"/>
  <Override PartName="/ppt/media/image32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wmf" ContentType="image/x-wmf"/>
  <Override PartName="/ppt/media/image33.jpeg" ContentType="image/jpeg"/>
  <Override PartName="/ppt/media/image6.jpeg" ContentType="image/jpeg"/>
  <Override PartName="/ppt/media/image49.wmf" ContentType="image/x-wmf"/>
  <Override PartName="/ppt/media/image47.wmf" ContentType="image/x-wmf"/>
  <Override PartName="/ppt/media/image31.jpeg" ContentType="image/jpeg"/>
  <Override PartName="/ppt/media/image53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2CC-2C76-4A55-8E03-5E75D391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440-79C3-4006-ABBB-CAC38CDE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60C-4D61-4499-A9F8-4F6A59D0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904-A865-48AE-8057-BBE9CB33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6EC-8805-402A-8955-0648D968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551-6BA7-46A9-94EA-0AF8E19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58D-3846-4A7A-9D44-D813A2CC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722-92F8-4895-B3AB-8BCF9E46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B8F-D4B0-4C31-9B6A-7877CAB5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A15-2698-44FB-9D23-1774C22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994-E4F4-47DE-9DA0-927A380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D38-FCCB-4FD9-BFF1-BBF271E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002-EA42-4CF1-A845-42D57F53E6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8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cm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28600" y="1294920"/>
            <a:ext cx="9524880" cy="1676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ценическая жизнь пьесы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А.Н.Островского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а всякого мудреца довольно простоты»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04960" y="4114800"/>
            <a:ext cx="5105160" cy="2209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езенцева Татьяна Петро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у выполни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хомирова Полина Александро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аяся 10 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7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944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ктакль 24 декабря 1997</a:t>
            </a: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419720" cy="5181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атр, гор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атр п/р О.Табакова, Моск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жиссе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Табако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ер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лумов - С. Безруко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3962520" cy="14479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зких обличительных нот  не может здесь быть, ведь режиссёр спектакля полагает, что «каждый выбирает путь утверждения себя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7" descr="http://cdn.walkpm.com/-/uploads/1/4a/8d5bd687117d7ded872097edf77604a1/photos/overlay-teatr-pr-olega-tabakova-moscow-1316785386.jpg"/>
          <p:cNvPicPr/>
          <p:nvPr/>
        </p:nvPicPr>
        <p:blipFill>
          <a:blip r:embed="rId2"/>
          <a:stretch/>
        </p:blipFill>
        <p:spPr>
          <a:xfrm>
            <a:off x="1523880" y="2057400"/>
            <a:ext cx="2362320" cy="17668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03" name="Picture 10" descr="1363241950_383562501"/>
          <p:cNvPicPr/>
          <p:nvPr/>
        </p:nvPicPr>
        <p:blipFill>
          <a:blip r:embed="rId3"/>
          <a:stretch/>
        </p:blipFill>
        <p:spPr>
          <a:xfrm>
            <a:off x="4800600" y="3809880"/>
            <a:ext cx="3505320" cy="28051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04" name="Picture 8" descr="http://umdb.org.ua/images/imgs/__local10054/1219910840774.jpg"/>
          <p:cNvPicPr/>
          <p:nvPr/>
        </p:nvPicPr>
        <p:blipFill>
          <a:blip r:embed="rId4"/>
          <a:stretch/>
        </p:blipFill>
        <p:spPr>
          <a:xfrm>
            <a:off x="3657600" y="2895480"/>
            <a:ext cx="1917720" cy="25099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7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атр п/р О.Табакова,1997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Picture 5" descr="1355"/>
          <p:cNvPicPr/>
          <p:nvPr/>
        </p:nvPicPr>
        <p:blipFill>
          <a:blip r:embed="rId2"/>
          <a:stretch/>
        </p:blipFill>
        <p:spPr>
          <a:xfrm>
            <a:off x="457200" y="1371600"/>
            <a:ext cx="5410080" cy="3933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08" name="Picture 6" descr="81881"/>
          <p:cNvPicPr/>
          <p:nvPr/>
        </p:nvPicPr>
        <p:blipFill>
          <a:blip r:embed="rId3"/>
          <a:stretch/>
        </p:blipFill>
        <p:spPr>
          <a:xfrm>
            <a:off x="3581280" y="2819520"/>
            <a:ext cx="5105520" cy="33908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09" name="Picture 7" descr="81908"/>
          <p:cNvPicPr/>
          <p:nvPr/>
        </p:nvPicPr>
        <p:blipFill>
          <a:blip r:embed="rId4"/>
          <a:stretch/>
        </p:blipFill>
        <p:spPr>
          <a:xfrm>
            <a:off x="1752480" y="2971800"/>
            <a:ext cx="5410440" cy="3592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10" name="Picture 8" descr="81937"/>
          <p:cNvPicPr/>
          <p:nvPr/>
        </p:nvPicPr>
        <p:blipFill>
          <a:blip r:embed="rId5"/>
          <a:stretch/>
        </p:blipFill>
        <p:spPr>
          <a:xfrm>
            <a:off x="3352680" y="1219320"/>
            <a:ext cx="5645160" cy="37479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11" name="Picture 10" descr="81950"/>
          <p:cNvPicPr/>
          <p:nvPr/>
        </p:nvPicPr>
        <p:blipFill>
          <a:blip r:embed="rId6"/>
          <a:stretch/>
        </p:blipFill>
        <p:spPr>
          <a:xfrm>
            <a:off x="533520" y="2286000"/>
            <a:ext cx="5257800" cy="34909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7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716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ктакль 1 декабря 2007</a:t>
            </a:r>
            <a:endParaRPr b="0" lang="en-US" sz="3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атр, гор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атр им. Ленсовета, 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жиссе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Се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ер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лумов - В. Кул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990720"/>
            <a:ext cx="4343400" cy="17524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е Глумовы нынче ровесники Василия Сенина, и в этом смысле интересно было узнать, что же думает молодой режиссер «о времени и о себе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ядовой зрит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http://www.metronews.ru/novosti/rezhisseru-teatra-im-lensoveta-predlozhat-osobye-uslovija/Tpoleb---E3qLR6XVWW0K2/lensoveta2.jpg"/>
          <p:cNvPicPr/>
          <p:nvPr/>
        </p:nvPicPr>
        <p:blipFill>
          <a:blip r:embed="rId2"/>
          <a:stretch/>
        </p:blipFill>
        <p:spPr>
          <a:xfrm>
            <a:off x="1676520" y="1905120"/>
            <a:ext cx="2514600" cy="1628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17" name="Picture 9" descr="257"/>
          <p:cNvPicPr/>
          <p:nvPr/>
        </p:nvPicPr>
        <p:blipFill>
          <a:blip r:embed="rId3"/>
          <a:stretch/>
        </p:blipFill>
        <p:spPr>
          <a:xfrm>
            <a:off x="4419720" y="4495680"/>
            <a:ext cx="3352680" cy="22305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18" name="Picture 8" descr="http://media.informpskov.ru/pictures/1362068566.jpg"/>
          <p:cNvPicPr/>
          <p:nvPr/>
        </p:nvPicPr>
        <p:blipFill>
          <a:blip r:embed="rId4"/>
          <a:stretch/>
        </p:blipFill>
        <p:spPr>
          <a:xfrm>
            <a:off x="3581280" y="2819520"/>
            <a:ext cx="1801800" cy="2476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атр им.Ленсовета, 2007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1" name="Picture 7" descr="t-marlyspros"/>
          <p:cNvPicPr/>
          <p:nvPr/>
        </p:nvPicPr>
        <p:blipFill>
          <a:blip r:embed="rId2"/>
          <a:stretch/>
        </p:blipFill>
        <p:spPr>
          <a:xfrm>
            <a:off x="1219320" y="1219320"/>
            <a:ext cx="5715000" cy="38113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2" name="Picture 8" descr="А. Алексахина (Мамаева), Д. Лысенков (Глумов). Фото Э. Зинатуллина"/>
          <p:cNvPicPr/>
          <p:nvPr/>
        </p:nvPicPr>
        <p:blipFill>
          <a:blip r:embed="rId3"/>
          <a:stretch/>
        </p:blipFill>
        <p:spPr>
          <a:xfrm>
            <a:off x="1447920" y="1828800"/>
            <a:ext cx="3073320" cy="46101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3" name="Picture 9" descr="С. Мигицко (Крутицкий). Фото Э. Зинатуллина"/>
          <p:cNvPicPr/>
          <p:nvPr/>
        </p:nvPicPr>
        <p:blipFill>
          <a:blip r:embed="rId4"/>
          <a:stretch/>
        </p:blipFill>
        <p:spPr>
          <a:xfrm>
            <a:off x="4038480" y="1143000"/>
            <a:ext cx="4876920" cy="37609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4" name="Picture 10" descr="Сцена из спектакля. Фото Э. Зинатуллина"/>
          <p:cNvPicPr/>
          <p:nvPr/>
        </p:nvPicPr>
        <p:blipFill>
          <a:blip r:embed="rId5"/>
          <a:stretch/>
        </p:blipFill>
        <p:spPr>
          <a:xfrm>
            <a:off x="3657600" y="2209680"/>
            <a:ext cx="5181480" cy="3954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7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ранизация 1952 года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Picture 5" descr="a0b706c69b7fb7d877b75e7aec45be26"/>
          <p:cNvPicPr/>
          <p:nvPr/>
        </p:nvPicPr>
        <p:blipFill>
          <a:blip r:embed="rId2"/>
          <a:stretch/>
        </p:blipFill>
        <p:spPr>
          <a:xfrm>
            <a:off x="838080" y="1447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938dc2a0438ef4b154e14eaf01d579c"/>
          <p:cNvPicPr/>
          <p:nvPr/>
        </p:nvPicPr>
        <p:blipFill>
          <a:blip r:embed="rId3"/>
          <a:stretch/>
        </p:blipFill>
        <p:spPr>
          <a:xfrm>
            <a:off x="3200400" y="1600200"/>
            <a:ext cx="5364000" cy="4022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d84acf75bef"/>
          <p:cNvPicPr/>
          <p:nvPr/>
        </p:nvPicPr>
        <p:blipFill>
          <a:blip r:embed="rId4"/>
          <a:stretch/>
        </p:blipFill>
        <p:spPr>
          <a:xfrm>
            <a:off x="3200400" y="2057400"/>
            <a:ext cx="5364000" cy="402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e5a2de7ef3b5"/>
          <p:cNvPicPr/>
          <p:nvPr/>
        </p:nvPicPr>
        <p:blipFill>
          <a:blip r:embed="rId5"/>
          <a:stretch/>
        </p:blipFill>
        <p:spPr>
          <a:xfrm>
            <a:off x="2209680" y="1089000"/>
            <a:ext cx="5943600" cy="445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e7e8819ead33c43e267967000461dc69"/>
          <p:cNvPicPr/>
          <p:nvPr/>
        </p:nvPicPr>
        <p:blipFill>
          <a:blip r:embed="rId6"/>
          <a:stretch/>
        </p:blipFill>
        <p:spPr>
          <a:xfrm>
            <a:off x="762120" y="23623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28600" y="111240"/>
            <a:ext cx="6781680" cy="277092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прос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0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итаете ли  вы произведения А.Н.Островског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0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ите ли вы на спектакли по пьесам А.Н. Островског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0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уальны ли пьесы А.Н.Островског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05000"/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какой пьесы А.Н.Островского герои Глумов и Мамаев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«Гроз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«На каждого мудрец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вольно простот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«Бедность порок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88"/>
          <p:cNvSpPr/>
          <p:nvPr/>
        </p:nvSpPr>
        <p:spPr>
          <a:xfrm>
            <a:off x="2610000" y="133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8120" y="1828800"/>
          <a:ext cx="5854680" cy="4906800"/>
        </p:xfrm>
        <a:graphic>
          <a:graphicData uri="http://schemas.openxmlformats.org/drawingml/2006/table">
            <a:tbl>
              <a:tblPr/>
              <a:tblGrid>
                <a:gridCol w="252360"/>
                <a:gridCol w="914400"/>
                <a:gridCol w="193680"/>
                <a:gridCol w="191880"/>
                <a:gridCol w="557280"/>
                <a:gridCol w="1014480"/>
                <a:gridCol w="193680"/>
                <a:gridCol w="192240"/>
                <a:gridCol w="552240"/>
                <a:gridCol w="932040"/>
                <a:gridCol w="191880"/>
                <a:gridCol w="192240"/>
                <a:gridCol w="476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18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70 л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9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9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9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9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5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4"/>
          <p:cNvGraphicFramePr/>
          <p:nvPr/>
        </p:nvGraphicFramePr>
        <p:xfrm>
          <a:off x="304920" y="304920"/>
          <a:ext cx="403848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>
                    <a:alphaModFix amt="30000"/>
                  </a:blip>
                  <a:stretch/>
                </p:blipFill>
                <p:spPr>
                  <a:xfrm>
                    <a:off x="304920" y="304920"/>
                    <a:ext cx="4038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24280" y="304920"/>
          <a:ext cx="4191120" cy="274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5">
                    <a:alphaModFix amt="30000"/>
                  </a:blip>
                  <a:stretch/>
                </p:blipFill>
                <p:spPr>
                  <a:xfrm>
                    <a:off x="4724280" y="304920"/>
                    <a:ext cx="4191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304920" y="3276720"/>
          <a:ext cx="4038480" cy="2855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7">
                    <a:alphaModFix amt="30000"/>
                  </a:blip>
                  <a:stretch/>
                </p:blipFill>
                <p:spPr>
                  <a:xfrm>
                    <a:off x="304920" y="3276720"/>
                    <a:ext cx="40384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4724280" y="3276720"/>
          <a:ext cx="4191120" cy="281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9">
                    <a:alphaModFix amt="30000"/>
                  </a:blip>
                  <a:stretch/>
                </p:blipFill>
                <p:spPr>
                  <a:xfrm>
                    <a:off x="4724280" y="3276720"/>
                    <a:ext cx="41911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7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304920" y="335520"/>
            <a:ext cx="8305560" cy="1008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ндальная постановка по пьесе А.Н.Остров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 всякого мудреца довольно простот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жиссер В.Сенин, 1 декабря 2007 года (театр им. Ленсовет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33520" y="2666520"/>
            <a:ext cx="3581280" cy="642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оцен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одная диа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648320" y="1600200"/>
            <a:ext cx="4114800" cy="14655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фессионалы очень резко оценили постановку, а большинство положительных отзывов было получено от рядовых зрител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3019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Object 11"/>
          <p:cNvGraphicFramePr/>
          <p:nvPr/>
        </p:nvGraphicFramePr>
        <p:xfrm>
          <a:off x="533520" y="3429000"/>
          <a:ext cx="518148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429000"/>
                    <a:ext cx="5181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6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зывы русских артистов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80880" y="1552680"/>
            <a:ext cx="6248520" cy="2014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Добролюб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едливо утверждал: «А.Н.Островский в своих пьесах захватил такие общие стремления и потребности, которыми проникнуто все русское общество, которых голос слышится во всех явлениях нашей жизни, которых удовлетворение составляет необходимое условие нашего дальнейшего развития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80880" y="4097160"/>
            <a:ext cx="6248520" cy="2014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другая русская актрис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Г. Сав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1905 году на слова репортера «Петербургской газеты» о том, что «Островский устарел», ответила: «Но в таком случае и Шекспира играть нельзя, потому что и он не менее устарел. Мне всегда приятно играть Островского, а если публике он перестал нравиться, то потому, вероятно, что не все теперь умеют его играть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8" descr="82224-i009-001-219573795"/>
          <p:cNvPicPr/>
          <p:nvPr/>
        </p:nvPicPr>
        <p:blipFill>
          <a:blip r:embed="rId2"/>
          <a:stretch/>
        </p:blipFill>
        <p:spPr>
          <a:xfrm>
            <a:off x="6862680" y="1295280"/>
            <a:ext cx="1792440" cy="2438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58" name="Picture 10" descr="14758"/>
          <p:cNvPicPr/>
          <p:nvPr/>
        </p:nvPicPr>
        <p:blipFill>
          <a:blip r:embed="rId3"/>
          <a:stretch/>
        </p:blipFill>
        <p:spPr>
          <a:xfrm>
            <a:off x="6858000" y="4038480"/>
            <a:ext cx="1824120" cy="2210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6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зывы русских артистов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52280" y="1295640"/>
            <a:ext cx="6705720" cy="25628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ая русская актрис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К. Тарас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татье «Принадлежит вечности» утверждает: «Я убеждена: глубина и истинность чувств, высоких и светлых, пронизывающих пьесы Островского, вечно будут открываться людям и вечно будут их волновать. Смена времен повлечет за собой смену акцентов, но главное останется навсегда, не потеряет своей сердечности и поучительной истинности, потому что человеку и народу всегда дороги цельность и честность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52280" y="4197600"/>
            <a:ext cx="6705720" cy="2288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акт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П. Сад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характеризуя творчество А.Н.Островского, прекрасно сказал: «Все на свете подвержено переменам — от людских мыслей до покроя платья; не умирает только правда, и какие бы ни являлись новые направления, новые настроения, новые формы в литературе — они не убьют творений Островского, и к этому живописному источнику правды «не зарастет народная тропа» 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8" descr="184081"/>
          <p:cNvPicPr/>
          <p:nvPr/>
        </p:nvPicPr>
        <p:blipFill>
          <a:blip r:embed="rId2"/>
          <a:stretch/>
        </p:blipFill>
        <p:spPr>
          <a:xfrm>
            <a:off x="7086600" y="1371600"/>
            <a:ext cx="1755720" cy="2438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47"/>
          <p:cNvPicPr/>
          <p:nvPr/>
        </p:nvPicPr>
        <p:blipFill>
          <a:blip r:embed="rId3"/>
          <a:stretch/>
        </p:blipFill>
        <p:spPr>
          <a:xfrm>
            <a:off x="7086600" y="4114800"/>
            <a:ext cx="17892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239240" cy="1096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724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екта «Сценическая жизнь пьесы А.Н.Островского «На всякого мудреца довольно простот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работы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ть особенности режиссерских замыслов разных лет в постановке пьесы «На всякого мудреца довольно простоты» А.Н.Островск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интерес зрителей к постановке пьесы А.Н.Островс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поставить костюмы героев, декорации и оформление разных постановок пье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ледить за оценкой театральной критики и простого зрителя режиссерской работы, игры актеров, исполняющих роль Глум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ным продуктом я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ект на тему «Сценическая жизнь пьесы Н.Островского «На всякого мудреца довольно простоты»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рубежная критика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" y="1465560"/>
            <a:ext cx="7238880" cy="3660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. Вендт в предисловии к Собранию сочинений Островского, вышедшему в 1951 году в Берлине, утвержда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. Н. Островский, величайший драматический гений России, относится к блестящей эпохе русского критического реализма второй половины XIX века, когда русская литература заняла ведущее место в мире и оказала глубокое влияние на европейскую и американскую литературы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И если руководители наших театров откроют для немецкой сцены творчество величайшего драматурга XIX столетия, то это будет означать обогащение нашего классического репертуара, подобное открытию второго Шекспира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3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1"/>
          <p:cNvSpPr/>
          <p:nvPr/>
        </p:nvSpPr>
        <p:spPr>
          <a:xfrm>
            <a:off x="1828800" y="533520"/>
            <a:ext cx="6400800" cy="5715000"/>
          </a:xfrm>
          <a:prstGeom prst="verticalScroll">
            <a:avLst>
              <a:gd name="adj" fmla="val 12500"/>
            </a:avLst>
          </a:prstGeom>
          <a:solidFill>
            <a:srgbClr val="e3ebf1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3048120" y="684360"/>
            <a:ext cx="4403520" cy="50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стано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спектак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2 г. режиссёр В.Сухобо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71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рубеж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41 г. Театр в Магдебур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7 г. Театр «Финикс». Нью-Йорк (под названием «Дневник мерзавца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8 г. Театр в Базе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958 г. «Литл тиэтр групп». Дели (на хин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icture 5"/>
          <p:cNvSpPr/>
          <p:nvPr/>
        </p:nvSpPr>
        <p:spPr>
          <a:xfrm>
            <a:off x="3200400" y="2743200"/>
            <a:ext cx="551016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80880" y="829080"/>
            <a:ext cx="7162920" cy="1618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, великий ценитель, не стерло с пьес А.Н.Островского свойственных им красок: чем дальше, тем больше оно подтверждает их общечеловеческую сущность, их неумирающую идейно-эстетическую це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2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066320" y="2590560"/>
            <a:ext cx="7543800" cy="11430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icture 6"/>
          <p:cNvSpPr/>
          <p:nvPr/>
        </p:nvSpPr>
        <p:spPr>
          <a:xfrm>
            <a:off x="685800" y="228600"/>
            <a:ext cx="3408480" cy="416736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4571640"/>
            <a:ext cx="3581640" cy="1600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Николаевич Островск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23 —  1886)</a:t>
            </a: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5715000" y="4601520"/>
            <a:ext cx="2590920" cy="642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а «Замоскворечь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8" descr="ebd98aa9449336796ef20d5e309"/>
          <p:cNvPicPr/>
          <p:nvPr/>
        </p:nvPicPr>
        <p:blipFill>
          <a:blip r:embed="rId2"/>
          <a:stretch/>
        </p:blipFill>
        <p:spPr>
          <a:xfrm>
            <a:off x="4876920" y="1523880"/>
            <a:ext cx="4038480" cy="28828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52" name="Рисунок 6" descr="ostrovskij_(1).jpg"/>
          <p:cNvPicPr/>
          <p:nvPr/>
        </p:nvPicPr>
        <p:blipFill>
          <a:blip r:embed="rId3"/>
          <a:stretch/>
        </p:blipFill>
        <p:spPr>
          <a:xfrm>
            <a:off x="762120" y="228600"/>
            <a:ext cx="3489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8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9"/>
          <p:cNvSpPr/>
          <p:nvPr/>
        </p:nvSpPr>
        <p:spPr>
          <a:xfrm>
            <a:off x="3314880" y="73080"/>
            <a:ext cx="257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944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ктакль 1 ноября 1868</a:t>
            </a:r>
            <a:r>
              <a:rPr b="1" lang="ru-RU" sz="4400" spc="-1" strike="noStrike">
                <a:solidFill>
                  <a:srgbClr val="e3ebf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атр, гор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ександринский театр.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жисс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ер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лумов– Н.В.Самой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0600" y="1371240"/>
            <a:ext cx="4191120" cy="12193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ая оценка комедии заключалась в следующих словах: «дивная», «высокоталантливая вещ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123" descr="http://jo-jo.ru/uploads/posts/2008-06/1214314141_18.jpg"/>
          <p:cNvPicPr/>
          <p:nvPr/>
        </p:nvPicPr>
        <p:blipFill>
          <a:blip r:embed="rId2"/>
          <a:stretch/>
        </p:blipFill>
        <p:spPr>
          <a:xfrm>
            <a:off x="1143000" y="2209680"/>
            <a:ext cx="2286000" cy="17067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59" name="Picture 124" descr="http://900igr.net/datai/mkhk/Tretjakovskaja-galereja-kartiny/0009-005-A.N.Ostrovskogo.jpg"/>
          <p:cNvPicPr/>
          <p:nvPr/>
        </p:nvPicPr>
        <p:blipFill>
          <a:blip r:embed="rId3"/>
          <a:stretch/>
        </p:blipFill>
        <p:spPr>
          <a:xfrm>
            <a:off x="3886200" y="2971800"/>
            <a:ext cx="1832040" cy="2352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60" name="Picture 125" descr="ref-5003_238086749-14804"/>
          <p:cNvPicPr/>
          <p:nvPr/>
        </p:nvPicPr>
        <p:blipFill>
          <a:blip r:embed="rId4"/>
          <a:stretch/>
        </p:blipFill>
        <p:spPr>
          <a:xfrm>
            <a:off x="5486400" y="3886200"/>
            <a:ext cx="1692360" cy="28098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9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6"/>
          <p:cNvSpPr/>
          <p:nvPr/>
        </p:nvSpPr>
        <p:spPr>
          <a:xfrm>
            <a:off x="2940120" y="550800"/>
            <a:ext cx="20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35"/>
          <p:cNvSpPr/>
          <p:nvPr/>
        </p:nvSpPr>
        <p:spPr>
          <a:xfrm>
            <a:off x="3222720" y="1576440"/>
            <a:ext cx="275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86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пектакль 24 марта 1910</a:t>
            </a:r>
            <a:r>
              <a:rPr b="1" lang="ru-RU" sz="42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атр, гор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Художественный театр. (МХ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жиссе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И. Немирович-Данченко и В. В. Луж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ер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мов - Качал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2520" y="1219320"/>
            <a:ext cx="4038840" cy="13716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бщее впечатление легкое, светлое. Это снова победа и на этот раз победа весьма знаменательна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урнал «Рампа и жизнь» (1910, № 11)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73" descr="http://apchekhov.ru/books/item/f00/s00/z0000025/pic/000462.jpg"/>
          <p:cNvPicPr/>
          <p:nvPr/>
        </p:nvPicPr>
        <p:blipFill>
          <a:blip r:embed="rId2"/>
          <a:stretch/>
        </p:blipFill>
        <p:spPr>
          <a:xfrm>
            <a:off x="1219320" y="2286000"/>
            <a:ext cx="2209680" cy="17524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68" name="Picture 174" descr="http://persons-info.com/userfiles/image/persons/30000-40000/30000-31000/30516/NEMIROVICH-DANCHENKO_Vladimir_Ivanovich7.jpg"/>
          <p:cNvPicPr/>
          <p:nvPr/>
        </p:nvPicPr>
        <p:blipFill>
          <a:blip r:embed="rId3"/>
          <a:stretch/>
        </p:blipFill>
        <p:spPr>
          <a:xfrm>
            <a:off x="4038480" y="2819520"/>
            <a:ext cx="1741680" cy="22478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69" name="Picture 175" descr="http://www.territa.ru/_ph/594/2/427344143.jpg"/>
          <p:cNvPicPr/>
          <p:nvPr/>
        </p:nvPicPr>
        <p:blipFill>
          <a:blip r:embed="rId4"/>
          <a:stretch/>
        </p:blipFill>
        <p:spPr>
          <a:xfrm>
            <a:off x="5410080" y="4038480"/>
            <a:ext cx="1743120" cy="1900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7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792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ХАт ,191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2" name="Picture 5" descr="al_book_4318d"/>
          <p:cNvPicPr/>
          <p:nvPr/>
        </p:nvPicPr>
        <p:blipFill>
          <a:blip r:embed="rId2"/>
          <a:stretch/>
        </p:blipFill>
        <p:spPr>
          <a:xfrm>
            <a:off x="685800" y="1371600"/>
            <a:ext cx="3309840" cy="50385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73" name="Picture 6" descr="tB8M71BKeL8"/>
          <p:cNvPicPr/>
          <p:nvPr/>
        </p:nvPicPr>
        <p:blipFill>
          <a:blip r:embed="rId3"/>
          <a:stretch/>
        </p:blipFill>
        <p:spPr>
          <a:xfrm>
            <a:off x="4114800" y="1295280"/>
            <a:ext cx="4019400" cy="33195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74" name="Picture 9"/>
          <p:cNvSpPr/>
          <p:nvPr/>
        </p:nvSpPr>
        <p:spPr>
          <a:xfrm>
            <a:off x="5334120" y="2438280"/>
            <a:ext cx="3405240" cy="419112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1" descr="1142260162_durobl1"/>
          <p:cNvPicPr/>
          <p:nvPr/>
        </p:nvPicPr>
        <p:blipFill>
          <a:blip r:embed="rId4"/>
          <a:stretch/>
        </p:blipFill>
        <p:spPr>
          <a:xfrm>
            <a:off x="3276720" y="1752480"/>
            <a:ext cx="3008160" cy="4305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76" name="Picture 13" descr="sovet_1"/>
          <p:cNvPicPr/>
          <p:nvPr/>
        </p:nvPicPr>
        <p:blipFill>
          <a:blip r:embed="rId5"/>
          <a:stretch/>
        </p:blipFill>
        <p:spPr>
          <a:xfrm>
            <a:off x="1066680" y="2362320"/>
            <a:ext cx="3962520" cy="34401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ериод С 1875 по 1917</a:t>
            </a:r>
            <a:endParaRPr b="0" lang="en-US" sz="3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2189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едия «На всякого мудреца довольно простоты» поставлена на сценах петербургских, московских и провинциальных театров 627 р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014"/>
          <p:cNvPicPr/>
          <p:nvPr/>
        </p:nvPicPr>
        <p:blipFill>
          <a:blip r:embed="rId2"/>
          <a:stretch/>
        </p:blipFill>
        <p:spPr>
          <a:xfrm>
            <a:off x="1523880" y="3048120"/>
            <a:ext cx="2133720" cy="3238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2620080"/>
            <a:ext cx="3124080" cy="3988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ый театр в 1935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" descr="MassalitinovaManefa"/>
          <p:cNvPicPr/>
          <p:nvPr/>
        </p:nvPicPr>
        <p:blipFill>
          <a:blip r:embed="rId3"/>
          <a:stretch/>
        </p:blipFill>
        <p:spPr>
          <a:xfrm>
            <a:off x="4876920" y="3048120"/>
            <a:ext cx="2238120" cy="32194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1297440" y="6323760"/>
            <a:ext cx="2680200" cy="368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аев – С.А.Голови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20800" y="6323760"/>
            <a:ext cx="3510720" cy="368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ефа – В.О.Массалитино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7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7160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ктакль 1968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атр, гор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атр им. Вахтангова, Моск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жиссе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 Ремиз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ер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лумов - Ю.Яковл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00600" y="1066680"/>
            <a:ext cx="4038480" cy="15242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Актер (Ю. Яковлев) создал одновременно сразу несколько характеров, решив всю роль в сатирическом ключ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известный крит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7" descr="http://www.kommersant.ua/factbook/picture/71913"/>
          <p:cNvPicPr/>
          <p:nvPr/>
        </p:nvPicPr>
        <p:blipFill>
          <a:blip r:embed="rId2"/>
          <a:stretch/>
        </p:blipFill>
        <p:spPr>
          <a:xfrm>
            <a:off x="1828800" y="2057400"/>
            <a:ext cx="1981080" cy="19749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90" name="Picture 10" descr="http://www.vakhtangov.ru/slir/w800-h800/upload/media/be3914a139.JPEG"/>
          <p:cNvPicPr/>
          <p:nvPr/>
        </p:nvPicPr>
        <p:blipFill>
          <a:blip r:embed="rId3"/>
          <a:stretch/>
        </p:blipFill>
        <p:spPr>
          <a:xfrm>
            <a:off x="5410080" y="3657600"/>
            <a:ext cx="2195640" cy="2970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91" name="Picture 9" descr="remizov_1909"/>
          <p:cNvPicPr/>
          <p:nvPr/>
        </p:nvPicPr>
        <p:blipFill>
          <a:blip r:embed="rId4"/>
          <a:stretch/>
        </p:blipFill>
        <p:spPr>
          <a:xfrm>
            <a:off x="3657600" y="2819520"/>
            <a:ext cx="1911240" cy="266688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mKOB8e6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792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атр им.Вахтангова, 1968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4" name="Picture 5" descr="873779c4ee"/>
          <p:cNvPicPr/>
          <p:nvPr/>
        </p:nvPicPr>
        <p:blipFill>
          <a:blip r:embed="rId2"/>
          <a:stretch/>
        </p:blipFill>
        <p:spPr>
          <a:xfrm>
            <a:off x="533520" y="1600200"/>
            <a:ext cx="4419360" cy="29383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95" name="Picture 6" descr="f69f663509"/>
          <p:cNvPicPr/>
          <p:nvPr/>
        </p:nvPicPr>
        <p:blipFill>
          <a:blip r:embed="rId3"/>
          <a:stretch/>
        </p:blipFill>
        <p:spPr>
          <a:xfrm>
            <a:off x="4038480" y="1143000"/>
            <a:ext cx="4953240" cy="33051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96" name="Picture 7" descr="e98ccb06f3"/>
          <p:cNvPicPr/>
          <p:nvPr/>
        </p:nvPicPr>
        <p:blipFill>
          <a:blip r:embed="rId4"/>
          <a:stretch/>
        </p:blipFill>
        <p:spPr>
          <a:xfrm>
            <a:off x="1676520" y="3352680"/>
            <a:ext cx="4800600" cy="32036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97" name="Picture 8" descr="559cfc0ecd"/>
          <p:cNvPicPr/>
          <p:nvPr/>
        </p:nvPicPr>
        <p:blipFill>
          <a:blip r:embed="rId5"/>
          <a:stretch/>
        </p:blipFill>
        <p:spPr>
          <a:xfrm>
            <a:off x="4191120" y="3048120"/>
            <a:ext cx="4495680" cy="30081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4-02-26T08:48:0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