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10.png" ContentType="image/png"/>
  <Override PartName="/ppt/media/image21.jpeg" ContentType="image/jpeg"/>
  <Override PartName="/ppt/media/image19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459-207D-49A6-97D5-5E55F8B0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BC1-F4B2-4185-B56E-99CBA37C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23C-4C18-47C7-B1A9-5AB7F3A2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EA8-3567-4775-BE75-0CF975AA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E14-4013-45B1-AE7B-B3334666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734-65B5-4C62-B939-E37E77B3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4BF-824F-490D-8262-6E3A1BE4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8D2-D1E9-400B-954E-5CAD2B52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DA3-0F2C-4359-83C4-3EE5220B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EBA-61E1-442C-840F-32782639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F5F-EF46-4FF4-9D59-630C62F2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179-D66A-4C92-880B-E366C72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7B68-C4E5-4FA8-BC44-F8971A447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Исследование освещенности, создаваемой бытовыми источниками свет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: Кораблина А, Савченко 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а класс 329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нергосберегающие ламп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нергосберегающие ламп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60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нергосберегающие ламп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ампы 60 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68360" y="550800"/>
            <a:ext cx="788508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ампы 75 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646200"/>
            <a:ext cx="87487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ампы 75 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56360" cy="65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нергосберегающие ламп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9144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PLNQ-VkrhWk"/>
          <p:cNvPicPr/>
          <p:nvPr/>
        </p:nvPicPr>
        <p:blipFill>
          <a:blip r:embed="rId1"/>
          <a:stretch/>
        </p:blipFill>
        <p:spPr>
          <a:xfrm>
            <a:off x="5148360" y="1628640"/>
            <a:ext cx="3457440" cy="4614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RNQWPnJVpVM"/>
          <p:cNvPicPr/>
          <p:nvPr/>
        </p:nvPicPr>
        <p:blipFill>
          <a:blip r:embed="rId2"/>
          <a:stretch/>
        </p:blipFill>
        <p:spPr>
          <a:xfrm>
            <a:off x="826920" y="1628640"/>
            <a:ext cx="35877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95280" y="2133720"/>
            <a:ext cx="8497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 лампы светят в течение 3 лет по 4 часа в сутки, то общее время работы будет 365,25 суток∙4 часа∙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4580280"/>
            <a:ext cx="66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=12∙365,5=4383 час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894600" y="1824120"/>
            <a:ext cx="8248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 это время лампа в 75 В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трати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4383∙75 Вт=328,725 кВт∙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нергосберегающая лампа в 6 В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трати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4383∙75 Вт=328,725 кВт∙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 переход на энергосберегающие технологии, оборудование рабочих мес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636640"/>
            <a:ext cx="943128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ель и задач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 провести сравнительную оценку освещённости, создаваемой лампочками разного типа. Для исследования освещённости используется в рабо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люксметр Ю 116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700280"/>
          <a:ext cx="9144000" cy="4851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ламп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Вт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ампа накаливани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Вт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D (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диодная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руб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 руб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электроэнергии за 3 года, при работе 4 ч в сутк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6 рубл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84 руб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3 рубл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,84 рубля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474560" y="2923200"/>
            <a:ext cx="622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920" y="112680"/>
          <a:ext cx="9069480" cy="737568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  <a:gridCol w="1079640"/>
                <a:gridCol w="1079280"/>
                <a:gridCol w="1079640"/>
                <a:gridCol w="1079640"/>
                <a:gridCol w="1079280"/>
                <a:gridCol w="10796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. до лампы,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Ватт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mex 42 Вт=60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, при расстоянии 9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920" y="114480"/>
          <a:ext cx="9067680" cy="658332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5640"/>
                <a:gridCol w="755640"/>
                <a:gridCol w="755640"/>
                <a:gridCol w="755640"/>
                <a:gridCol w="755640"/>
                <a:gridCol w="755640"/>
                <a:gridCol w="755640"/>
                <a:gridCol w="755640"/>
                <a:gridCol w="755640"/>
                <a:gridCol w="7556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ваттные OS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 60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ч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xmann свеч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il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37"/>
          <p:cNvSpPr/>
          <p:nvPr/>
        </p:nvSpPr>
        <p:spPr>
          <a:xfrm>
            <a:off x="3049560" y="493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36360" y="281160"/>
          <a:ext cx="9145440" cy="6980040"/>
        </p:xfrm>
        <a:graphic>
          <a:graphicData uri="http://schemas.openxmlformats.org/drawingml/2006/table">
            <a:tbl>
              <a:tblPr/>
              <a:tblGrid>
                <a:gridCol w="2433600"/>
                <a:gridCol w="652320"/>
                <a:gridCol w="652320"/>
                <a:gridCol w="652680"/>
                <a:gridCol w="652320"/>
                <a:gridCol w="652680"/>
                <a:gridCol w="653760"/>
                <a:gridCol w="654120"/>
                <a:gridCol w="2141640"/>
              </a:tblGrid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до лампы, с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Ваттные мат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Ваттные прозр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сберег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D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одиодная 6 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, при расст. 90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474560" y="2923200"/>
            <a:ext cx="622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993600" y="-23760"/>
            <a:ext cx="1760760" cy="2349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"/>
          <p:cNvPicPr/>
          <p:nvPr/>
        </p:nvPicPr>
        <p:blipFill>
          <a:blip r:embed="rId2"/>
          <a:stretch/>
        </p:blipFill>
        <p:spPr>
          <a:xfrm>
            <a:off x="668160" y="5065560"/>
            <a:ext cx="2748240" cy="2060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3"/>
          <a:stretch/>
        </p:blipFill>
        <p:spPr>
          <a:xfrm>
            <a:off x="5616720" y="-79200"/>
            <a:ext cx="1779480" cy="2373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4"/>
          <a:stretch/>
        </p:blipFill>
        <p:spPr>
          <a:xfrm>
            <a:off x="7027920" y="3933720"/>
            <a:ext cx="2193840" cy="2924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"/>
          <p:cNvPicPr/>
          <p:nvPr/>
        </p:nvPicPr>
        <p:blipFill>
          <a:blip r:embed="rId5"/>
          <a:stretch/>
        </p:blipFill>
        <p:spPr>
          <a:xfrm>
            <a:off x="668160" y="2016000"/>
            <a:ext cx="2086200" cy="2781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6"/>
          <a:stretch/>
        </p:blipFill>
        <p:spPr>
          <a:xfrm>
            <a:off x="6140520" y="2060640"/>
            <a:ext cx="3036960" cy="2276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"/>
          <p:cNvPicPr/>
          <p:nvPr/>
        </p:nvPicPr>
        <p:blipFill>
          <a:blip r:embed="rId7"/>
          <a:stretch/>
        </p:blipFill>
        <p:spPr>
          <a:xfrm>
            <a:off x="3030480" y="17604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"/>
          <p:cNvPicPr/>
          <p:nvPr/>
        </p:nvPicPr>
        <p:blipFill>
          <a:blip r:embed="rId8"/>
          <a:stretch/>
        </p:blipFill>
        <p:spPr>
          <a:xfrm>
            <a:off x="3851280" y="34290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хема эксперимента, формула освещённости точечного источ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7"/>
          <p:cNvGraphicFramePr/>
          <p:nvPr/>
        </p:nvGraphicFramePr>
        <p:xfrm>
          <a:off x="4572000" y="2637000"/>
          <a:ext cx="4896000" cy="34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37000"/>
                    <a:ext cx="4896000" cy="34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0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9"/>
              <p:cNvSpPr txBox="1"/>
              <p:nvPr/>
            </p:nvSpPr>
            <p:spPr>
              <a:xfrm>
                <a:off x="324000" y="3429000"/>
                <a:ext cx="399564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11"/>
          <p:cNvSpPr/>
          <p:nvPr/>
        </p:nvSpPr>
        <p:spPr>
          <a:xfrm>
            <a:off x="468360" y="594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а света точечного источ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спериментальная установ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вещённост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- световая величина, равная отношению светового потока, падающего на малый участок поверхности, к его площади. Единица освещённости (кд/м</a:t>
            </a:r>
            <a:r>
              <a:rPr b="0" i="1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2700360" y="4149720"/>
                <a:ext cx="2951280" cy="21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ампы 40 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ампы 40 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028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ампы 60 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95280" y="665280"/>
            <a:ext cx="853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0:19:55Z</dcterms:created>
  <dc:creator>Влад</dc:creator>
  <dc:description/>
  <dc:language>en-US</dc:language>
  <cp:lastModifiedBy>fizika</cp:lastModifiedBy>
  <dcterms:modified xsi:type="dcterms:W3CDTF">2014-03-03T10:43:30Z</dcterms:modified>
  <cp:revision>14</cp:revision>
  <dc:subject/>
  <dc:title>«Исследование освещенности, создаваемой бытовыми источниками света»</dc:title>
</cp:coreProperties>
</file>