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1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687D-9986-4A0C-89A7-DE710EC79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9F3-87BB-4441-8D2B-C11E120F7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D152-3E91-4E96-863C-7AEC5814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AC9-2D08-40B8-B443-CA04F04A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549-5F4A-40CF-8BD0-C791637F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9B1-2B2B-4723-98F1-0509F6E5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95B-D3FC-46B8-8E02-56A224F4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36DC-E75B-475F-B487-C1F40655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780B-039C-478E-B260-683B6602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005-FFC6-4D10-8DAD-06B1571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F005-283E-4896-9133-6D31FB5F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09A8-4F5E-437A-A5C5-B84783FF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AD7F-3718-49E3-8AF6-5D0F825B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0385-1ACA-4522-A954-E2960C26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7DF-A95D-45BF-991B-445232D2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9E27-9981-47A7-96EC-D770395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2D62-52EE-4B7D-8EEC-D708C3C2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080B-79CC-43B9-AA0B-8B1BB84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5BB0-295E-4AF5-95B6-383A9A1D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9DFD-5581-48AF-9F6B-DBFF656E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1DA-56A9-478F-9319-BCD870B8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416-B350-4C57-B893-02DE21C2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B69-CC60-41C8-8150-4124322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6C1-EDAA-45A2-B415-E74BF18A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8C0-1D33-4994-AAD4-4E2B01C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016-CC67-4663-9B7D-D93AE9EC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B8F-F98B-4CBD-BEB9-DB6107C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8885-4035-4590-9B65-19ECAD236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836D-F295-4BC6-A6CB-20178CE9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esilva@mech.ubc.c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3.wmf"/><Relationship Id="rId2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0.wmf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393973"/>
                </a:solidFill>
                <a:latin typeface="Comic Sans MS"/>
              </a:rPr>
              <a:t>MECH 529 </a:t>
            </a:r>
            <a:br>
              <a:rPr sz="2500"/>
            </a:br>
            <a:r>
              <a:rPr b="1" lang="en-CA" sz="4000" spc="-1" strike="noStrike">
                <a:solidFill>
                  <a:srgbClr val="a50021"/>
                </a:solidFill>
                <a:latin typeface="Comic Sans MS"/>
              </a:rPr>
              <a:t>Dynamic System Modeling</a:t>
            </a:r>
            <a:br>
              <a:rPr sz="4000"/>
            </a:b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Presentation Par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3352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Times New Roman"/>
              </a:rPr>
              <a:t>Dr. Clarence W. de Silva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 P.E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Times New Roman"/>
              </a:rPr>
              <a:t>Professor of Mechanical Engine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Times New Roman"/>
              </a:rPr>
              <a:t>The University of British Columb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Times New Roman"/>
              </a:rPr>
              <a:t>e-mail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esilva@mech.ubc.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urse Material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 to Canvas Course MECH 469 or MECH 5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</a:t>
            </a:r>
            <a:r>
              <a:rPr b="1" lang="en-US" sz="2500" spc="-1" strike="noStrike">
                <a:solidFill>
                  <a:srgbClr val="a50021"/>
                </a:solidFill>
                <a:latin typeface="Times New Roman"/>
                <a:ea typeface="SimSun"/>
              </a:rPr>
              <a:t>C.W. de Silva</a:t>
            </a:r>
            <a:r>
              <a:rPr b="1" lang="en-CA" sz="2500" spc="-1" strike="noStrike">
                <a:solidFill>
                  <a:srgbClr val="a50021"/>
                </a:solidFill>
                <a:latin typeface="Times New Roman"/>
                <a:ea typeface="SimSu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395280" y="260280"/>
          <a:ext cx="8391600" cy="586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39160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Box 1"/>
          <p:cNvSpPr/>
          <p:nvPr/>
        </p:nvSpPr>
        <p:spPr>
          <a:xfrm>
            <a:off x="270000" y="548172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ify these expres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so, note the difference between mechanical impedance and electrical imped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1112760" y="112680"/>
          <a:ext cx="6858000" cy="60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12680"/>
                    <a:ext cx="6858000" cy="60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Box 1"/>
          <p:cNvSpPr/>
          <p:nvPr/>
        </p:nvSpPr>
        <p:spPr>
          <a:xfrm>
            <a:off x="684360" y="6021360"/>
            <a:ext cx="525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re, when is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common and when is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comm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905040" y="117360"/>
          <a:ext cx="7580160" cy="610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17360"/>
                    <a:ext cx="758016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247680" y="28440"/>
          <a:ext cx="864864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28440"/>
                    <a:ext cx="864864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Box 1"/>
          <p:cNvSpPr/>
          <p:nvPr/>
        </p:nvSpPr>
        <p:spPr>
          <a:xfrm>
            <a:off x="7959600" y="5935680"/>
            <a:ext cx="936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781520" y="4633920"/>
            <a:ext cx="4392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s common here. So, Mechanical Impedances a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908680" y="5229360"/>
            <a:ext cx="2050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ck caus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4971960" y="549360"/>
            <a:ext cx="1760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chine t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250920" y="1440"/>
          <a:ext cx="8582040" cy="635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40"/>
                    <a:ext cx="858204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2"/>
          <p:cNvGraphicFramePr/>
          <p:nvPr/>
        </p:nvGraphicFramePr>
        <p:xfrm>
          <a:off x="6649920" y="519120"/>
          <a:ext cx="17784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49920" y="519120"/>
                    <a:ext cx="177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Box 1"/>
          <p:cNvSpPr/>
          <p:nvPr/>
        </p:nvSpPr>
        <p:spPr>
          <a:xfrm>
            <a:off x="2050920" y="4076640"/>
            <a:ext cx="649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/s+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124000" y="3068640"/>
            <a:ext cx="32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chanical (Physical)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693960" y="4078440"/>
            <a:ext cx="4191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.e., Suspension system impe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209520" y="6300720"/>
            <a:ext cx="8683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t is the proper transfer function for the system? Impedance or Mo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7494480" y="485640"/>
            <a:ext cx="1338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hicle, eleva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s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138240" y="46080"/>
          <a:ext cx="863604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46080"/>
                    <a:ext cx="86360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Box 1"/>
          <p:cNvSpPr/>
          <p:nvPr/>
        </p:nvSpPr>
        <p:spPr>
          <a:xfrm>
            <a:off x="6168960" y="1770120"/>
            <a:ext cx="297504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nk of a machine mounted on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uld we try to increase or decrease this transmissi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700360" y="1268280"/>
            <a:ext cx="3527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752400" y="0"/>
          <a:ext cx="7410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0"/>
                    <a:ext cx="7410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2"/>
          <p:cNvSpPr/>
          <p:nvPr/>
        </p:nvSpPr>
        <p:spPr>
          <a:xfrm>
            <a:off x="5867280" y="549360"/>
            <a:ext cx="316872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nk of a vehicle and its suspen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uld we try to increase or decrease this transmissi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other exam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471600" y="187200"/>
          <a:ext cx="8367480" cy="655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87200"/>
                    <a:ext cx="83674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Box 1"/>
          <p:cNvSpPr/>
          <p:nvPr/>
        </p:nvSpPr>
        <p:spPr>
          <a:xfrm>
            <a:off x="5167440" y="765000"/>
            <a:ext cx="3671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nk of a mounted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916360" y="6373800"/>
            <a:ext cx="863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364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sic of Transfer Functions in Models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cal Circuits (Analogy with Electrical Circuits)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fer-function Liner Graphs (TFLGs)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quivalent TFLGs (Thevenin and Norton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quivalent TFLGs for Multi-domain Systems (Domain Conversion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3492360" y="115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Comic Sans MS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539640" y="115920"/>
          <a:ext cx="838224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920"/>
                    <a:ext cx="838224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Box 1"/>
          <p:cNvSpPr/>
          <p:nvPr/>
        </p:nvSpPr>
        <p:spPr>
          <a:xfrm>
            <a:off x="3132000" y="3290760"/>
            <a:ext cx="251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chanical (Physical)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395280" y="343044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nk of a veh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1476360" y="6161040"/>
            <a:ext cx="5830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lication and possible application of this res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38040" y="4799160"/>
            <a:ext cx="4392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uld we increase or decrease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395280" y="0"/>
          <a:ext cx="852480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52480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Box 2"/>
          <p:cNvSpPr/>
          <p:nvPr/>
        </p:nvSpPr>
        <p:spPr>
          <a:xfrm>
            <a:off x="6767640" y="649440"/>
            <a:ext cx="2152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nk of a mounted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6991200" y="2349360"/>
            <a:ext cx="2152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 how the impedance circuit is ske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5580000" y="4726080"/>
            <a:ext cx="2152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rce is divided in proportion to Impedance.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324000" y="0"/>
          <a:ext cx="8724600" cy="645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72460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Box 2"/>
          <p:cNvSpPr/>
          <p:nvPr/>
        </p:nvSpPr>
        <p:spPr>
          <a:xfrm>
            <a:off x="108000" y="1916280"/>
            <a:ext cx="1614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nk of a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7112160" y="2239920"/>
            <a:ext cx="19364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 how the Mobility circuit is ske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5580000" y="4797360"/>
            <a:ext cx="23767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locity is divided in proportion to Mobility.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266760" y="190440"/>
          <a:ext cx="877248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90440"/>
                    <a:ext cx="877248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1"/>
          <p:cNvSpPr/>
          <p:nvPr/>
        </p:nvSpPr>
        <p:spPr>
          <a:xfrm>
            <a:off x="5867280" y="836640"/>
            <a:ext cx="31719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y Part 5-Slide 23 elabo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aightforward Algeb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040360" y="5950080"/>
            <a:ext cx="3492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uality” of the two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valent Circuits (Thevenin, Norton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fer Function Linear Graph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ear Graph Re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736720" cy="1774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430200" y="22320"/>
            <a:ext cx="8713800" cy="72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venin’s Theorem for Electrical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(a) Complex Circuit segment with impedances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          (b) Thevenin Equivalent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and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1800" spc="-1" strike="noStrike" baseline="-26000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= equivalent impedanc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sources killed (i.e., voltag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shorted and current source ope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= Thevenin impe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oc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 = open-circuit voltage at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sc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 = short-circuit current at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(c)  Norton Equivalent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oc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 =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1800" spc="-1" strike="noStrike" baseline="-26000">
                <a:solidFill>
                  <a:srgbClr val="333399"/>
                </a:solidFill>
                <a:latin typeface="Times New Roman"/>
              </a:rPr>
              <a:t>e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sc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Variables can be in Laplace or frequency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For multiple sources, use superposition (linear system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"/>
          <p:cNvSpPr/>
          <p:nvPr/>
        </p:nvSpPr>
        <p:spPr>
          <a:xfrm>
            <a:off x="2882880" y="1258920"/>
            <a:ext cx="622440" cy="12970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3528720" cy="171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5076720" y="3284640"/>
            <a:ext cx="3745080" cy="1987560"/>
          </a:xfrm>
          <a:prstGeom prst="rect">
            <a:avLst/>
          </a:prstGeom>
          <a:ln w="0">
            <a:noFill/>
          </a:ln>
        </p:spPr>
      </p:pic>
      <p:sp>
        <p:nvSpPr>
          <p:cNvPr id="172" name="Oval 6"/>
          <p:cNvSpPr/>
          <p:nvPr/>
        </p:nvSpPr>
        <p:spPr>
          <a:xfrm>
            <a:off x="7464600" y="1044720"/>
            <a:ext cx="779400" cy="16365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8147160" y="3492360"/>
            <a:ext cx="674640" cy="1843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3019320" y="66024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itial cut. Typically, the “output”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2882880" y="5516640"/>
            <a:ext cx="952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2882880" y="1547640"/>
            <a:ext cx="68256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oc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7464600" y="1703520"/>
            <a:ext cx="68256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oc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8150400" y="4264200"/>
            <a:ext cx="684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oc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2298600" y="878040"/>
            <a:ext cx="720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6750000" y="771480"/>
            <a:ext cx="7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7493040" y="3122640"/>
            <a:ext cx="718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4513320" y="3067200"/>
            <a:ext cx="4451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n do you prefer Thevenin; Nort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2"/>
          <p:cNvGraphicFramePr/>
          <p:nvPr/>
        </p:nvGraphicFramePr>
        <p:xfrm>
          <a:off x="17640" y="115920"/>
          <a:ext cx="9080280" cy="66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15920"/>
                    <a:ext cx="9080280" cy="66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Box 1"/>
          <p:cNvSpPr/>
          <p:nvPr/>
        </p:nvSpPr>
        <p:spPr>
          <a:xfrm>
            <a:off x="6804000" y="1773360"/>
            <a:ext cx="2089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so mark only the key variables on each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1763640" y="3860640"/>
            <a:ext cx="3529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nk of the electrical ana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7093080" y="574560"/>
            <a:ext cx="100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F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263520" y="139680"/>
          <a:ext cx="8861400" cy="65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139680"/>
                    <a:ext cx="88614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Box 1"/>
          <p:cNvSpPr/>
          <p:nvPr/>
        </p:nvSpPr>
        <p:spPr>
          <a:xfrm>
            <a:off x="5319720" y="658800"/>
            <a:ext cx="172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y this c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7005600" y="552600"/>
            <a:ext cx="1944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y Theven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3708360" y="3213000"/>
            <a:ext cx="5256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TFLG, we show only the Mobility of each link (not the variable pair). Show only some key variables (e.g., input and outpu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506600" y="549360"/>
            <a:ext cx="3857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termine Force Transmi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79280" y="115920"/>
          <a:ext cx="8785440" cy="66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5920"/>
                    <a:ext cx="87854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Box 2"/>
          <p:cNvSpPr/>
          <p:nvPr/>
        </p:nvSpPr>
        <p:spPr>
          <a:xfrm>
            <a:off x="4427640" y="3436920"/>
            <a:ext cx="1809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y this c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7956720" y="522360"/>
            <a:ext cx="1079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y Nort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03320" y="3436920"/>
            <a:ext cx="4037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termine Motion Transmi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250920" y="260280"/>
          <a:ext cx="880092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8009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Box 2"/>
          <p:cNvSpPr/>
          <p:nvPr/>
        </p:nvSpPr>
        <p:spPr>
          <a:xfrm>
            <a:off x="2700360" y="4005360"/>
            <a:ext cx="1712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y this c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5832360" y="3821040"/>
            <a:ext cx="190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y Theven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7759800" y="2708280"/>
            <a:ext cx="1403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bined TF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974960" y="-9360"/>
            <a:ext cx="3857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termine Force Transmi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fer Function Model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250920" y="189000"/>
          <a:ext cx="8667720" cy="64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66772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Box 1"/>
          <p:cNvSpPr/>
          <p:nvPr/>
        </p:nvSpPr>
        <p:spPr>
          <a:xfrm>
            <a:off x="755640" y="5805360"/>
            <a:ext cx="7272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In the first step, force is divided inversely of Mobility.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, can use, force is divided in proportion to Imped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179280" y="0"/>
          <a:ext cx="87346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0"/>
                    <a:ext cx="87346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Box 2"/>
          <p:cNvSpPr/>
          <p:nvPr/>
        </p:nvSpPr>
        <p:spPr>
          <a:xfrm>
            <a:off x="338040" y="3478320"/>
            <a:ext cx="719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y this c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6732720" y="3755880"/>
            <a:ext cx="165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y Nort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1187280" y="6237360"/>
            <a:ext cx="2089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bined TF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-4680" y="260280"/>
            <a:ext cx="212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termine Motion Transmi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324000" y="46080"/>
          <a:ext cx="872784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6080"/>
                    <a:ext cx="872784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Box 2"/>
          <p:cNvSpPr/>
          <p:nvPr/>
        </p:nvSpPr>
        <p:spPr>
          <a:xfrm>
            <a:off x="971640" y="6500880"/>
            <a:ext cx="705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In the first step, force is divided inversely of Mo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468360" y="189000"/>
            <a:ext cx="2087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bined TF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2"/>
          <p:cNvGraphicFramePr/>
          <p:nvPr/>
        </p:nvGraphicFramePr>
        <p:xfrm>
          <a:off x="324000" y="189000"/>
          <a:ext cx="8524800" cy="62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52480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"/>
          <p:cNvSpPr/>
          <p:nvPr/>
        </p:nvSpPr>
        <p:spPr>
          <a:xfrm>
            <a:off x="6227640" y="1268280"/>
            <a:ext cx="1909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key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250920" y="189000"/>
            <a:ext cx="8713800" cy="63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Justification for the Use of Equivalent Circuit and TFLG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Associated techniques are well-established and fully-developed in the electrical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Straightforward steps are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Unified treatment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multi-physics—See later</a:t>
            </a: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) and systemat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Linear graph representation is us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nd only very few variables are 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Uses algebr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transfer functions) </a:t>
            </a: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rather than calculu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ifferential equatio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65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quivalent TFLG for Multi-domai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108000" y="189000"/>
            <a:ext cx="8856720" cy="62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quivalent TFLG of a Multi-domain TF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Decide which domain is converted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based objective; Typically,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nput domain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is converted to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output domain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Determine the Thevenin LG of subsystem to be converted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is is connected to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“input branch” of two-port element—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ransformer or gyrator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or Thevenin: 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Apply equations (constitutive, loop, node) of two-port element </a:t>
            </a:r>
            <a:r>
              <a:rPr b="1" lang="en-US" sz="2800" spc="-1" strike="noStrike">
                <a:solidFill>
                  <a:srgbClr val="262673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equivalent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-source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and generalized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mpedance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 series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or 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put domain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. This becomes 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“output branch”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of the two-port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324000" y="189000"/>
            <a:ext cx="8713800" cy="63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quivalent TFLG of Multi-domain TFLG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Notes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In step 2, we may u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Norton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equivalent LG instead of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venin 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equivalent LG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Usually, Thevenin is easier)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In Step 3, we may determine the equivalent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-source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and the equivalent generalized impedanc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 parallel 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(i.e.,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Norton.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But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venin is easier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final result will be the same with these choices. But the intermediate analysis will be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206280" y="3554280"/>
            <a:ext cx="46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Transformer-coupled LG;  Converted 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1588320" y="189000"/>
            <a:ext cx="58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Transformer-coupl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2786040" y="1046160"/>
            <a:ext cx="1641600" cy="25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Object 4"/>
          <p:cNvGraphicFramePr/>
          <p:nvPr/>
        </p:nvGraphicFramePr>
        <p:xfrm>
          <a:off x="7348680" y="1511280"/>
          <a:ext cx="103644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8680" y="1511280"/>
                    <a:ext cx="10364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4932360" y="1482840"/>
          <a:ext cx="863640" cy="42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1482840"/>
                    <a:ext cx="863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6012000" y="1390680"/>
          <a:ext cx="1044360" cy="58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2000" y="1390680"/>
                    <a:ext cx="104436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9"/>
          <p:cNvGraphicFramePr/>
          <p:nvPr/>
        </p:nvGraphicFramePr>
        <p:xfrm>
          <a:off x="6035760" y="2138400"/>
          <a:ext cx="2127240" cy="398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5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35760" y="2138400"/>
                    <a:ext cx="21272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0"/>
          <p:cNvGraphicFramePr/>
          <p:nvPr/>
        </p:nvGraphicFramePr>
        <p:xfrm>
          <a:off x="6040440" y="2673360"/>
          <a:ext cx="1095480" cy="36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40440" y="2673360"/>
                    <a:ext cx="1095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7"/>
          <p:cNvSpPr/>
          <p:nvPr/>
        </p:nvSpPr>
        <p:spPr>
          <a:xfrm>
            <a:off x="3995640" y="836280"/>
            <a:ext cx="514836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Fluid to Mechanical Conversion) </a:t>
            </a: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Constitutive Equ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262673"/>
                </a:solidFill>
                <a:latin typeface="Arial"/>
              </a:rPr>
              <a:t>;                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Loop Eq: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Node Eq: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8"/>
          <p:cNvSpPr/>
          <p:nvPr/>
        </p:nvSpPr>
        <p:spPr>
          <a:xfrm>
            <a:off x="1574280" y="8594640"/>
            <a:ext cx="8535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ry out substitutions: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1258920" y="451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37888"/>
          <p:cNvGraphicFramePr/>
          <p:nvPr/>
        </p:nvGraphicFramePr>
        <p:xfrm>
          <a:off x="684360" y="4430880"/>
          <a:ext cx="6008400" cy="401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2" name="Object 3788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4360" y="4430880"/>
                    <a:ext cx="60084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37890" descr=""/>
          <p:cNvPicPr/>
          <p:nvPr/>
        </p:nvPicPr>
        <p:blipFill>
          <a:blip r:embed="rId14"/>
          <a:stretch/>
        </p:blipFill>
        <p:spPr>
          <a:xfrm>
            <a:off x="47520" y="1014480"/>
            <a:ext cx="2446560" cy="25081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7891"/>
          <p:cNvSpPr/>
          <p:nvPr/>
        </p:nvSpPr>
        <p:spPr>
          <a:xfrm>
            <a:off x="131040" y="4070520"/>
            <a:ext cx="888156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Substitute: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6267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(because </a:t>
            </a:r>
            <a:r>
              <a:rPr b="0" i="1" lang="en-CA" sz="20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0" lang="en-CA" sz="2000" spc="-1" strike="noStrike" baseline="-25000">
                <a:solidFill>
                  <a:srgbClr val="a50021"/>
                </a:solidFill>
                <a:latin typeface="Arial"/>
              </a:rPr>
              <a:t>1</a:t>
            </a:r>
            <a:r>
              <a:rPr b="0" lang="en-CA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is reversed in the converted bran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Equivalent </a:t>
            </a:r>
            <a:r>
              <a:rPr b="1" i="1" lang="en-CA" sz="2000" spc="-1" strike="noStrike">
                <a:solidFill>
                  <a:srgbClr val="262673"/>
                </a:solidFill>
                <a:latin typeface="Arial"/>
              </a:rPr>
              <a:t>A</a:t>
            </a: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-sourc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Equivalent generalized impedance:  </a:t>
            </a: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1"/>
          <p:cNvSpPr/>
          <p:nvPr/>
        </p:nvSpPr>
        <p:spPr>
          <a:xfrm flipV="1">
            <a:off x="1116000" y="5165280"/>
            <a:ext cx="10336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37895"/>
          <p:cNvGraphicFramePr/>
          <p:nvPr/>
        </p:nvGraphicFramePr>
        <p:xfrm>
          <a:off x="1116000" y="4952880"/>
          <a:ext cx="2263680" cy="45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3789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16000" y="4952880"/>
                    <a:ext cx="22636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37897"/>
          <p:cNvGraphicFramePr/>
          <p:nvPr/>
        </p:nvGraphicFramePr>
        <p:xfrm>
          <a:off x="1116000" y="5546880"/>
          <a:ext cx="1816200" cy="407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3789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16000" y="5546880"/>
                    <a:ext cx="18162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53"/>
          <p:cNvSpPr/>
          <p:nvPr/>
        </p:nvSpPr>
        <p:spPr>
          <a:xfrm flipV="1">
            <a:off x="3206880" y="6051240"/>
            <a:ext cx="11349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37899"/>
          <p:cNvGraphicFramePr/>
          <p:nvPr/>
        </p:nvGraphicFramePr>
        <p:xfrm>
          <a:off x="3206880" y="5919840"/>
          <a:ext cx="141444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3789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06880" y="5919840"/>
                    <a:ext cx="1414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Rectangle 55"/>
          <p:cNvSpPr/>
          <p:nvPr/>
        </p:nvSpPr>
        <p:spPr>
          <a:xfrm flipV="1">
            <a:off x="4716360" y="6337800"/>
            <a:ext cx="11815920" cy="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37901"/>
          <p:cNvGraphicFramePr/>
          <p:nvPr/>
        </p:nvGraphicFramePr>
        <p:xfrm>
          <a:off x="4716360" y="6222960"/>
          <a:ext cx="955800" cy="358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6" name="Object 379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16360" y="6222960"/>
                    <a:ext cx="9558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Box 2"/>
          <p:cNvSpPr/>
          <p:nvPr/>
        </p:nvSpPr>
        <p:spPr>
          <a:xfrm>
            <a:off x="5064120" y="3127320"/>
            <a:ext cx="381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 domain conversions are done in the sam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3379680" y="3849840"/>
            <a:ext cx="1379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Theven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206280" y="3554280"/>
            <a:ext cx="46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Gyrator-coupled LG;         Converted 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045520" y="189000"/>
            <a:ext cx="49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yrator-coupl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2786040" y="1046160"/>
            <a:ext cx="1641600" cy="25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Object 4"/>
          <p:cNvGraphicFramePr/>
          <p:nvPr/>
        </p:nvGraphicFramePr>
        <p:xfrm>
          <a:off x="7348680" y="1511280"/>
          <a:ext cx="103644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8680" y="1511280"/>
                    <a:ext cx="10364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7"/>
          <p:cNvGraphicFramePr/>
          <p:nvPr/>
        </p:nvGraphicFramePr>
        <p:xfrm>
          <a:off x="4827600" y="1482840"/>
          <a:ext cx="1073160" cy="42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27600" y="1482840"/>
                    <a:ext cx="10731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8"/>
          <p:cNvGraphicFramePr/>
          <p:nvPr/>
        </p:nvGraphicFramePr>
        <p:xfrm>
          <a:off x="5962680" y="1390680"/>
          <a:ext cx="1144440" cy="58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62680" y="1390680"/>
                    <a:ext cx="11444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9"/>
          <p:cNvGraphicFramePr/>
          <p:nvPr/>
        </p:nvGraphicFramePr>
        <p:xfrm>
          <a:off x="6035760" y="2138400"/>
          <a:ext cx="2127240" cy="398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35760" y="2138400"/>
                    <a:ext cx="21272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0"/>
          <p:cNvGraphicFramePr/>
          <p:nvPr/>
        </p:nvGraphicFramePr>
        <p:xfrm>
          <a:off x="6040440" y="2673360"/>
          <a:ext cx="1095480" cy="36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1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40440" y="2673360"/>
                    <a:ext cx="1095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7"/>
          <p:cNvSpPr/>
          <p:nvPr/>
        </p:nvSpPr>
        <p:spPr>
          <a:xfrm>
            <a:off x="3924360" y="716040"/>
            <a:ext cx="528156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For Fluid to Mechanical Conversion)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Constitutiv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262673"/>
                </a:solidFill>
                <a:latin typeface="Arial"/>
              </a:rPr>
              <a:t>;                 ;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Loop Eq: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Node Eq: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8"/>
          <p:cNvSpPr/>
          <p:nvPr/>
        </p:nvSpPr>
        <p:spPr>
          <a:xfrm>
            <a:off x="1574280" y="8594640"/>
            <a:ext cx="8535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ry out substitutions: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1258920" y="451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7888"/>
          <p:cNvGraphicFramePr/>
          <p:nvPr/>
        </p:nvGraphicFramePr>
        <p:xfrm>
          <a:off x="438120" y="4129200"/>
          <a:ext cx="6335640" cy="758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6" name="Object 3788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8120" y="4129200"/>
                    <a:ext cx="63356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37891"/>
          <p:cNvSpPr/>
          <p:nvPr/>
        </p:nvSpPr>
        <p:spPr>
          <a:xfrm>
            <a:off x="205560" y="3908520"/>
            <a:ext cx="90770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Substitute: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6267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(-</a:t>
            </a:r>
            <a:r>
              <a:rPr b="0" i="1" lang="en-CA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i="1" lang="en-CA" sz="2000" spc="-1" strike="noStrike" baseline="-25000">
                <a:solidFill>
                  <a:srgbClr val="a50021"/>
                </a:solidFill>
                <a:latin typeface="Arial"/>
              </a:rPr>
              <a:t>e</a:t>
            </a:r>
            <a:r>
              <a:rPr b="0" lang="en-CA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because </a:t>
            </a:r>
            <a:r>
              <a:rPr b="0" i="1" lang="en-CA" sz="20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0" lang="en-CA" sz="2000" spc="-1" strike="noStrike" baseline="-25000">
                <a:solidFill>
                  <a:srgbClr val="a50021"/>
                </a:solidFill>
                <a:latin typeface="Arial"/>
              </a:rPr>
              <a:t>1</a:t>
            </a:r>
            <a:r>
              <a:rPr b="0" lang="en-CA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is reversed in the converted bran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Equivalent </a:t>
            </a:r>
            <a:r>
              <a:rPr b="1" i="1" lang="en-CA" sz="2000" spc="-1" strike="noStrike">
                <a:solidFill>
                  <a:srgbClr val="262673"/>
                </a:solidFill>
                <a:latin typeface="Arial"/>
              </a:rPr>
              <a:t>A</a:t>
            </a: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-sourc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62673"/>
                </a:solidFill>
                <a:latin typeface="Arial"/>
              </a:rPr>
              <a:t>Equivalent generalized impedance:  </a:t>
            </a: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1"/>
          <p:cNvSpPr/>
          <p:nvPr/>
        </p:nvSpPr>
        <p:spPr>
          <a:xfrm flipV="1">
            <a:off x="1116000" y="5165280"/>
            <a:ext cx="10336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37895"/>
          <p:cNvGraphicFramePr/>
          <p:nvPr/>
        </p:nvGraphicFramePr>
        <p:xfrm>
          <a:off x="433440" y="4761000"/>
          <a:ext cx="4199040" cy="863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0" name="Object 3789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3440" y="4761000"/>
                    <a:ext cx="4199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3"/>
          <p:cNvSpPr/>
          <p:nvPr/>
        </p:nvSpPr>
        <p:spPr>
          <a:xfrm flipV="1">
            <a:off x="3206880" y="6051240"/>
            <a:ext cx="11349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37899"/>
          <p:cNvGraphicFramePr/>
          <p:nvPr/>
        </p:nvGraphicFramePr>
        <p:xfrm>
          <a:off x="3068640" y="5681520"/>
          <a:ext cx="1630440" cy="679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84" name="Object 3789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68640" y="5681520"/>
                    <a:ext cx="163044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55"/>
          <p:cNvSpPr/>
          <p:nvPr/>
        </p:nvSpPr>
        <p:spPr>
          <a:xfrm flipV="1">
            <a:off x="4716360" y="6337800"/>
            <a:ext cx="11815920" cy="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37901"/>
          <p:cNvGraphicFramePr/>
          <p:nvPr/>
        </p:nvGraphicFramePr>
        <p:xfrm>
          <a:off x="4578480" y="6181560"/>
          <a:ext cx="936360" cy="681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7" name="Object 379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78480" y="6181560"/>
                    <a:ext cx="9363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2"/>
          <p:cNvSpPr/>
          <p:nvPr/>
        </p:nvSpPr>
        <p:spPr>
          <a:xfrm>
            <a:off x="206280" y="839880"/>
            <a:ext cx="11741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206280" y="706320"/>
          <a:ext cx="3000600" cy="2878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06280" y="706320"/>
                    <a:ext cx="30006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Box 23"/>
          <p:cNvSpPr/>
          <p:nvPr/>
        </p:nvSpPr>
        <p:spPr>
          <a:xfrm>
            <a:off x="5064120" y="3127320"/>
            <a:ext cx="381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 domain conversions are done in the sam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3365640" y="3811680"/>
            <a:ext cx="1379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Theven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395280" y="115920"/>
          <a:ext cx="8496360" cy="59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849636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324000" y="189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ixed-domain Example (Mechanical-Flu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1258920" y="11588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Heave motio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up and-down)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of a Hoverc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5003640" y="6151680"/>
            <a:ext cx="3889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Go to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t 5-slide 40 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179280" y="709560"/>
            <a:ext cx="345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 Examples 5.1 and 5.2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225360" y="5532840"/>
            <a:ext cx="168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how that the transfer function i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2"/>
          <p:cNvGraphicFramePr/>
          <p:nvPr/>
        </p:nvGraphicFramePr>
        <p:xfrm>
          <a:off x="324000" y="5986440"/>
          <a:ext cx="375732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986440"/>
                    <a:ext cx="37573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2"/>
          <p:cNvGraphicFramePr/>
          <p:nvPr/>
        </p:nvGraphicFramePr>
        <p:xfrm>
          <a:off x="1258920" y="1776240"/>
          <a:ext cx="5968800" cy="384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776240"/>
                    <a:ext cx="59688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usality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cal Realiz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399960" y="476280"/>
          <a:ext cx="8372520" cy="58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76280"/>
                    <a:ext cx="837252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1116000" y="4508640"/>
            <a:ext cx="1727280" cy="36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541440" y="187200"/>
          <a:ext cx="8267760" cy="675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87200"/>
                    <a:ext cx="8267760" cy="67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324000" y="115920"/>
          <a:ext cx="8343720" cy="57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8343720" cy="57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324000" y="189000"/>
          <a:ext cx="844848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44848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0" y="117360"/>
          <a:ext cx="9396360" cy="717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360"/>
                    <a:ext cx="9396360" cy="71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Box 1"/>
          <p:cNvSpPr/>
          <p:nvPr/>
        </p:nvSpPr>
        <p:spPr>
          <a:xfrm>
            <a:off x="2880360" y="5589720"/>
            <a:ext cx="4591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you identify relations among the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340280" y="6073920"/>
            <a:ext cx="3588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 to Part 5-Slide 8 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108000" y="334800"/>
          <a:ext cx="9036000" cy="685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34800"/>
                    <a:ext cx="9036000" cy="685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Box 1"/>
          <p:cNvSpPr/>
          <p:nvPr/>
        </p:nvSpPr>
        <p:spPr>
          <a:xfrm>
            <a:off x="3635280" y="5157720"/>
            <a:ext cx="27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ify thes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0:31Z</dcterms:created>
  <dc:creator>Jason Zhang</dc:creator>
  <dc:description/>
  <dc:language>en-US</dc:language>
  <cp:lastModifiedBy>de Silva</cp:lastModifiedBy>
  <cp:lastPrinted>2007-04-21T01:24:19Z</cp:lastPrinted>
  <dcterms:modified xsi:type="dcterms:W3CDTF">2022-03-29T20:11:56Z</dcterms:modified>
  <cp:revision>1194</cp:revision>
  <dc:subject/>
  <dc:title>Slide 1</dc:title>
</cp:coreProperties>
</file>