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28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4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49F-CE7D-4308-9AFB-08E433D6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CB4-F0FB-47DE-9BF1-FE292313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188-F709-4F2A-94E1-A0628B39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D3B-7052-4925-BC3F-64B3FC2D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E6E-3146-4EF5-BA56-629E9306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F9F-4603-4A93-B68A-471355DB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A09-51EB-4240-B21D-1B64CE0F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DD2-6E61-4A7F-873D-9B9B038B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C4D-3EC5-46C0-BCCD-44320F49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366-FE43-415C-A670-2B4BE649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CA0-248F-4E9D-B379-7C8581DD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288-EF02-4B5E-9F7E-AA1AFF0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BF22-29EB-49BB-B4C6-4373A896F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esilva@mech.ubc.c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bc.zoom.us/j/67828558769?pwd=WWZvc0tGek1qL0VaK1JtUUtNYUxwZz09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bc.zoom.us/j/69681894660?pwd=N29hOUlBUWpyQVBPeGNXT1Z0UHBNQT09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doi-org.ezproxy.library.ubc.ca/10.1201/9781315154824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393973"/>
                </a:solidFill>
                <a:latin typeface="Comic Sans MS"/>
              </a:rPr>
              <a:t>MECH 469/529 </a:t>
            </a:r>
            <a:br>
              <a:rPr sz="2500"/>
            </a:br>
            <a:r>
              <a:rPr b="1" lang="en-CA" sz="4000" spc="-1" strike="noStrike">
                <a:solidFill>
                  <a:srgbClr val="c00000"/>
                </a:solidFill>
                <a:latin typeface="Comic Sans MS"/>
              </a:rPr>
              <a:t>Modeling of Dynamic Systems</a:t>
            </a:r>
            <a:br>
              <a:rPr sz="4000"/>
            </a:br>
            <a:r>
              <a:rPr b="1" lang="en-CA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esentation Par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352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62673"/>
                </a:solidFill>
                <a:latin typeface="Times New Roman"/>
              </a:rPr>
              <a:t>Dr. Clarence W. de Silva</a:t>
            </a:r>
            <a:r>
              <a:rPr b="1" lang="en-US" sz="2400" spc="-1" strike="noStrike">
                <a:solidFill>
                  <a:srgbClr val="262673"/>
                </a:solidFill>
                <a:latin typeface="Times New Roman"/>
              </a:rPr>
              <a:t>, P.E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73"/>
                </a:solidFill>
                <a:latin typeface="Times New Roman"/>
              </a:rPr>
              <a:t>Professor of Mechanical Engine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73"/>
                </a:solidFill>
                <a:latin typeface="Times New Roman"/>
              </a:rPr>
              <a:t>The University of British Columb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73"/>
                </a:solidFill>
                <a:latin typeface="Times New Roman"/>
              </a:rPr>
              <a:t>e-mail: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esilva@mech.ubc.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urse Materia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e Canvas Course MECH 469 or MECH 5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731320" y="119160"/>
            <a:ext cx="31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ynamic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9320" y="480708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Note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Dynamic </a:t>
            </a:r>
            <a:r>
              <a:rPr b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“Rates of Changes”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 Outputs/State Variables are Not Negligible (i.e., these rates are needed in the system represent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tate variables: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present the “dynamic state” of the system. Will discuss this in detail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0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9"/>
          <p:cNvGrpSpPr/>
          <p:nvPr/>
        </p:nvGrpSpPr>
        <p:grpSpPr>
          <a:xfrm>
            <a:off x="282600" y="399960"/>
            <a:ext cx="8642160" cy="5042160"/>
            <a:chOff x="282600" y="399960"/>
            <a:chExt cx="8642160" cy="5042160"/>
          </a:xfrm>
        </p:grpSpPr>
        <p:sp>
          <p:nvSpPr>
            <p:cNvPr id="68" name="AutoShape 49"/>
            <p:cNvSpPr/>
            <p:nvPr/>
          </p:nvSpPr>
          <p:spPr>
            <a:xfrm>
              <a:off x="282600" y="399960"/>
              <a:ext cx="8642160" cy="50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48"/>
            <p:cNvSpPr/>
            <p:nvPr/>
          </p:nvSpPr>
          <p:spPr>
            <a:xfrm>
              <a:off x="1506600" y="1375560"/>
              <a:ext cx="4829040" cy="3241080"/>
            </a:xfrm>
            <a:custGeom>
              <a:avLst/>
              <a:gdLst/>
              <a:ahLst/>
              <a:rect l="l" t="t" r="r" b="b"/>
              <a:pathLst>
                <a:path w="4828" h="3240">
                  <a:moveTo>
                    <a:pt x="366" y="405"/>
                  </a:moveTo>
                  <a:cubicBezTo>
                    <a:pt x="489" y="220"/>
                    <a:pt x="851" y="185"/>
                    <a:pt x="1041" y="150"/>
                  </a:cubicBezTo>
                  <a:cubicBezTo>
                    <a:pt x="1547" y="58"/>
                    <a:pt x="2073" y="34"/>
                    <a:pt x="2586" y="0"/>
                  </a:cubicBezTo>
                  <a:cubicBezTo>
                    <a:pt x="2601" y="0"/>
                    <a:pt x="3598" y="25"/>
                    <a:pt x="3666" y="30"/>
                  </a:cubicBezTo>
                  <a:cubicBezTo>
                    <a:pt x="3879" y="46"/>
                    <a:pt x="4064" y="189"/>
                    <a:pt x="4266" y="240"/>
                  </a:cubicBezTo>
                  <a:cubicBezTo>
                    <a:pt x="4281" y="255"/>
                    <a:pt x="4293" y="273"/>
                    <a:pt x="4311" y="285"/>
                  </a:cubicBezTo>
                  <a:cubicBezTo>
                    <a:pt x="4324" y="294"/>
                    <a:pt x="4344" y="290"/>
                    <a:pt x="4356" y="300"/>
                  </a:cubicBezTo>
                  <a:cubicBezTo>
                    <a:pt x="4370" y="311"/>
                    <a:pt x="4374" y="331"/>
                    <a:pt x="4386" y="345"/>
                  </a:cubicBezTo>
                  <a:cubicBezTo>
                    <a:pt x="4495" y="476"/>
                    <a:pt x="4364" y="293"/>
                    <a:pt x="4476" y="450"/>
                  </a:cubicBezTo>
                  <a:cubicBezTo>
                    <a:pt x="4550" y="553"/>
                    <a:pt x="4587" y="676"/>
                    <a:pt x="4656" y="780"/>
                  </a:cubicBezTo>
                  <a:cubicBezTo>
                    <a:pt x="4828" y="1467"/>
                    <a:pt x="4759" y="1148"/>
                    <a:pt x="4671" y="2715"/>
                  </a:cubicBezTo>
                  <a:cubicBezTo>
                    <a:pt x="4669" y="2743"/>
                    <a:pt x="4547" y="2787"/>
                    <a:pt x="4521" y="2805"/>
                  </a:cubicBezTo>
                  <a:cubicBezTo>
                    <a:pt x="4504" y="2817"/>
                    <a:pt x="4494" y="2838"/>
                    <a:pt x="4476" y="2850"/>
                  </a:cubicBezTo>
                  <a:cubicBezTo>
                    <a:pt x="4463" y="2859"/>
                    <a:pt x="4445" y="2858"/>
                    <a:pt x="4431" y="2865"/>
                  </a:cubicBezTo>
                  <a:cubicBezTo>
                    <a:pt x="4301" y="2930"/>
                    <a:pt x="4163" y="2994"/>
                    <a:pt x="4026" y="3045"/>
                  </a:cubicBezTo>
                  <a:cubicBezTo>
                    <a:pt x="3887" y="3097"/>
                    <a:pt x="4048" y="3049"/>
                    <a:pt x="3906" y="3120"/>
                  </a:cubicBezTo>
                  <a:cubicBezTo>
                    <a:pt x="3809" y="3169"/>
                    <a:pt x="3681" y="3219"/>
                    <a:pt x="3576" y="3240"/>
                  </a:cubicBezTo>
                  <a:cubicBezTo>
                    <a:pt x="3326" y="3235"/>
                    <a:pt x="3076" y="3238"/>
                    <a:pt x="2826" y="3225"/>
                  </a:cubicBezTo>
                  <a:cubicBezTo>
                    <a:pt x="2790" y="3223"/>
                    <a:pt x="2757" y="3202"/>
                    <a:pt x="2721" y="3195"/>
                  </a:cubicBezTo>
                  <a:cubicBezTo>
                    <a:pt x="2591" y="3169"/>
                    <a:pt x="2461" y="3146"/>
                    <a:pt x="2331" y="3120"/>
                  </a:cubicBezTo>
                  <a:cubicBezTo>
                    <a:pt x="2240" y="3074"/>
                    <a:pt x="2182" y="3075"/>
                    <a:pt x="2076" y="3060"/>
                  </a:cubicBezTo>
                  <a:cubicBezTo>
                    <a:pt x="1981" y="3046"/>
                    <a:pt x="1886" y="3029"/>
                    <a:pt x="1791" y="3015"/>
                  </a:cubicBezTo>
                  <a:cubicBezTo>
                    <a:pt x="1661" y="2972"/>
                    <a:pt x="1539" y="2926"/>
                    <a:pt x="1416" y="2865"/>
                  </a:cubicBezTo>
                  <a:cubicBezTo>
                    <a:pt x="1384" y="2849"/>
                    <a:pt x="1338" y="2807"/>
                    <a:pt x="1311" y="2790"/>
                  </a:cubicBezTo>
                  <a:cubicBezTo>
                    <a:pt x="1238" y="2744"/>
                    <a:pt x="1152" y="2712"/>
                    <a:pt x="1086" y="2655"/>
                  </a:cubicBezTo>
                  <a:cubicBezTo>
                    <a:pt x="1045" y="2620"/>
                    <a:pt x="1021" y="2595"/>
                    <a:pt x="996" y="2550"/>
                  </a:cubicBezTo>
                  <a:cubicBezTo>
                    <a:pt x="985" y="2531"/>
                    <a:pt x="980" y="2507"/>
                    <a:pt x="966" y="2490"/>
                  </a:cubicBezTo>
                  <a:cubicBezTo>
                    <a:pt x="954" y="2476"/>
                    <a:pt x="935" y="2472"/>
                    <a:pt x="921" y="2460"/>
                  </a:cubicBezTo>
                  <a:cubicBezTo>
                    <a:pt x="905" y="2446"/>
                    <a:pt x="889" y="2432"/>
                    <a:pt x="876" y="2415"/>
                  </a:cubicBezTo>
                  <a:cubicBezTo>
                    <a:pt x="859" y="2392"/>
                    <a:pt x="849" y="2363"/>
                    <a:pt x="831" y="2340"/>
                  </a:cubicBezTo>
                  <a:cubicBezTo>
                    <a:pt x="795" y="2293"/>
                    <a:pt x="757" y="2270"/>
                    <a:pt x="711" y="2235"/>
                  </a:cubicBezTo>
                  <a:cubicBezTo>
                    <a:pt x="686" y="2159"/>
                    <a:pt x="639" y="2117"/>
                    <a:pt x="576" y="2070"/>
                  </a:cubicBezTo>
                  <a:cubicBezTo>
                    <a:pt x="558" y="2016"/>
                    <a:pt x="567" y="2029"/>
                    <a:pt x="531" y="1980"/>
                  </a:cubicBezTo>
                  <a:cubicBezTo>
                    <a:pt x="502" y="1940"/>
                    <a:pt x="441" y="1860"/>
                    <a:pt x="441" y="1860"/>
                  </a:cubicBezTo>
                  <a:cubicBezTo>
                    <a:pt x="419" y="1793"/>
                    <a:pt x="386" y="1745"/>
                    <a:pt x="336" y="1695"/>
                  </a:cubicBezTo>
                  <a:cubicBezTo>
                    <a:pt x="259" y="1463"/>
                    <a:pt x="347" y="1703"/>
                    <a:pt x="276" y="1560"/>
                  </a:cubicBezTo>
                  <a:cubicBezTo>
                    <a:pt x="269" y="1546"/>
                    <a:pt x="270" y="1528"/>
                    <a:pt x="261" y="1515"/>
                  </a:cubicBezTo>
                  <a:cubicBezTo>
                    <a:pt x="249" y="1497"/>
                    <a:pt x="229" y="1487"/>
                    <a:pt x="216" y="1470"/>
                  </a:cubicBezTo>
                  <a:cubicBezTo>
                    <a:pt x="194" y="1442"/>
                    <a:pt x="176" y="1410"/>
                    <a:pt x="156" y="1380"/>
                  </a:cubicBezTo>
                  <a:cubicBezTo>
                    <a:pt x="101" y="1298"/>
                    <a:pt x="65" y="1212"/>
                    <a:pt x="21" y="1125"/>
                  </a:cubicBezTo>
                  <a:cubicBezTo>
                    <a:pt x="37" y="748"/>
                    <a:pt x="0" y="889"/>
                    <a:pt x="66" y="690"/>
                  </a:cubicBezTo>
                  <a:cubicBezTo>
                    <a:pt x="73" y="670"/>
                    <a:pt x="98" y="662"/>
                    <a:pt x="111" y="645"/>
                  </a:cubicBezTo>
                  <a:cubicBezTo>
                    <a:pt x="159" y="583"/>
                    <a:pt x="152" y="553"/>
                    <a:pt x="216" y="525"/>
                  </a:cubicBezTo>
                  <a:cubicBezTo>
                    <a:pt x="245" y="512"/>
                    <a:pt x="306" y="495"/>
                    <a:pt x="306" y="495"/>
                  </a:cubicBezTo>
                  <a:cubicBezTo>
                    <a:pt x="311" y="480"/>
                    <a:pt x="310" y="461"/>
                    <a:pt x="321" y="450"/>
                  </a:cubicBezTo>
                  <a:cubicBezTo>
                    <a:pt x="375" y="396"/>
                    <a:pt x="366" y="474"/>
                    <a:pt x="366" y="405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7"/>
            <p:cNvSpPr/>
            <p:nvPr/>
          </p:nvSpPr>
          <p:spPr>
            <a:xfrm rot="20410800">
              <a:off x="570240" y="3460680"/>
              <a:ext cx="1440360" cy="179640"/>
            </a:xfrm>
            <a:prstGeom prst="rightArrow">
              <a:avLst>
                <a:gd name="adj1" fmla="val 50000"/>
                <a:gd name="adj2" fmla="val 200451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6"/>
            <p:cNvSpPr/>
            <p:nvPr/>
          </p:nvSpPr>
          <p:spPr>
            <a:xfrm rot="20410800">
              <a:off x="6224040" y="2379960"/>
              <a:ext cx="1440000" cy="179640"/>
            </a:xfrm>
            <a:prstGeom prst="rightArrow">
              <a:avLst>
                <a:gd name="adj1" fmla="val 50000"/>
                <a:gd name="adj2" fmla="val 200401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45"/>
            <p:cNvSpPr/>
            <p:nvPr/>
          </p:nvSpPr>
          <p:spPr>
            <a:xfrm>
              <a:off x="6800040" y="3503160"/>
              <a:ext cx="19803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System Bound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4"/>
            <p:cNvSpPr/>
            <p:nvPr/>
          </p:nvSpPr>
          <p:spPr>
            <a:xfrm>
              <a:off x="354240" y="3738960"/>
              <a:ext cx="2304360" cy="7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Inputs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Excit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43"/>
            <p:cNvSpPr/>
            <p:nvPr/>
          </p:nvSpPr>
          <p:spPr>
            <a:xfrm>
              <a:off x="6944040" y="1519200"/>
              <a:ext cx="198072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Outputs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Respo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42"/>
            <p:cNvSpPr/>
            <p:nvPr/>
          </p:nvSpPr>
          <p:spPr>
            <a:xfrm>
              <a:off x="2262960" y="1768680"/>
              <a:ext cx="3780720" cy="20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Dynamic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(State Variable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System Parameter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1"/>
            <p:cNvSpPr/>
            <p:nvPr/>
          </p:nvSpPr>
          <p:spPr>
            <a:xfrm>
              <a:off x="1547280" y="961200"/>
              <a:ext cx="244836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0"/>
            <p:cNvSpPr/>
            <p:nvPr/>
          </p:nvSpPr>
          <p:spPr>
            <a:xfrm flipH="1" flipV="1">
              <a:off x="6256080" y="3664440"/>
              <a:ext cx="54324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1"/>
          <p:cNvSpPr/>
          <p:nvPr/>
        </p:nvSpPr>
        <p:spPr>
          <a:xfrm>
            <a:off x="2556000" y="5456160"/>
            <a:ext cx="64753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What are analytical implications of this state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What is Caus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4856040" y="706320"/>
            <a:ext cx="4175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t aspects are missing from this model, for completen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176040" y="39600"/>
          <a:ext cx="8761680" cy="660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39600"/>
                    <a:ext cx="8761680" cy="660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1042920" y="260280"/>
          <a:ext cx="7493040" cy="63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0280"/>
                    <a:ext cx="7493040" cy="63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Box 1"/>
          <p:cNvSpPr/>
          <p:nvPr/>
        </p:nvSpPr>
        <p:spPr>
          <a:xfrm>
            <a:off x="250920" y="5661000"/>
            <a:ext cx="8424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Give some undesirable/unintentional inputs and undesirable outputs for each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556000" y="63165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e Slide 12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755640" y="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ynamic System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utomated Guideway Transit (AGT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258920" y="946080"/>
            <a:ext cx="71755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964720" cy="66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PMingLiU"/>
              </a:rPr>
              <a:t>High-Speed Ground Tran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PMingLiU"/>
              </a:rPr>
              <a:t>The Sky Train in Vancouver, Canada—A Modern Automated Transi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Fig 1"/>
          <p:cNvPicPr/>
          <p:nvPr/>
        </p:nvPicPr>
        <p:blipFill>
          <a:blip r:embed="rId1"/>
          <a:stretch/>
        </p:blipFill>
        <p:spPr>
          <a:xfrm>
            <a:off x="250920" y="1268280"/>
            <a:ext cx="86803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PMingLiU"/>
              </a:rPr>
              <a:t>Aircraft—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PMingLiU"/>
              </a:rPr>
              <a:t>A Complex Enginee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200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95280" y="835200"/>
            <a:ext cx="8404200" cy="5702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907920" y="189000"/>
            <a:ext cx="78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 VISION-BASED WAFER INSPECTION 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755640" y="11592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A MACHINE TOOL, WHICH NEEDS ACCU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://www.bii1.com/images/milling-machines/VM-942-large.jpg"/>
          <p:cNvPicPr/>
          <p:nvPr/>
        </p:nvPicPr>
        <p:blipFill>
          <a:blip r:embed="rId1"/>
          <a:stretch/>
        </p:blipFill>
        <p:spPr>
          <a:xfrm>
            <a:off x="2268360" y="1052640"/>
            <a:ext cx="518328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754200" y="76320"/>
          <a:ext cx="8078760" cy="63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76320"/>
                    <a:ext cx="80787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Box 1"/>
          <p:cNvSpPr/>
          <p:nvPr/>
        </p:nvSpPr>
        <p:spPr>
          <a:xfrm>
            <a:off x="2062080" y="5805360"/>
            <a:ext cx="677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: Will go beyond the traditional mechatronic approach (integrated), and include unified (analogous) approaches </a:t>
            </a:r>
            <a:r>
              <a:rPr b="1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 uniqu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6186600" y="620640"/>
            <a:ext cx="280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What is qualifi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6202440" y="3500280"/>
            <a:ext cx="279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What is Mechatron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320760" y="189000"/>
          <a:ext cx="8663040" cy="911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189000"/>
                    <a:ext cx="8663040" cy="91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Box 1"/>
          <p:cNvSpPr/>
          <p:nvPr/>
        </p:nvSpPr>
        <p:spPr>
          <a:xfrm>
            <a:off x="4084560" y="4748040"/>
            <a:ext cx="4681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What is the “best” type of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3564000" y="6184800"/>
            <a:ext cx="572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Note the implication of “approximation” in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7667640" y="37051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95280" y="-1695600"/>
            <a:ext cx="856944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SimSun"/>
              </a:rPr>
              <a:t>MECH 469/5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SimSun"/>
              </a:rPr>
              <a:t>Modelling of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SimSun"/>
              </a:rPr>
              <a:t>3 Credits, Second Term, 2021/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SimSun"/>
              </a:rPr>
              <a:t>Course Web Sit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SimSun"/>
              </a:rPr>
              <a:t>UBC Canvas. The class lectures are simultaneously taught via Zoom (hybrid). The Zoom recordings are posted on Can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SimSun"/>
              </a:rPr>
              <a:t>Material Posted on Canva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Course syllabus, exam requirements, lecture ppt notes, lecture recordings, homework assignments (not graded) and solutions, in-class examples and solutions, past exams and solutio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Zoon link: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https://ubc.zoom.us/j/67828558769?pwd=WWZvc0tGek1qL0VaK1JtUUtNYUxwZz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eeting ID: 678 2855 8769; Passcode: 9557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SimSun"/>
              </a:rPr>
              <a:t>The course will be taught via Zoom (not in-person) at least until February 17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  <a:ea typeface="SimSun"/>
              </a:rPr>
              <a:t>th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SimSu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Class Times and Location: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Tuesdays and Thursdays, 5:00 to 6:30 pm, FORW 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Instructor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SimSun"/>
              </a:rPr>
              <a:t>               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SimSu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r. Clarence W. de Silva, Professor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-mail: desilva@mech.ubc.c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Office Hours: Please email me with your issue, I will arrange a personal meeting if I cannot address your question fully via email</a:t>
            </a:r>
            <a:r>
              <a:rPr b="0" lang="pt-BR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Teaching Assistant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r. Jing W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-mail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 jing@ece.ubc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Office Hour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SimSun"/>
              </a:rPr>
              <a:t>(Possibly after February 17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  <a:ea typeface="SimSun"/>
              </a:rPr>
              <a:t>th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SimSun"/>
              </a:rPr>
              <a:t>)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:  Monday 14:00 PM – 15:00 PM Kaiser 40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-181080" y="260280"/>
          <a:ext cx="9087120" cy="620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260280"/>
                    <a:ext cx="908712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Box 1"/>
          <p:cNvSpPr/>
          <p:nvPr/>
        </p:nvSpPr>
        <p:spPr>
          <a:xfrm>
            <a:off x="3780000" y="1484280"/>
            <a:ext cx="180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250920" y="189000"/>
          <a:ext cx="8653320" cy="57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65332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Box 1"/>
          <p:cNvSpPr/>
          <p:nvPr/>
        </p:nvSpPr>
        <p:spPr>
          <a:xfrm>
            <a:off x="4284720" y="27147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6156360" y="27147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1692360" y="597996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3300"/>
                </a:solidFill>
                <a:latin typeface="Arial"/>
              </a:rPr>
              <a:t>Any others advanta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3300"/>
                </a:solidFill>
                <a:latin typeface="Arial"/>
              </a:rPr>
              <a:t>Bottlene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243480" y="3357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e Slide 21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8751960" cy="685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75196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Box 1"/>
          <p:cNvSpPr/>
          <p:nvPr/>
        </p:nvSpPr>
        <p:spPr>
          <a:xfrm>
            <a:off x="3924360" y="2276640"/>
            <a:ext cx="34797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Arial"/>
              </a:rPr>
              <a:t>Why called Non-autonomou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5992920" y="631800"/>
            <a:ext cx="16570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Arial"/>
              </a:rPr>
              <a:t>What is P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2004840" y="6383160"/>
            <a:ext cx="7058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0000"/>
                </a:solidFill>
                <a:latin typeface="Arial"/>
              </a:rPr>
              <a:t>What happens when a continuous-time (analog) signal is discretized (sampled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6192720" y="22320"/>
            <a:ext cx="2914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Concepts of approx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050920" y="11592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mic Sans MS"/>
              </a:rPr>
              <a:t>Linear and Nonlinea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260280" y="917640"/>
            <a:ext cx="75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a50021"/>
                </a:solidFill>
                <a:latin typeface="Arial"/>
              </a:rPr>
              <a:t>Linear Model (represented by a  linear differential eq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33280" y="4508640"/>
            <a:ext cx="75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a50021"/>
                </a:solidFill>
                <a:latin typeface="Arial"/>
              </a:rPr>
              <a:t>Nonlinear Model (represented by a  nonlinear differential eq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421160" y="1341360"/>
            <a:ext cx="4334040" cy="261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1" descr=""/>
          <p:cNvPicPr/>
          <p:nvPr/>
        </p:nvPicPr>
        <p:blipFill>
          <a:blip r:embed="rId2"/>
          <a:stretch/>
        </p:blipFill>
        <p:spPr>
          <a:xfrm>
            <a:off x="393840" y="2306520"/>
            <a:ext cx="3890880" cy="663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4" descr=""/>
          <p:cNvPicPr/>
          <p:nvPr/>
        </p:nvPicPr>
        <p:blipFill>
          <a:blip r:embed="rId3"/>
          <a:stretch/>
        </p:blipFill>
        <p:spPr>
          <a:xfrm>
            <a:off x="1116000" y="5089680"/>
            <a:ext cx="5796000" cy="8143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2268360" y="6021360"/>
            <a:ext cx="244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linear 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3203640" y="533520"/>
            <a:ext cx="280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nlinear vs 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050920" y="115920"/>
            <a:ext cx="39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mic Sans MS"/>
              </a:rPr>
              <a:t>Principle of Super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4514760" cy="3679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5148360" y="2070000"/>
            <a:ext cx="359892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5580000" y="1628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a50021"/>
                </a:solidFill>
                <a:latin typeface="Arial"/>
              </a:rPr>
              <a:t>(b) Multivariable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60280" y="917640"/>
            <a:ext cx="38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a50021"/>
                </a:solidFill>
                <a:latin typeface="Arial"/>
              </a:rPr>
              <a:t>(a) Multivariable case (v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1619280" y="193680"/>
            <a:ext cx="60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mic Sans MS"/>
              </a:rPr>
              <a:t>Interchangeability in Series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260280" y="917640"/>
            <a:ext cx="82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a50021"/>
                </a:solidFill>
                <a:latin typeface="Arial"/>
              </a:rPr>
              <a:t>For a nonlinear SISO system, the following interchangeability may not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23880" y="1773360"/>
            <a:ext cx="7732800" cy="3384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260280" y="5289480"/>
            <a:ext cx="848844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Nonlinear example where interchangeability in series is vio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See Example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395280" y="6129360"/>
            <a:ext cx="8424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For an “noncommutative” MIMO system, interchangeability does not hold, unless “commutat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1476360" y="936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mic Sans MS"/>
              </a:rPr>
              <a:t>Discretization of a Continuous-tim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mic Sans MS"/>
              </a:rPr>
              <a:t>(Shannon’s sampling Theo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6516720" y="10206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a50021"/>
                </a:solidFill>
                <a:latin typeface="Arial"/>
              </a:rPr>
              <a:t>Ali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34920" y="83016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a50021"/>
                </a:solidFill>
                <a:latin typeface="Arial"/>
              </a:rPr>
              <a:t>Discretization (samp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79280" y="1200240"/>
            <a:ext cx="4753080" cy="210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4098960" cy="52862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7"/>
          <p:cNvSpPr/>
          <p:nvPr/>
        </p:nvSpPr>
        <p:spPr>
          <a:xfrm>
            <a:off x="203040" y="5877000"/>
            <a:ext cx="5232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Give 2 methods for reducing/eliminating alia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03040" y="3591000"/>
            <a:ext cx="4800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yquist freq = half of sampling f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Note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: Original spectrum is symmetric abou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When sampled, this spectrum is repeated at all sampling frequency periods (can pr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3527280" y="887400"/>
            <a:ext cx="2810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Continuous vs Dis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176040" y="-98280"/>
          <a:ext cx="888876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-98280"/>
                    <a:ext cx="888876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Box 2"/>
          <p:cNvSpPr/>
          <p:nvPr/>
        </p:nvSpPr>
        <p:spPr>
          <a:xfrm>
            <a:off x="3492360" y="4797360"/>
            <a:ext cx="280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istributed vs L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179280" y="189000"/>
          <a:ext cx="8915400" cy="66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91540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Box 1"/>
          <p:cNvSpPr/>
          <p:nvPr/>
        </p:nvSpPr>
        <p:spPr>
          <a:xfrm>
            <a:off x="5219640" y="1341360"/>
            <a:ext cx="36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We use “Energy Equivale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3780000" y="1989000"/>
            <a:ext cx="4895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Why don’t we  need to consider “potential energy equivalence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6443640" y="4724280"/>
            <a:ext cx="1944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Assump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176040" y="61920"/>
          <a:ext cx="893448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61920"/>
                    <a:ext cx="893448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Box 1"/>
          <p:cNvSpPr/>
          <p:nvPr/>
        </p:nvSpPr>
        <p:spPr>
          <a:xfrm>
            <a:off x="176040" y="5805360"/>
            <a:ext cx="878544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This result is from “</a:t>
            </a:r>
            <a:r>
              <a:rPr b="1" lang="en-CA" sz="1800" spc="-1" strike="noStrike">
                <a:solidFill>
                  <a:srgbClr val="161645"/>
                </a:solidFill>
                <a:latin typeface="Arial"/>
              </a:rPr>
              <a:t>energy equivalence</a:t>
            </a: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Give another type of equivalence that may be used. Would the result be the same? See Example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24000" y="189000"/>
            <a:ext cx="8208720" cy="62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SimSun"/>
              </a:rPr>
              <a:t>MECH 469/5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SimSun"/>
              </a:rPr>
              <a:t>Modelling of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SimSun"/>
              </a:rPr>
              <a:t>3 Credits, Second Term, 2021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SimSun"/>
              </a:rPr>
              <a:t>Class Times: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uesdays and Thursdays, 5:00 to 6:30 p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SimSun"/>
              </a:rPr>
              <a:t>; Zoom Link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SimSun"/>
                <a:hlinkClick r:id="rId1"/>
              </a:rPr>
              <a:t>https://ubc.zoom.us/j/69681894660?pwd=N29hOUlBUWpyQVBPeGNXT1Z0UHBNQT09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Passcode: 76600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SimSu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SimSun"/>
              </a:rPr>
              <a:t>See Canvas: For lecture recordings link and all cours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SimSu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SimSun"/>
              </a:rPr>
              <a:t>Instructor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SimSun"/>
              </a:rPr>
              <a:t>           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SimSun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r. Clarence W. de Silva, Professor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e-mail: desilva@mech.ubc.ca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2060"/>
                </a:solidFill>
                <a:uFillTx/>
                <a:latin typeface="Times New Roman"/>
                <a:ea typeface="SimSun"/>
              </a:rPr>
              <a:t>Office Hours:</a:t>
            </a:r>
            <a:r>
              <a:rPr b="0" lang="pt-BR" sz="2000" spc="-1" strike="noStrike">
                <a:solidFill>
                  <a:srgbClr val="002060"/>
                </a:solidFill>
                <a:latin typeface="Times New Roman"/>
                <a:ea typeface="SimSun"/>
              </a:rPr>
              <a:t> </a:t>
            </a:r>
            <a:r>
              <a:rPr b="1" lang="pt-BR" sz="2000" spc="-1" strike="noStrike">
                <a:solidFill>
                  <a:srgbClr val="002060"/>
                </a:solidFill>
                <a:latin typeface="Times New Roman"/>
                <a:ea typeface="SimSun"/>
              </a:rPr>
              <a:t>Please email me with your issue. I will arrange a personal Zoom meeting if I cannot address your question fully via emai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SimSun"/>
              </a:rPr>
              <a:t>Teaching Assistan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r. Jing Wang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email: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 jing@ece.ubc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SimSun"/>
              </a:rPr>
              <a:t>Office Hours :  Monday 14:00–15:00 PM via email/Zo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SimSun"/>
              </a:rPr>
              <a:t>Kaiser 4060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SimSun"/>
              </a:rPr>
              <a:t>(Possibly After Feabruary 07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SimSun"/>
              </a:rPr>
              <a:t>th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"/>
          <p:cNvGraphicFramePr/>
          <p:nvPr/>
        </p:nvGraphicFramePr>
        <p:xfrm>
          <a:off x="254160" y="189000"/>
          <a:ext cx="8781840" cy="71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89000"/>
                    <a:ext cx="8781840" cy="71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3172320" y="-1080"/>
            <a:ext cx="29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SimSun"/>
              </a:rPr>
              <a:t>MECH 469/529 COURSE LAY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306360"/>
          <a:ext cx="8928000" cy="6564240"/>
        </p:xfrm>
        <a:graphic>
          <a:graphicData uri="http://schemas.openxmlformats.org/drawingml/2006/table">
            <a:tbl>
              <a:tblPr/>
              <a:tblGrid>
                <a:gridCol w="782640"/>
                <a:gridCol w="2579760"/>
                <a:gridCol w="3936960"/>
                <a:gridCol w="1628640"/>
              </a:tblGrid>
              <a:tr h="504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St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Read from Text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hapte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Types, Ana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hapte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Syste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hapte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id Syste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hapte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al Syste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hapte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ical/State-space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hapte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ading Break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Linear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hapte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 Grap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hapter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4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, March 15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Models from Linear Grap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termediate Exa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n class or take-ho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hapter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 Function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hapter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venin/Norton Equivalent Circu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Linear Graph 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hapter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, April 07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nal-take home exa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pril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57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hursday, April 14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l Exam (pdf) Due via email by 5:00 pm  Thursday, April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135800" y="118080"/>
            <a:ext cx="70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SimSun"/>
              </a:rPr>
              <a:t>MECH 469/529 Grade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79280" y="695160"/>
            <a:ext cx="878544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SimSun"/>
              </a:rPr>
              <a:t>Examin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arch 15, 2022 (Tuesday): Intermediate Examination (During Class or Take-home, depending on the situ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pril 07, 2022 (Thursday): Final Take-home Exam given out (from Can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pril 14, 2022 (Tuesday): Final Take-home Exam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SimSun"/>
              </a:rPr>
              <a:t>(a pdf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ue via email by 5:00 p.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SimSun"/>
              </a:rPr>
              <a:t>Resources Needed by the Students for the Exa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SimSun"/>
              </a:rPr>
              <a:t>Ruled papers and 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SimSun"/>
              </a:rPr>
              <a:t>Reliable Internet connection (if on 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SimSun"/>
              </a:rPr>
              <a:t>Grade Com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ermediate examination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omework Assignments                                          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inal take-home examin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otal                   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92160" y="11160"/>
            <a:ext cx="90518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urs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following material will be posted at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course site of Canv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cture presentations (ppt) and URL of the lecture recor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ed Examples (In-class, inter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st Exams and Solutions (both mid-term &amp; fi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309600" y="4437000"/>
            <a:ext cx="8524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Text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Silva, C.W.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deling of Dynamic Syst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aylor &amp; Francis/CRC Press, Boca Raton, FL, 2018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E-book is available from the UBC library, a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doi-org.ezproxy.library.ubc.ca/10.1201/97813151548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0" y="401400"/>
            <a:ext cx="91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SimSun"/>
              </a:rPr>
              <a:t>Cours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SimSun"/>
              </a:rPr>
              <a:t>Methodologies of understanding and modeling a physical engineering dynamic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SimSun"/>
              </a:rPr>
              <a:t>Empha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dures of analytical modeling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SimSun"/>
              </a:rPr>
              <a:t>Systematic, Unified, Integrated Approach to Modeling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echanical, thermal, fluid, and electrical, systems,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SimSun"/>
              </a:rPr>
              <a:t>leading to a “unique” model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fferent types and uses of model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SimSun"/>
              </a:rPr>
              <a:t>Analogies among the four physical domai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SimSun"/>
              </a:rPr>
              <a:t>Multi-domain (or Multi-physics or Mixed) Systems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y have two or more basic system types (physical domai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SimSun"/>
              </a:rPr>
              <a:t>Lumped Eleme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sources, capacitors, inductors, and resistors) in different physical dom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SimSun"/>
              </a:rPr>
              <a:t>Through- and Across-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SimSun"/>
              </a:rPr>
              <a:t>Systematic Tool of Modeling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SimSu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near graphs, Transfer fun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SimSun"/>
              </a:rPr>
              <a:t>Important Considerations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put, output, causality, system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763640" y="6262560"/>
            <a:ext cx="705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member and understand the key terms mention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55640" y="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nalytical Model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utomated Guideway Transit (AGT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5292720" cy="241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3610080" cy="5950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68360" y="4581360"/>
            <a:ext cx="4680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3300"/>
                </a:solidFill>
                <a:latin typeface="Arial"/>
              </a:rPr>
              <a:t>What aspects have been modeled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3300"/>
                </a:solidFill>
                <a:latin typeface="Arial"/>
              </a:rPr>
              <a:t>What other aspects may be mode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332000" y="18900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nalytical Model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uter Hard Disk Drive (H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248360" cy="290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356000" y="1125360"/>
            <a:ext cx="4614840" cy="456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250920" y="4653000"/>
            <a:ext cx="4278240" cy="1847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4211640" y="5877000"/>
            <a:ext cx="4681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3300"/>
                </a:solidFill>
                <a:latin typeface="Arial"/>
              </a:rPr>
              <a:t>What aspects have been modeled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3300"/>
                </a:solidFill>
                <a:latin typeface="Arial"/>
              </a:rPr>
              <a:t>What other aspects may be mode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0:31Z</dcterms:created>
  <dc:creator>Jason Zhang</dc:creator>
  <dc:description/>
  <dc:language>en-US</dc:language>
  <cp:lastModifiedBy>de Silva</cp:lastModifiedBy>
  <cp:lastPrinted>2011-01-06T21:21:55Z</cp:lastPrinted>
  <dcterms:modified xsi:type="dcterms:W3CDTF">2022-02-03T22:10:51Z</dcterms:modified>
  <cp:revision>466</cp:revision>
  <dc:subject/>
  <dc:title>Slide 1</dc:title>
</cp:coreProperties>
</file>