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14BA-2D41-412A-A1E4-3E8957A21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FEBC-C278-4EF0-BA8E-1D5E791DD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F70A-47F7-4C04-8D7E-8E3187DB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F3D5-053F-4BDB-9DE2-8BAB2CD4C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B30-BC3F-4363-8084-06BB91B19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CB18-0DF8-4251-8F6D-A108B7AF0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02A1-73BB-4D04-9B59-E8ECB7F9C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5DBE-A504-44DF-BDBE-2A5F2A9D2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7BF0-43DA-4314-826D-C9D9A43C0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4488-DB25-407E-B5AF-012613D97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97DF-28A2-49DF-AB83-410E0FC5D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FF7A-4FED-4D3B-8FED-BCF524850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EA86-8C8F-467B-AEF4-124F100B9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E1C2-A8F1-4F04-96FD-D7639FBC6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B52-7561-472F-BE11-DCDB613D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367-E685-4F19-87C3-1C729478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3B0-F48C-4A44-AB1E-35066E30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4E7-5622-47B5-9235-8BD25E28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11C7-BBBF-40A2-AAF6-F5AAB846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A310-E869-4CFE-81FC-377ADB59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19F6-1A22-482A-B899-99670F5D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68E2-4D8B-486F-8D10-50148552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5416-F5A2-48AD-8F81-0DE36959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1F44-2540-49E1-9296-0863F022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CDA6-4D8C-4D40-A110-6916D072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4ED-445C-41FA-9F47-3ABF00AC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6E77-23BB-4681-A515-82F268D1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4576-95E7-40AB-954D-3A6648C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7609-7730-476D-9424-2E7533F2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B034-5284-4299-98D4-26B236BC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B06A-FFD7-492A-8A24-44F6291B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DE5-D2A3-472A-AC8E-FE45BB79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6CA-2AB8-4290-ABB4-63E377F6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0B2-1891-4435-B6C4-1F4FDA8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429-1E13-45A3-9B77-B207B12C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DF3-C726-4F9B-A78C-307A471D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ECF-9178-4C61-AB54-0EACBFA0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A1E-B6E9-4064-AC59-412E5017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4F1C-9E27-4CB5-A93F-7642403E9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93FB-B3A4-45A3-A65A-DF5501999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esilva@mech.ubc.c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393973"/>
                </a:solidFill>
                <a:latin typeface="Comic Sans MS"/>
              </a:rPr>
              <a:t>MECH 469/529 </a:t>
            </a:r>
            <a:br>
              <a:rPr sz="2500"/>
            </a:br>
            <a:r>
              <a:rPr b="1" lang="en-CA" sz="4000" spc="-1" strike="noStrike">
                <a:solidFill>
                  <a:srgbClr val="a50021"/>
                </a:solidFill>
                <a:latin typeface="Comic Sans MS"/>
              </a:rPr>
              <a:t>Dynamic System Modeling</a:t>
            </a:r>
            <a:br>
              <a:rPr sz="4000"/>
            </a:br>
            <a:r>
              <a:rPr b="1" lang="en-C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entation Part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3352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62673"/>
                </a:solidFill>
                <a:latin typeface="Times New Roman"/>
              </a:rPr>
              <a:t>Dr. Clarence W. de Silva</a:t>
            </a:r>
            <a:r>
              <a:rPr b="1" lang="en-US" sz="2400" spc="-1" strike="noStrike">
                <a:solidFill>
                  <a:srgbClr val="262673"/>
                </a:solidFill>
                <a:latin typeface="Times New Roman"/>
              </a:rPr>
              <a:t>, P.E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73"/>
                </a:solidFill>
                <a:latin typeface="Times New Roman"/>
              </a:rPr>
              <a:t>Professor of Mechanical Engine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73"/>
                </a:solidFill>
                <a:latin typeface="Times New Roman"/>
              </a:rPr>
              <a:t>The University of British Columb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73"/>
                </a:solidFill>
                <a:latin typeface="Times New Roman"/>
              </a:rPr>
              <a:t>e-mail: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esilva@mech.ubc.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urse Material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 to Canvas Course MECH 469 or MECH 5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baseline="30000">
                <a:solidFill>
                  <a:srgbClr val="262673"/>
                </a:solidFill>
                <a:latin typeface="Symbol"/>
                <a:ea typeface="Symbol"/>
              </a:rPr>
              <a:t></a:t>
            </a:r>
            <a:r>
              <a:rPr b="1" lang="en-US" sz="2500" spc="-1" strike="noStrike">
                <a:solidFill>
                  <a:srgbClr val="262673"/>
                </a:solidFill>
                <a:latin typeface="Times New Roman"/>
                <a:ea typeface="SimSun"/>
              </a:rPr>
              <a:t>C.W. de Silva</a:t>
            </a:r>
            <a:r>
              <a:rPr b="1" lang="en-CA" sz="2500" spc="-1" strike="noStrike">
                <a:solidFill>
                  <a:srgbClr val="262673"/>
                </a:solidFill>
                <a:latin typeface="Times New Roman"/>
                <a:ea typeface="SimSu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332000" y="189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Linearized System Mat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08000" y="1125360"/>
          <a:ext cx="514188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514188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"/>
          <p:cNvGraphicFramePr/>
          <p:nvPr/>
        </p:nvGraphicFramePr>
        <p:xfrm>
          <a:off x="5435640" y="1157400"/>
          <a:ext cx="3624120" cy="27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1157400"/>
                    <a:ext cx="362412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Box 7"/>
          <p:cNvSpPr/>
          <p:nvPr/>
        </p:nvSpPr>
        <p:spPr>
          <a:xfrm>
            <a:off x="5127480" y="2232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1476360" y="18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ractical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2"/>
          <p:cNvGraphicFramePr/>
          <p:nvPr/>
        </p:nvGraphicFramePr>
        <p:xfrm>
          <a:off x="6956280" y="1989000"/>
          <a:ext cx="209520" cy="161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6280" y="1989000"/>
                    <a:ext cx="2095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1665360" y="2068560"/>
          <a:ext cx="20952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5360" y="2068560"/>
                    <a:ext cx="2095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4"/>
          <p:cNvGraphicFramePr/>
          <p:nvPr/>
        </p:nvGraphicFramePr>
        <p:xfrm>
          <a:off x="4486320" y="2027160"/>
          <a:ext cx="20952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6320" y="2027160"/>
                    <a:ext cx="2095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Group 4"/>
          <p:cNvGrpSpPr/>
          <p:nvPr/>
        </p:nvGrpSpPr>
        <p:grpSpPr>
          <a:xfrm>
            <a:off x="353880" y="1136520"/>
            <a:ext cx="7806960" cy="2061720"/>
            <a:chOff x="353880" y="1136520"/>
            <a:chExt cx="7806960" cy="2061720"/>
          </a:xfrm>
        </p:grpSpPr>
        <p:sp>
          <p:nvSpPr>
            <p:cNvPr id="132" name="Line 44"/>
            <p:cNvSpPr/>
            <p:nvPr/>
          </p:nvSpPr>
          <p:spPr>
            <a:xfrm>
              <a:off x="795240" y="2225520"/>
              <a:ext cx="210492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3"/>
            <p:cNvSpPr/>
            <p:nvPr/>
          </p:nvSpPr>
          <p:spPr>
            <a:xfrm flipV="1">
              <a:off x="1852560" y="1225080"/>
              <a:ext cx="360" cy="1943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40"/>
            <p:cNvGrpSpPr/>
            <p:nvPr/>
          </p:nvGrpSpPr>
          <p:grpSpPr>
            <a:xfrm>
              <a:off x="1847520" y="1550880"/>
              <a:ext cx="847800" cy="679320"/>
              <a:chOff x="1847520" y="1550880"/>
              <a:chExt cx="847800" cy="679320"/>
            </a:xfrm>
          </p:grpSpPr>
          <p:sp>
            <p:nvSpPr>
              <p:cNvPr id="135" name="Freeform 42"/>
              <p:cNvSpPr/>
              <p:nvPr/>
            </p:nvSpPr>
            <p:spPr>
              <a:xfrm>
                <a:off x="2193120" y="1550880"/>
                <a:ext cx="502200" cy="190440"/>
              </a:xfrm>
              <a:custGeom>
                <a:avLst/>
                <a:gdLst>
                  <a:gd name="textAreaLeft" fmla="*/ 0 w 502200"/>
                  <a:gd name="textAreaRight" fmla="*/ 502560 w 502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378" h="150">
                    <a:moveTo>
                      <a:pt x="378" y="3"/>
                    </a:moveTo>
                    <a:cubicBezTo>
                      <a:pt x="327" y="1"/>
                      <a:pt x="276" y="0"/>
                      <a:pt x="237" y="3"/>
                    </a:cubicBezTo>
                    <a:cubicBezTo>
                      <a:pt x="198" y="6"/>
                      <a:pt x="168" y="15"/>
                      <a:pt x="141" y="24"/>
                    </a:cubicBezTo>
                    <a:cubicBezTo>
                      <a:pt x="114" y="33"/>
                      <a:pt x="95" y="44"/>
                      <a:pt x="75" y="60"/>
                    </a:cubicBezTo>
                    <a:cubicBezTo>
                      <a:pt x="55" y="76"/>
                      <a:pt x="33" y="108"/>
                      <a:pt x="21" y="123"/>
                    </a:cubicBezTo>
                    <a:cubicBezTo>
                      <a:pt x="9" y="138"/>
                      <a:pt x="4" y="144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1"/>
              <p:cNvSpPr/>
              <p:nvPr/>
            </p:nvSpPr>
            <p:spPr>
              <a:xfrm flipH="1">
                <a:off x="1847520" y="1710720"/>
                <a:ext cx="366120" cy="51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37"/>
            <p:cNvGrpSpPr/>
            <p:nvPr/>
          </p:nvGrpSpPr>
          <p:grpSpPr>
            <a:xfrm>
              <a:off x="998280" y="2229120"/>
              <a:ext cx="847800" cy="679320"/>
              <a:chOff x="998280" y="2229120"/>
              <a:chExt cx="847800" cy="679320"/>
            </a:xfrm>
          </p:grpSpPr>
          <p:sp>
            <p:nvSpPr>
              <p:cNvPr id="138" name="Freeform 39"/>
              <p:cNvSpPr/>
              <p:nvPr/>
            </p:nvSpPr>
            <p:spPr>
              <a:xfrm rot="10800000">
                <a:off x="998280" y="2718000"/>
                <a:ext cx="502200" cy="190440"/>
              </a:xfrm>
              <a:custGeom>
                <a:avLst/>
                <a:gdLst>
                  <a:gd name="textAreaLeft" fmla="*/ 0 w 502200"/>
                  <a:gd name="textAreaRight" fmla="*/ 502560 w 502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378" h="150">
                    <a:moveTo>
                      <a:pt x="378" y="3"/>
                    </a:moveTo>
                    <a:cubicBezTo>
                      <a:pt x="327" y="1"/>
                      <a:pt x="276" y="0"/>
                      <a:pt x="237" y="3"/>
                    </a:cubicBezTo>
                    <a:cubicBezTo>
                      <a:pt x="198" y="6"/>
                      <a:pt x="168" y="15"/>
                      <a:pt x="141" y="24"/>
                    </a:cubicBezTo>
                    <a:cubicBezTo>
                      <a:pt x="114" y="33"/>
                      <a:pt x="95" y="44"/>
                      <a:pt x="75" y="60"/>
                    </a:cubicBezTo>
                    <a:cubicBezTo>
                      <a:pt x="55" y="76"/>
                      <a:pt x="33" y="108"/>
                      <a:pt x="21" y="123"/>
                    </a:cubicBezTo>
                    <a:cubicBezTo>
                      <a:pt x="9" y="138"/>
                      <a:pt x="4" y="144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8"/>
              <p:cNvSpPr/>
              <p:nvPr/>
            </p:nvSpPr>
            <p:spPr>
              <a:xfrm flipV="1">
                <a:off x="1479960" y="2229120"/>
                <a:ext cx="366120" cy="51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Line 36"/>
            <p:cNvSpPr/>
            <p:nvPr/>
          </p:nvSpPr>
          <p:spPr>
            <a:xfrm flipH="1">
              <a:off x="1847520" y="1549080"/>
              <a:ext cx="823320" cy="3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 flipH="1">
              <a:off x="1853640" y="1755000"/>
              <a:ext cx="1280160" cy="3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4"/>
            <p:cNvSpPr/>
            <p:nvPr/>
          </p:nvSpPr>
          <p:spPr>
            <a:xfrm flipH="1">
              <a:off x="1025640" y="2912040"/>
              <a:ext cx="823680" cy="720"/>
            </a:xfrm>
            <a:prstGeom prst="line">
              <a:avLst/>
            </a:prstGeom>
            <a:ln w="64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 flipV="1">
              <a:off x="1018800" y="2711880"/>
              <a:ext cx="2176200" cy="720"/>
            </a:xfrm>
            <a:prstGeom prst="line">
              <a:avLst/>
            </a:prstGeom>
            <a:ln w="64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27"/>
            <p:cNvGrpSpPr/>
            <p:nvPr/>
          </p:nvGrpSpPr>
          <p:grpSpPr>
            <a:xfrm>
              <a:off x="3571560" y="1240560"/>
              <a:ext cx="2104920" cy="1943280"/>
              <a:chOff x="3571560" y="1240560"/>
              <a:chExt cx="2104920" cy="1943280"/>
            </a:xfrm>
          </p:grpSpPr>
          <p:sp>
            <p:nvSpPr>
              <p:cNvPr id="145" name="Line 32"/>
              <p:cNvSpPr/>
              <p:nvPr/>
            </p:nvSpPr>
            <p:spPr>
              <a:xfrm>
                <a:off x="3571560" y="2240640"/>
                <a:ext cx="21049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1"/>
              <p:cNvSpPr/>
              <p:nvPr/>
            </p:nvSpPr>
            <p:spPr>
              <a:xfrm flipV="1">
                <a:off x="4628880" y="1240560"/>
                <a:ext cx="360" cy="194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0"/>
              <p:cNvSpPr/>
              <p:nvPr/>
            </p:nvSpPr>
            <p:spPr>
              <a:xfrm flipV="1">
                <a:off x="4863600" y="1744200"/>
                <a:ext cx="504720" cy="49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9"/>
              <p:cNvSpPr/>
              <p:nvPr/>
            </p:nvSpPr>
            <p:spPr>
              <a:xfrm flipV="1">
                <a:off x="3898440" y="2239920"/>
                <a:ext cx="504720" cy="49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8"/>
              <p:cNvSpPr/>
              <p:nvPr/>
            </p:nvSpPr>
            <p:spPr>
              <a:xfrm flipH="1">
                <a:off x="4402080" y="2239920"/>
                <a:ext cx="462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7"/>
            <p:cNvGrpSpPr/>
            <p:nvPr/>
          </p:nvGrpSpPr>
          <p:grpSpPr>
            <a:xfrm>
              <a:off x="6055920" y="1255320"/>
              <a:ext cx="2104920" cy="1942920"/>
              <a:chOff x="6055920" y="1255320"/>
              <a:chExt cx="2104920" cy="1942920"/>
            </a:xfrm>
          </p:grpSpPr>
          <p:grpSp>
            <p:nvGrpSpPr>
              <p:cNvPr id="151" name="Group 21"/>
              <p:cNvGrpSpPr/>
              <p:nvPr/>
            </p:nvGrpSpPr>
            <p:grpSpPr>
              <a:xfrm>
                <a:off x="6055920" y="1255320"/>
                <a:ext cx="2104920" cy="1942920"/>
                <a:chOff x="6055920" y="1255320"/>
                <a:chExt cx="2104920" cy="1942920"/>
              </a:xfrm>
            </p:grpSpPr>
            <p:grpSp>
              <p:nvGrpSpPr>
                <p:cNvPr id="152" name="Group 24"/>
                <p:cNvGrpSpPr/>
                <p:nvPr/>
              </p:nvGrpSpPr>
              <p:grpSpPr>
                <a:xfrm>
                  <a:off x="6486840" y="1447920"/>
                  <a:ext cx="1217880" cy="1665720"/>
                  <a:chOff x="6486840" y="1447920"/>
                  <a:chExt cx="1217880" cy="1665720"/>
                </a:xfrm>
              </p:grpSpPr>
              <p:sp>
                <p:nvSpPr>
                  <p:cNvPr id="153" name="Freeform 26"/>
                  <p:cNvSpPr/>
                  <p:nvPr/>
                </p:nvSpPr>
                <p:spPr>
                  <a:xfrm rot="1481400">
                    <a:off x="6779880" y="1510200"/>
                    <a:ext cx="631080" cy="1541880"/>
                  </a:xfrm>
                  <a:custGeom>
                    <a:avLst/>
                    <a:gdLst>
                      <a:gd name="textAreaLeft" fmla="*/ 0 w 631080"/>
                      <a:gd name="textAreaRight" fmla="*/ 631080 w 631080"/>
                      <a:gd name="textAreaTop" fmla="*/ 0 h 1541880"/>
                      <a:gd name="textAreaBottom" fmla="*/ 1542240 h 1541880"/>
                    </a:gdLst>
                    <a:ahLst/>
                    <a:rect l="textAreaLeft" t="textAreaTop" r="textAreaRight" b="textAreaBottom"/>
                    <a:pathLst>
                      <a:path w="1530" h="2205">
                        <a:moveTo>
                          <a:pt x="1530" y="0"/>
                        </a:moveTo>
                        <a:cubicBezTo>
                          <a:pt x="1459" y="33"/>
                          <a:pt x="1388" y="67"/>
                          <a:pt x="1320" y="105"/>
                        </a:cubicBezTo>
                        <a:cubicBezTo>
                          <a:pt x="1252" y="143"/>
                          <a:pt x="1195" y="173"/>
                          <a:pt x="1125" y="225"/>
                        </a:cubicBezTo>
                        <a:cubicBezTo>
                          <a:pt x="1055" y="277"/>
                          <a:pt x="977" y="343"/>
                          <a:pt x="900" y="420"/>
                        </a:cubicBezTo>
                        <a:cubicBezTo>
                          <a:pt x="823" y="497"/>
                          <a:pt x="735" y="587"/>
                          <a:pt x="660" y="690"/>
                        </a:cubicBezTo>
                        <a:cubicBezTo>
                          <a:pt x="585" y="793"/>
                          <a:pt x="515" y="898"/>
                          <a:pt x="450" y="1035"/>
                        </a:cubicBezTo>
                        <a:cubicBezTo>
                          <a:pt x="385" y="1172"/>
                          <a:pt x="312" y="1390"/>
                          <a:pt x="270" y="1515"/>
                        </a:cubicBezTo>
                        <a:cubicBezTo>
                          <a:pt x="228" y="1640"/>
                          <a:pt x="222" y="1700"/>
                          <a:pt x="195" y="1785"/>
                        </a:cubicBezTo>
                        <a:cubicBezTo>
                          <a:pt x="168" y="1870"/>
                          <a:pt x="137" y="1955"/>
                          <a:pt x="105" y="2025"/>
                        </a:cubicBezTo>
                        <a:cubicBezTo>
                          <a:pt x="73" y="2095"/>
                          <a:pt x="36" y="2150"/>
                          <a:pt x="0" y="220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25"/>
                  <p:cNvSpPr/>
                  <p:nvPr/>
                </p:nvSpPr>
                <p:spPr>
                  <a:xfrm rot="12282000">
                    <a:off x="6780240" y="1509120"/>
                    <a:ext cx="631080" cy="1541520"/>
                  </a:xfrm>
                  <a:custGeom>
                    <a:avLst/>
                    <a:gdLst>
                      <a:gd name="textAreaLeft" fmla="*/ 0 w 631080"/>
                      <a:gd name="textAreaRight" fmla="*/ 631080 w 631080"/>
                      <a:gd name="textAreaTop" fmla="*/ 0 h 1541520"/>
                      <a:gd name="textAreaBottom" fmla="*/ 1541880 h 1541520"/>
                    </a:gdLst>
                    <a:ahLst/>
                    <a:rect l="textAreaLeft" t="textAreaTop" r="textAreaRight" b="textAreaBottom"/>
                    <a:pathLst>
                      <a:path w="1530" h="2205">
                        <a:moveTo>
                          <a:pt x="1530" y="0"/>
                        </a:moveTo>
                        <a:cubicBezTo>
                          <a:pt x="1459" y="33"/>
                          <a:pt x="1388" y="67"/>
                          <a:pt x="1320" y="105"/>
                        </a:cubicBezTo>
                        <a:cubicBezTo>
                          <a:pt x="1252" y="143"/>
                          <a:pt x="1195" y="173"/>
                          <a:pt x="1125" y="225"/>
                        </a:cubicBezTo>
                        <a:cubicBezTo>
                          <a:pt x="1055" y="277"/>
                          <a:pt x="977" y="343"/>
                          <a:pt x="900" y="420"/>
                        </a:cubicBezTo>
                        <a:cubicBezTo>
                          <a:pt x="823" y="497"/>
                          <a:pt x="735" y="587"/>
                          <a:pt x="660" y="690"/>
                        </a:cubicBezTo>
                        <a:cubicBezTo>
                          <a:pt x="585" y="793"/>
                          <a:pt x="515" y="898"/>
                          <a:pt x="450" y="1035"/>
                        </a:cubicBezTo>
                        <a:cubicBezTo>
                          <a:pt x="385" y="1172"/>
                          <a:pt x="312" y="1390"/>
                          <a:pt x="270" y="1515"/>
                        </a:cubicBezTo>
                        <a:cubicBezTo>
                          <a:pt x="228" y="1640"/>
                          <a:pt x="222" y="1700"/>
                          <a:pt x="195" y="1785"/>
                        </a:cubicBezTo>
                        <a:cubicBezTo>
                          <a:pt x="168" y="1870"/>
                          <a:pt x="137" y="1955"/>
                          <a:pt x="105" y="2025"/>
                        </a:cubicBezTo>
                        <a:cubicBezTo>
                          <a:pt x="73" y="2095"/>
                          <a:pt x="36" y="2150"/>
                          <a:pt x="0" y="220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" name="Line 23"/>
                <p:cNvSpPr/>
                <p:nvPr/>
              </p:nvSpPr>
              <p:spPr>
                <a:xfrm>
                  <a:off x="6055920" y="2255760"/>
                  <a:ext cx="2104920" cy="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22"/>
                <p:cNvSpPr/>
                <p:nvPr/>
              </p:nvSpPr>
              <p:spPr>
                <a:xfrm flipV="1">
                  <a:off x="7113240" y="1255320"/>
                  <a:ext cx="720" cy="19429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Line 20"/>
              <p:cNvSpPr/>
              <p:nvPr/>
            </p:nvSpPr>
            <p:spPr>
              <a:xfrm flipH="1">
                <a:off x="7214760" y="1901520"/>
                <a:ext cx="84240" cy="6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9"/>
              <p:cNvSpPr/>
              <p:nvPr/>
            </p:nvSpPr>
            <p:spPr>
              <a:xfrm flipV="1">
                <a:off x="6911640" y="2581560"/>
                <a:ext cx="85680" cy="60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8"/>
              <p:cNvSpPr/>
              <p:nvPr/>
            </p:nvSpPr>
            <p:spPr>
              <a:xfrm rot="10357200">
                <a:off x="7082640" y="1753560"/>
                <a:ext cx="651240" cy="459720"/>
              </a:xfrm>
              <a:custGeom>
                <a:avLst/>
                <a:gdLst>
                  <a:gd name="textAreaLeft" fmla="*/ 0 w 651240"/>
                  <a:gd name="textAreaRight" fmla="*/ 651600 w 651240"/>
                  <a:gd name="textAreaTop" fmla="*/ 0 h 459720"/>
                  <a:gd name="textAreaBottom" fmla="*/ 460080 h 459720"/>
                </a:gdLst>
                <a:ahLst/>
                <a:rect l="textAreaLeft" t="textAreaTop" r="textAreaRight" b="textAreaBottom"/>
                <a:pathLst>
                  <a:path w="405" h="577">
                    <a:moveTo>
                      <a:pt x="405" y="0"/>
                    </a:moveTo>
                    <a:cubicBezTo>
                      <a:pt x="389" y="40"/>
                      <a:pt x="374" y="81"/>
                      <a:pt x="345" y="135"/>
                    </a:cubicBezTo>
                    <a:cubicBezTo>
                      <a:pt x="316" y="189"/>
                      <a:pt x="273" y="263"/>
                      <a:pt x="232" y="322"/>
                    </a:cubicBezTo>
                    <a:cubicBezTo>
                      <a:pt x="191" y="381"/>
                      <a:pt x="136" y="445"/>
                      <a:pt x="97" y="487"/>
                    </a:cubicBezTo>
                    <a:cubicBezTo>
                      <a:pt x="58" y="529"/>
                      <a:pt x="29" y="553"/>
                      <a:pt x="0" y="577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 Box 16"/>
            <p:cNvSpPr/>
            <p:nvPr/>
          </p:nvSpPr>
          <p:spPr>
            <a:xfrm>
              <a:off x="353880" y="2708280"/>
              <a:ext cx="626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atu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941480" y="2238120"/>
              <a:ext cx="800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evice In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3110040" y="1752480"/>
              <a:ext cx="0" cy="95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931840" y="2057040"/>
              <a:ext cx="39024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in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2"/>
            <p:cNvSpPr/>
            <p:nvPr/>
          </p:nvSpPr>
          <p:spPr>
            <a:xfrm>
              <a:off x="2684520" y="1361880"/>
              <a:ext cx="626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atu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1"/>
            <p:cNvSpPr/>
            <p:nvPr/>
          </p:nvSpPr>
          <p:spPr>
            <a:xfrm>
              <a:off x="5224680" y="2307960"/>
              <a:ext cx="43164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evi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>
              <a:off x="4722840" y="2209680"/>
              <a:ext cx="272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399200" y="2247840"/>
              <a:ext cx="16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7358400" y="2288880"/>
              <a:ext cx="7999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evice In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598320" y="1136520"/>
              <a:ext cx="19980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"/>
            <p:cNvSpPr/>
            <p:nvPr/>
          </p:nvSpPr>
          <p:spPr>
            <a:xfrm>
              <a:off x="3532320" y="1203120"/>
              <a:ext cx="2095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"/>
            <p:cNvSpPr/>
            <p:nvPr/>
          </p:nvSpPr>
          <p:spPr>
            <a:xfrm>
              <a:off x="6046920" y="1231560"/>
              <a:ext cx="19980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48"/>
          <p:cNvSpPr/>
          <p:nvPr/>
        </p:nvSpPr>
        <p:spPr>
          <a:xfrm>
            <a:off x="40644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0"/>
          <p:cNvSpPr/>
          <p:nvPr/>
        </p:nvSpPr>
        <p:spPr>
          <a:xfrm>
            <a:off x="6984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(a) Saturation;  (b) Dead band (backlash);  (c) Hyste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2031840" y="3852720"/>
            <a:ext cx="35434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c00000"/>
                </a:solidFill>
                <a:latin typeface="Arial"/>
              </a:rPr>
              <a:t>What are practical examples of these nonlineari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c00000"/>
                </a:solidFill>
                <a:latin typeface="Arial"/>
              </a:rPr>
              <a:t>What are linearization difficulties i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6843600" y="3421080"/>
            <a:ext cx="1830600" cy="15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CA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If input is force and output is displacement, Work done = projection area to output (</a:t>
            </a: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) 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1198440" y="1764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steresis Loop May Not Mean Nonline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8"/>
          <p:cNvSpPr/>
          <p:nvPr/>
        </p:nvSpPr>
        <p:spPr>
          <a:xfrm>
            <a:off x="40644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9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1332000" y="433440"/>
          <a:ext cx="80460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33440"/>
                    <a:ext cx="8046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4343400" y="396720"/>
          <a:ext cx="96372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96720"/>
                    <a:ext cx="9637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054080" y="746280"/>
          <a:ext cx="1273320" cy="34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54080" y="746280"/>
                    <a:ext cx="1273320" cy="34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5"/>
          <p:cNvGraphicFramePr/>
          <p:nvPr/>
        </p:nvGraphicFramePr>
        <p:xfrm>
          <a:off x="6423120" y="706320"/>
          <a:ext cx="1898640" cy="4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706320"/>
                    <a:ext cx="189864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72"/>
          <p:cNvSpPr/>
          <p:nvPr/>
        </p:nvSpPr>
        <p:spPr>
          <a:xfrm>
            <a:off x="174600" y="296640"/>
            <a:ext cx="88837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Times New Roman"/>
                <a:ea typeface="Calibri"/>
              </a:rPr>
              <a:t>(a) Spring:                   ;       (b) Viscous damper:                  ;  (c) Spring with a viscous damper: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Times New Roman"/>
                <a:ea typeface="Calibri"/>
              </a:rPr>
              <a:t>                                         </a:t>
            </a:r>
            <a:r>
              <a:rPr b="1" lang="en-US" sz="1600" spc="-1" strike="noStrike">
                <a:solidFill>
                  <a:srgbClr val="262673"/>
                </a:solidFill>
                <a:latin typeface="Times New Roman"/>
                <a:ea typeface="Calibri"/>
              </a:rPr>
              <a:t>;           (d) Linear spring with Coulomb friction: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Times New Roman"/>
                <a:ea typeface="Calibri"/>
              </a:rPr>
              <a:t>Apply a harmonic force:                                ;    Consider steady state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11"/>
          <p:cNvGraphicFramePr/>
          <p:nvPr/>
        </p:nvGraphicFramePr>
        <p:xfrm>
          <a:off x="692280" y="1628640"/>
          <a:ext cx="3533760" cy="2133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2280" y="1628640"/>
                    <a:ext cx="35337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4"/>
          <p:cNvGraphicFramePr/>
          <p:nvPr/>
        </p:nvGraphicFramePr>
        <p:xfrm>
          <a:off x="152280" y="4019400"/>
          <a:ext cx="4702320" cy="283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019400"/>
                    <a:ext cx="470232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8"/>
          <p:cNvGraphicFramePr/>
          <p:nvPr/>
        </p:nvGraphicFramePr>
        <p:xfrm>
          <a:off x="2411280" y="1063800"/>
          <a:ext cx="1516320" cy="36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9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11280" y="1063800"/>
                    <a:ext cx="151632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9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20"/>
          <p:cNvGraphicFramePr/>
          <p:nvPr/>
        </p:nvGraphicFramePr>
        <p:xfrm>
          <a:off x="6227640" y="1017720"/>
          <a:ext cx="1863720" cy="412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27640" y="1017720"/>
                    <a:ext cx="18637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21"/>
          <p:cNvSpPr/>
          <p:nvPr/>
        </p:nvSpPr>
        <p:spPr>
          <a:xfrm>
            <a:off x="5292720" y="15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5292720" y="1541520"/>
          <a:ext cx="3244680" cy="2616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92720" y="1541520"/>
                    <a:ext cx="324468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2"/>
          <p:cNvGraphicFramePr/>
          <p:nvPr/>
        </p:nvGraphicFramePr>
        <p:xfrm>
          <a:off x="5292720" y="3716280"/>
          <a:ext cx="3048120" cy="277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92720" y="3716280"/>
                    <a:ext cx="304812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Box 2"/>
          <p:cNvSpPr/>
          <p:nvPr/>
        </p:nvSpPr>
        <p:spPr>
          <a:xfrm>
            <a:off x="2459160" y="2903400"/>
            <a:ext cx="36702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Hysteresis may not  mean nonlinear.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See  Slide 12 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33200" y="76320"/>
          <a:ext cx="8601120" cy="68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76320"/>
                    <a:ext cx="8601120" cy="68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Box 1"/>
          <p:cNvSpPr/>
          <p:nvPr/>
        </p:nvSpPr>
        <p:spPr>
          <a:xfrm>
            <a:off x="2268360" y="549360"/>
            <a:ext cx="3959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onlinear func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6516720" y="1341360"/>
            <a:ext cx="2079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2644920" y="468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itigation of Nonline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8"/>
          <p:cNvSpPr/>
          <p:nvPr/>
        </p:nvSpPr>
        <p:spPr>
          <a:xfrm>
            <a:off x="539640" y="-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9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5292720" y="15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52280" y="392040"/>
            <a:ext cx="888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pproaches to Remove Nonlinea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. Calibration and rescaling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e.g., log)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f output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static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2. Use of linearizing elements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e.g., resistors, amplifiers in bridge circu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3. Use of nonlinear feedback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feedback line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50760" y="2354400"/>
            <a:ext cx="8985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pproaches to Reduce Nonlinear Behav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. Avoid operation over a wide range of inputs/sign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2. Avoid operation over a wide frequency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3. Use devices that do not generate large deformations (e.g., deviation from Hooke’s law—a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physical nonlinearity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) or large mechanical motions (e.g., introduction of trigonometric terms—a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ometric or kinematic nonlinearity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4. Reduce nonlinear friction (e.g., Coulomb, Stribeck), stiction, wear and tear (e.g.,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rough lubricatio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5. Avoid loose joints and gears: can caus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backlash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(e.g., us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irect-drive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mechanisms,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harmonic drives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4543560" y="6488280"/>
            <a:ext cx="2976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at is a harmonic d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2700360" y="1541520"/>
            <a:ext cx="32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? See next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2644920" y="468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rdware Line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8"/>
          <p:cNvSpPr/>
          <p:nvPr/>
        </p:nvSpPr>
        <p:spPr>
          <a:xfrm>
            <a:off x="615960" y="4965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9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1"/>
          <p:cNvSpPr/>
          <p:nvPr/>
        </p:nvSpPr>
        <p:spPr>
          <a:xfrm>
            <a:off x="5292720" y="15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52280" y="773280"/>
            <a:ext cx="4211640" cy="299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4427640" y="609480"/>
            <a:ext cx="4572000" cy="32799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152280" y="4046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6"/>
          <p:cNvSpPr/>
          <p:nvPr/>
        </p:nvSpPr>
        <p:spPr>
          <a:xfrm>
            <a:off x="4402080" y="41760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291960" y="4429080"/>
          <a:ext cx="4569120" cy="16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960" y="4429080"/>
                    <a:ext cx="4569120" cy="16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Box 19"/>
          <p:cNvSpPr/>
          <p:nvPr/>
        </p:nvSpPr>
        <p:spPr>
          <a:xfrm>
            <a:off x="324000" y="39686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5292720" y="39276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 flipV="1">
            <a:off x="4861080" y="5084280"/>
            <a:ext cx="121885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8"/>
          <p:cNvGraphicFramePr/>
          <p:nvPr/>
        </p:nvGraphicFramePr>
        <p:xfrm>
          <a:off x="5724360" y="4141800"/>
          <a:ext cx="2495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141800"/>
                    <a:ext cx="2495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Box 2"/>
          <p:cNvSpPr/>
          <p:nvPr/>
        </p:nvSpPr>
        <p:spPr>
          <a:xfrm>
            <a:off x="1004760" y="6037200"/>
            <a:ext cx="159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1"/>
          <p:cNvSpPr/>
          <p:nvPr/>
        </p:nvSpPr>
        <p:spPr>
          <a:xfrm>
            <a:off x="6443640" y="5491080"/>
            <a:ext cx="1598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lustrativ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181080" y="-27000"/>
          <a:ext cx="8762760" cy="68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-27000"/>
                    <a:ext cx="876276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Box 1"/>
          <p:cNvSpPr/>
          <p:nvPr/>
        </p:nvSpPr>
        <p:spPr>
          <a:xfrm>
            <a:off x="6875640" y="549360"/>
            <a:ext cx="1944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hat are limitations of this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395280" y="3284640"/>
            <a:ext cx="309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 to Example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2"/>
          <p:cNvGraphicFramePr/>
          <p:nvPr/>
        </p:nvGraphicFramePr>
        <p:xfrm>
          <a:off x="179280" y="-100080"/>
          <a:ext cx="8810640" cy="70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-100080"/>
                    <a:ext cx="8810640" cy="70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Object 2"/>
          <p:cNvGraphicFramePr/>
          <p:nvPr/>
        </p:nvGraphicFramePr>
        <p:xfrm>
          <a:off x="168120" y="11160"/>
          <a:ext cx="8775720" cy="66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1160"/>
                    <a:ext cx="877572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phical (Local Slope) Interpretation of Linearization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alytical Linearization (state-space and input-output models)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earization using Experimental Data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earization through Energy Equivalenc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ustrative Examp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3492360" y="260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Comic Sans MS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2"/>
          <p:cNvGraphicFramePr/>
          <p:nvPr/>
        </p:nvGraphicFramePr>
        <p:xfrm>
          <a:off x="171360" y="495360"/>
          <a:ext cx="875340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495360"/>
                    <a:ext cx="87534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179280" y="115920"/>
          <a:ext cx="8796600" cy="66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5920"/>
                    <a:ext cx="8796600" cy="66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Object 2"/>
          <p:cNvGraphicFramePr/>
          <p:nvPr/>
        </p:nvGraphicFramePr>
        <p:xfrm>
          <a:off x="181080" y="0"/>
          <a:ext cx="8867520" cy="706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0"/>
                    <a:ext cx="8867520" cy="70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Object 2"/>
          <p:cNvGraphicFramePr/>
          <p:nvPr/>
        </p:nvGraphicFramePr>
        <p:xfrm>
          <a:off x="9360" y="392040"/>
          <a:ext cx="8856720" cy="62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392040"/>
                    <a:ext cx="8856720" cy="62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1185840"/>
            <a:ext cx="8879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echanical damping constant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</a:t>
            </a:r>
            <a:r>
              <a:rPr b="1" i="1" lang="en-US" sz="26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comes from bearing friction and other mechanic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lectrical damping constant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comes from the electromagnetic interactions in the mo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two occur together (and should be treated together, in model analysis, simulation, design, control, etc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.g.,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hether the response is under-damped or over-damped depends on the sum </a:t>
            </a:r>
            <a:r>
              <a:rPr b="1" i="1" lang="en-US" sz="2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6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m </a:t>
            </a:r>
            <a:r>
              <a:rPr b="1" i="1" lang="en-US" sz="2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+b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and not the individual components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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-mechanical coup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If the characteristic curve corresponding to (viii) is experimentally determine, “</a:t>
            </a:r>
            <a:r>
              <a:rPr b="1" i="1" lang="en-U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” will contain mechanical damping (e.g., in bearings)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0" y="266760"/>
            <a:ext cx="880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omic Sans MS"/>
              </a:rPr>
              <a:t>Electro-Mechanical Coupl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39560" y="247680"/>
            <a:ext cx="43200" cy="12812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 flipV="1">
            <a:off x="420840" y="1195920"/>
            <a:ext cx="8113680" cy="42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8879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Electro-mechanical coupling in da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Mechanical damping and electrical damping should be treated together. System behavior depends on the combined effect </a:t>
            </a:r>
            <a:r>
              <a:rPr b="1" lang="en-US" sz="2400" spc="-1" strike="noStrike">
                <a:solidFill>
                  <a:srgbClr val="19194d"/>
                </a:solidFill>
                <a:latin typeface="Wingdings"/>
                <a:ea typeface="Wingdings"/>
              </a:rPr>
              <a:t></a:t>
            </a: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a case for integrated analysis, simulation, design, contro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System nonlinearity can come from nonlinear coupling of inputs and stat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A state variable cannot change instan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When an input changes instantaneously, the highest derivative of the response changes with it (instantaneously); and the lower derivatives don’t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Note</a:t>
            </a: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: These lower derivatives may be taken as state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0" y="266760"/>
            <a:ext cx="880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omic Sans MS"/>
              </a:rPr>
              <a:t>Main Concepts Illustrated in Example 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69720" y="136440"/>
            <a:ext cx="44640" cy="12812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 flipV="1">
            <a:off x="420840" y="1556280"/>
            <a:ext cx="8113680" cy="42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Object 2"/>
          <p:cNvGraphicFramePr/>
          <p:nvPr/>
        </p:nvGraphicFramePr>
        <p:xfrm>
          <a:off x="166680" y="-6480"/>
          <a:ext cx="8744040" cy="67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-6480"/>
                    <a:ext cx="8744040" cy="67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Box 1"/>
          <p:cNvSpPr/>
          <p:nvPr/>
        </p:nvSpPr>
        <p:spPr>
          <a:xfrm>
            <a:off x="181080" y="3403440"/>
            <a:ext cx="28782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e Slide 26 Elabor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eful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5940360" y="4002120"/>
            <a:ext cx="2878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study Examples 2, 2,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2"/>
          <p:cNvGraphicFramePr/>
          <p:nvPr/>
        </p:nvGraphicFramePr>
        <p:xfrm>
          <a:off x="104760" y="257040"/>
          <a:ext cx="8763120" cy="625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257040"/>
                    <a:ext cx="8763120" cy="62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2"/>
          <p:cNvGraphicFramePr/>
          <p:nvPr/>
        </p:nvGraphicFramePr>
        <p:xfrm>
          <a:off x="361800" y="-9360"/>
          <a:ext cx="8782200" cy="68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-9360"/>
                    <a:ext cx="87822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108000" y="44280"/>
          <a:ext cx="8808840" cy="68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4280"/>
                    <a:ext cx="880884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linear Analytical Model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e-space Model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put-Output Model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Object 2"/>
          <p:cNvGraphicFramePr/>
          <p:nvPr/>
        </p:nvGraphicFramePr>
        <p:xfrm>
          <a:off x="257040" y="57240"/>
          <a:ext cx="8886960" cy="67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57240"/>
                    <a:ext cx="888696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8879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Analysis of nonlinearities that involve the signum function (sgn(.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Proper choice of stat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The natural state variable for a rigid-body mode is velocity (not position). When this is violated, inconsistency in system order may res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266760"/>
            <a:ext cx="880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omic Sans MS"/>
              </a:rPr>
              <a:t>Main Concepts Illustrated in Example 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69720" y="136440"/>
            <a:ext cx="44640" cy="12812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 flipV="1">
            <a:off x="420840" y="1556280"/>
            <a:ext cx="8113680" cy="42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Object 2"/>
          <p:cNvGraphicFramePr/>
          <p:nvPr/>
        </p:nvGraphicFramePr>
        <p:xfrm>
          <a:off x="181080" y="0"/>
          <a:ext cx="8781840" cy="67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0"/>
                    <a:ext cx="8781840" cy="67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95400" y="228600"/>
          <a:ext cx="8972280" cy="662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228600"/>
                    <a:ext cx="8972280" cy="66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Object 2"/>
          <p:cNvGraphicFramePr/>
          <p:nvPr/>
        </p:nvGraphicFramePr>
        <p:xfrm>
          <a:off x="181080" y="285840"/>
          <a:ext cx="875340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285840"/>
                    <a:ext cx="875340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Object 2"/>
          <p:cNvGraphicFramePr/>
          <p:nvPr/>
        </p:nvGraphicFramePr>
        <p:xfrm>
          <a:off x="209520" y="285840"/>
          <a:ext cx="8820360" cy="65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285840"/>
                    <a:ext cx="8820360" cy="65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8879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Linearize a state-space model and then convert it into a linear input-outpu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Convert a nonlinear state-space model into a (nonlinear) input-output model and linear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Results of 1 and 2 are the same (as long as same forms of nonlinearity are used and the same linearization procedures are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0" y="266760"/>
            <a:ext cx="880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omic Sans MS"/>
              </a:rPr>
              <a:t>Main Concepts Illustrated in Example 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378000" y="223920"/>
            <a:ext cx="42840" cy="1280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 flipV="1">
            <a:off x="420840" y="1556280"/>
            <a:ext cx="8113680" cy="42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380880" y="762120"/>
          <a:ext cx="8572680" cy="64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857268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Object 2"/>
          <p:cNvGraphicFramePr/>
          <p:nvPr/>
        </p:nvGraphicFramePr>
        <p:xfrm>
          <a:off x="380880" y="581040"/>
          <a:ext cx="862992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81040"/>
                    <a:ext cx="862992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Object 2"/>
          <p:cNvGraphicFramePr/>
          <p:nvPr/>
        </p:nvGraphicFramePr>
        <p:xfrm>
          <a:off x="380880" y="762120"/>
          <a:ext cx="8629920" cy="68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8629920" cy="68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-39600" y="0"/>
          <a:ext cx="8885160" cy="75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0"/>
                    <a:ext cx="8885160" cy="75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380880" y="762120"/>
          <a:ext cx="8553600" cy="66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855360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Object 2"/>
          <p:cNvGraphicFramePr/>
          <p:nvPr/>
        </p:nvGraphicFramePr>
        <p:xfrm>
          <a:off x="399960" y="409680"/>
          <a:ext cx="8629920" cy="82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09680"/>
                    <a:ext cx="8629920" cy="82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Object 2"/>
          <p:cNvGraphicFramePr/>
          <p:nvPr/>
        </p:nvGraphicFramePr>
        <p:xfrm>
          <a:off x="250920" y="115920"/>
          <a:ext cx="8629560" cy="862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629560" cy="862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324000" y="260280"/>
          <a:ext cx="855324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55324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7800" y="1577520"/>
            <a:ext cx="88786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Handling of gravitational pull as a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onlinear spring</a:t>
            </a:r>
            <a:r>
              <a:rPr b="1" lang="en-US" sz="2800" spc="-1" strike="noStrike">
                <a:solidFill>
                  <a:srgbClr val="19194d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two state variables: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elocity</a:t>
            </a: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for inertia and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osition</a:t>
            </a: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(which gives spring force) for nonlinear spring. Compare with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mple pendulum </a:t>
            </a: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(needs two state variables: velocity and position corresponding to the nonlinear spring of gravitational pull) and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free-falling mass</a:t>
            </a: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under gravity (needs only one state variable: velocity; gravity appears as a constant external force, not a nonlinear spr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Time-varying operating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Linearization concepts, as illustrated in Example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0" y="266760"/>
            <a:ext cx="880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omic Sans MS"/>
              </a:rPr>
              <a:t>Main Concepts Illustrated in Example 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369720" y="136440"/>
            <a:ext cx="44640" cy="12812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 flipV="1">
            <a:off x="420840" y="1556280"/>
            <a:ext cx="8113680" cy="42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1476360" y="6480000"/>
            <a:ext cx="575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 to Example 3.2: Radiation heat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aphical Solution to Linearization: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of Experimental Operating Cur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693440"/>
            <a:ext cx="88790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Linearization is done by finding the local slopes (derivatives with respect to the independent variables) of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experimental characteristic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As a matter of experimental feasibility, the curves are determined by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arying one variable at a time </a:t>
            </a: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(keeping the other variables constant at some operating 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On a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two-axis coordinate frame</a:t>
            </a: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, only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two such variables </a:t>
            </a:r>
            <a:r>
              <a:rPr b="1" lang="en-US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can be re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266760"/>
            <a:ext cx="880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Graphical Linearization Using Experimental Characteristic Cur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369720" y="136440"/>
            <a:ext cx="44640" cy="12812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 flipV="1">
            <a:off x="420840" y="1556280"/>
            <a:ext cx="8113680" cy="42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369720" y="6021360"/>
            <a:ext cx="8595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a50021"/>
                </a:solidFill>
                <a:latin typeface="Arial"/>
              </a:rPr>
              <a:t>Typically, the experiments are conducted at </a:t>
            </a: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steady state</a:t>
            </a:r>
            <a:r>
              <a:rPr b="1" lang="en-CA" sz="1800" spc="-1" strike="noStrike">
                <a:solidFill>
                  <a:srgbClr val="a50021"/>
                </a:solidFill>
                <a:latin typeface="Arial"/>
              </a:rPr>
              <a:t>. Dynamics is incorporated separately into the model, using </a:t>
            </a: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inertia terms</a:t>
            </a:r>
            <a:r>
              <a:rPr b="1" lang="en-CA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07640" y="1579320"/>
            <a:ext cx="88786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Keep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ne variable constant </a:t>
            </a: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at som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erating condition </a:t>
            </a: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and vary the other variable i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Plot the data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Repeat steps 1 and 2 by changing the operating condition of the first variable by a small step. Obtain a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eries of characteristic curves </a:t>
            </a: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in this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Linearization: For a specific operating condition, find the slope of the curve passing through it (i.e., with the first variable kept constant); Also find the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ertical increment </a:t>
            </a: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of two adjacent curves enclosing the operating point (i.e., with the second variable is kept con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Slopes with respect to the two independent variables are computed from the two values in Step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266760"/>
            <a:ext cx="880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Graphical Lineariz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Two-variable C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69720" y="136440"/>
            <a:ext cx="44640" cy="12812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 flipV="1">
            <a:off x="420840" y="1556280"/>
            <a:ext cx="8113680" cy="42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0" y="266760"/>
            <a:ext cx="880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Graphical Lineariz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Two-variable C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69720" y="136440"/>
            <a:ext cx="44640" cy="12812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 flipV="1">
            <a:off x="420840" y="1556280"/>
            <a:ext cx="8113680" cy="42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6"/>
          <p:cNvGrpSpPr/>
          <p:nvPr/>
        </p:nvGrpSpPr>
        <p:grpSpPr>
          <a:xfrm>
            <a:off x="2793960" y="1682640"/>
            <a:ext cx="6114960" cy="3173040"/>
            <a:chOff x="2793960" y="1682640"/>
            <a:chExt cx="6114960" cy="3173040"/>
          </a:xfrm>
        </p:grpSpPr>
        <p:sp>
          <p:nvSpPr>
            <p:cNvPr id="335" name="Text Box 3"/>
            <p:cNvSpPr/>
            <p:nvPr/>
          </p:nvSpPr>
          <p:spPr>
            <a:xfrm>
              <a:off x="3635640" y="1682640"/>
              <a:ext cx="13831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espon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"/>
            <p:cNvSpPr/>
            <p:nvPr/>
          </p:nvSpPr>
          <p:spPr>
            <a:xfrm>
              <a:off x="4448160" y="4386600"/>
              <a:ext cx="3314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5"/>
            <p:cNvSpPr/>
            <p:nvPr/>
          </p:nvSpPr>
          <p:spPr>
            <a:xfrm flipV="1">
              <a:off x="4445280" y="1976760"/>
              <a:ext cx="720" cy="239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5982480" y="4461840"/>
              <a:ext cx="2926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Variab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3990240" y="2765160"/>
              <a:ext cx="4262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CA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6549480" y="2284560"/>
              <a:ext cx="81144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en-CA" sz="11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i="1" lang="en-C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r>
                <a:rPr b="0" lang="en-CA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CA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en-CA" sz="11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rc 9"/>
            <p:cNvSpPr/>
            <p:nvPr/>
          </p:nvSpPr>
          <p:spPr>
            <a:xfrm flipV="1" rot="7222200">
              <a:off x="5458680" y="2215800"/>
              <a:ext cx="967320" cy="2355480"/>
            </a:xfrm>
            <a:custGeom>
              <a:avLst/>
              <a:gdLst/>
              <a:ahLst/>
              <a:rect l="l" t="t" r="r" b="b"/>
              <a:pathLst>
                <a:path fill="none" w="21600" h="26750">
                  <a:moveTo>
                    <a:pt x="6893" y="26749"/>
                  </a:moveTo>
                  <a:cubicBezTo>
                    <a:pt x="2497" y="22663"/>
                    <a:pt x="0" y="16931"/>
                    <a:pt x="0" y="10930"/>
                  </a:cubicBezTo>
                  <a:cubicBezTo>
                    <a:pt x="-1" y="7087"/>
                    <a:pt x="1025" y="3314"/>
                    <a:pt x="2969" y="-1"/>
                  </a:cubicBezTo>
                </a:path>
                <a:path stroke="0" w="21600" h="26750">
                  <a:moveTo>
                    <a:pt x="6893" y="26749"/>
                  </a:moveTo>
                  <a:cubicBezTo>
                    <a:pt x="2497" y="22663"/>
                    <a:pt x="0" y="16931"/>
                    <a:pt x="0" y="10930"/>
                  </a:cubicBezTo>
                  <a:cubicBezTo>
                    <a:pt x="-1" y="7087"/>
                    <a:pt x="1025" y="3314"/>
                    <a:pt x="2969" y="-1"/>
                  </a:cubicBezTo>
                  <a:lnTo>
                    <a:pt x="21600" y="10930"/>
                  </a:lnTo>
                  <a:lnTo>
                    <a:pt x="6893" y="26749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rc 10"/>
            <p:cNvSpPr/>
            <p:nvPr/>
          </p:nvSpPr>
          <p:spPr>
            <a:xfrm flipV="1" rot="7141800">
              <a:off x="5587920" y="1782720"/>
              <a:ext cx="1311840" cy="2973960"/>
            </a:xfrm>
            <a:custGeom>
              <a:avLst/>
              <a:gdLst/>
              <a:ahLst/>
              <a:rect l="l" t="t" r="r" b="b"/>
              <a:pathLst>
                <a:path fill="none" w="21600" h="27160">
                  <a:moveTo>
                    <a:pt x="7346" y="27159"/>
                  </a:moveTo>
                  <a:cubicBezTo>
                    <a:pt x="2676" y="23058"/>
                    <a:pt x="0" y="17144"/>
                    <a:pt x="0" y="10930"/>
                  </a:cubicBezTo>
                  <a:cubicBezTo>
                    <a:pt x="-1" y="7087"/>
                    <a:pt x="1025" y="3314"/>
                    <a:pt x="2969" y="-1"/>
                  </a:cubicBezTo>
                </a:path>
                <a:path stroke="0" w="21600" h="27160">
                  <a:moveTo>
                    <a:pt x="7346" y="27159"/>
                  </a:moveTo>
                  <a:cubicBezTo>
                    <a:pt x="2676" y="23058"/>
                    <a:pt x="0" y="17144"/>
                    <a:pt x="0" y="10930"/>
                  </a:cubicBezTo>
                  <a:cubicBezTo>
                    <a:pt x="-1" y="7087"/>
                    <a:pt x="1025" y="3314"/>
                    <a:pt x="2969" y="-1"/>
                  </a:cubicBezTo>
                  <a:lnTo>
                    <a:pt x="21600" y="10930"/>
                  </a:lnTo>
                  <a:lnTo>
                    <a:pt x="7346" y="27159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6"/>
            <p:cNvSpPr/>
            <p:nvPr/>
          </p:nvSpPr>
          <p:spPr>
            <a:xfrm>
              <a:off x="6434640" y="3142440"/>
              <a:ext cx="835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7"/>
            <p:cNvSpPr/>
            <p:nvPr/>
          </p:nvSpPr>
          <p:spPr>
            <a:xfrm>
              <a:off x="6434640" y="2603160"/>
              <a:ext cx="835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4"/>
            <p:cNvSpPr/>
            <p:nvPr/>
          </p:nvSpPr>
          <p:spPr>
            <a:xfrm flipV="1">
              <a:off x="6473520" y="2631240"/>
              <a:ext cx="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5"/>
            <p:cNvSpPr/>
            <p:nvPr/>
          </p:nvSpPr>
          <p:spPr>
            <a:xfrm flipH="1">
              <a:off x="3969720" y="3179520"/>
              <a:ext cx="25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6"/>
            <p:cNvSpPr/>
            <p:nvPr/>
          </p:nvSpPr>
          <p:spPr>
            <a:xfrm flipH="1">
              <a:off x="3960000" y="2631240"/>
              <a:ext cx="25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5749560" y="2624760"/>
              <a:ext cx="733320" cy="554400"/>
            </a:xfrm>
            <a:prstGeom prst="rtTriangl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8"/>
            <p:cNvSpPr/>
            <p:nvPr/>
          </p:nvSpPr>
          <p:spPr>
            <a:xfrm>
              <a:off x="4203360" y="2631240"/>
              <a:ext cx="0" cy="54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9"/>
            <p:cNvSpPr/>
            <p:nvPr/>
          </p:nvSpPr>
          <p:spPr>
            <a:xfrm>
              <a:off x="6549480" y="2963160"/>
              <a:ext cx="2656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en-CA" sz="1200" spc="-1" strike="noStrike" baseline="-25000">
                  <a:solidFill>
                    <a:srgbClr val="000000"/>
                  </a:solidFill>
                  <a:latin typeface="Times New Roman"/>
                  <a:ea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1"/>
            <p:cNvSpPr/>
            <p:nvPr/>
          </p:nvSpPr>
          <p:spPr>
            <a:xfrm>
              <a:off x="6345000" y="3218760"/>
              <a:ext cx="2415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22"/>
            <p:cNvSpPr/>
            <p:nvPr/>
          </p:nvSpPr>
          <p:spPr>
            <a:xfrm>
              <a:off x="2793960" y="1740960"/>
              <a:ext cx="3877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3" name="Object 2"/>
          <p:cNvGraphicFramePr/>
          <p:nvPr/>
        </p:nvGraphicFramePr>
        <p:xfrm>
          <a:off x="552600" y="4130640"/>
          <a:ext cx="7586640" cy="27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4130640"/>
                    <a:ext cx="758664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 Box 19"/>
          <p:cNvSpPr/>
          <p:nvPr/>
        </p:nvSpPr>
        <p:spPr>
          <a:xfrm>
            <a:off x="5838840" y="4437000"/>
            <a:ext cx="423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1"/>
          <p:cNvGraphicFramePr/>
          <p:nvPr/>
        </p:nvGraphicFramePr>
        <p:xfrm>
          <a:off x="755640" y="1849320"/>
          <a:ext cx="3429000" cy="300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849320"/>
                    <a:ext cx="34290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8"/>
          <p:cNvSpPr/>
          <p:nvPr/>
        </p:nvSpPr>
        <p:spPr>
          <a:xfrm>
            <a:off x="5938920" y="3208320"/>
            <a:ext cx="280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C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0" lang="en-CA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2"/>
          <p:cNvGraphicFramePr/>
          <p:nvPr/>
        </p:nvGraphicFramePr>
        <p:xfrm>
          <a:off x="276120" y="237960"/>
          <a:ext cx="8515440" cy="724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237960"/>
                    <a:ext cx="8515440" cy="72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84360" y="22320"/>
          <a:ext cx="772776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320"/>
                    <a:ext cx="772776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"/>
          <p:cNvGraphicFramePr/>
          <p:nvPr/>
        </p:nvGraphicFramePr>
        <p:xfrm>
          <a:off x="7524720" y="5445000"/>
          <a:ext cx="13302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5445000"/>
                    <a:ext cx="1330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1488960" y="1206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mic Sans MS"/>
              </a:rPr>
              <a:t>DC Motor Wind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23760" y="582480"/>
            <a:ext cx="5848560" cy="6115320"/>
          </a:xfrm>
          <a:prstGeom prst="rect">
            <a:avLst/>
          </a:prstGeom>
          <a:ln w="0">
            <a:noFill/>
          </a:ln>
        </p:spPr>
      </p:pic>
      <p:sp>
        <p:nvSpPr>
          <p:cNvPr id="363" name="TextBox 2"/>
          <p:cNvSpPr/>
          <p:nvPr/>
        </p:nvSpPr>
        <p:spPr>
          <a:xfrm>
            <a:off x="5148360" y="379872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a50021"/>
                </a:solidFill>
                <a:latin typeface="Arial"/>
              </a:rPr>
              <a:t>(a) Shunt-w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a50021"/>
                </a:solidFill>
                <a:latin typeface="Arial"/>
              </a:rPr>
              <a:t>(b) Series-w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a50021"/>
                </a:solidFill>
                <a:latin typeface="Arial"/>
              </a:rPr>
              <a:t>(c) Compound-w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Object 2"/>
          <p:cNvGraphicFramePr/>
          <p:nvPr/>
        </p:nvGraphicFramePr>
        <p:xfrm>
          <a:off x="393840" y="-15840"/>
          <a:ext cx="8329320" cy="65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-15840"/>
                    <a:ext cx="8329320" cy="65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Object 2"/>
          <p:cNvGraphicFramePr/>
          <p:nvPr/>
        </p:nvGraphicFramePr>
        <p:xfrm>
          <a:off x="328680" y="189000"/>
          <a:ext cx="8427960" cy="721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89000"/>
                    <a:ext cx="8427960" cy="72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07640" y="1579680"/>
            <a:ext cx="887868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210600" indent="-21060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Keep one variable constant at some operating condition and vary the other variable in steps, and measure th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600" indent="-21060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Repeat the test for an increment of the variable that was kept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600" indent="-21060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Plot the successive operating curves obtained in this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600" indent="-21060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Determine the local slopes at an operating point using the set of operating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600" indent="-21060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The rest is the same as that for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nalytical line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900000" y="260280"/>
            <a:ext cx="6767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Graphical Linearizatio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231840" y="5181120"/>
            <a:ext cx="315432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teady-state operating curves for turb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e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Torque is measured prior to the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5560" y="12600"/>
            <a:ext cx="3754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xample 3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-9360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2"/>
          <p:cNvGraphicFramePr/>
          <p:nvPr/>
        </p:nvGraphicFramePr>
        <p:xfrm>
          <a:off x="17640" y="262080"/>
          <a:ext cx="548640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262080"/>
                    <a:ext cx="5486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4"/>
          <p:cNvGraphicFramePr/>
          <p:nvPr/>
        </p:nvGraphicFramePr>
        <p:xfrm>
          <a:off x="3564000" y="2852640"/>
          <a:ext cx="5486400" cy="39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852640"/>
                    <a:ext cx="548640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166680" y="2924280"/>
            <a:ext cx="30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(Gas turbine operating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water pu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7"/>
          <p:cNvGraphicFramePr/>
          <p:nvPr/>
        </p:nvGraphicFramePr>
        <p:xfrm>
          <a:off x="5130720" y="436680"/>
          <a:ext cx="3835440" cy="183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30720" y="436680"/>
                    <a:ext cx="383544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8"/>
          <p:cNvGraphicFramePr/>
          <p:nvPr/>
        </p:nvGraphicFramePr>
        <p:xfrm>
          <a:off x="204840" y="3776760"/>
          <a:ext cx="3568680" cy="12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4840" y="3776760"/>
                    <a:ext cx="35686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Box 1"/>
          <p:cNvSpPr/>
          <p:nvPr/>
        </p:nvSpPr>
        <p:spPr>
          <a:xfrm>
            <a:off x="6307200" y="2376360"/>
            <a:ext cx="2368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 to Example 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1979640" y="-100080"/>
            <a:ext cx="489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24"/>
          <p:cNvGraphicFramePr/>
          <p:nvPr/>
        </p:nvGraphicFramePr>
        <p:xfrm>
          <a:off x="298440" y="404640"/>
          <a:ext cx="8440920" cy="42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404640"/>
                    <a:ext cx="844092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Object 7"/>
          <p:cNvGraphicFramePr/>
          <p:nvPr/>
        </p:nvGraphicFramePr>
        <p:xfrm>
          <a:off x="1681200" y="4292640"/>
          <a:ext cx="578160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0" y="4292640"/>
                    <a:ext cx="5781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"/>
          <p:cNvSpPr/>
          <p:nvPr/>
        </p:nvSpPr>
        <p:spPr>
          <a:xfrm>
            <a:off x="1979640" y="7920"/>
            <a:ext cx="489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xample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24"/>
          <p:cNvGraphicFramePr/>
          <p:nvPr/>
        </p:nvGraphicFramePr>
        <p:xfrm>
          <a:off x="157320" y="662040"/>
          <a:ext cx="87026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662040"/>
                    <a:ext cx="87026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1979640" y="7920"/>
            <a:ext cx="489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xample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24"/>
          <p:cNvGraphicFramePr/>
          <p:nvPr/>
        </p:nvGraphicFramePr>
        <p:xfrm>
          <a:off x="154080" y="658800"/>
          <a:ext cx="881388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58800"/>
                    <a:ext cx="881388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4"/>
          <p:cNvGraphicFramePr/>
          <p:nvPr/>
        </p:nvGraphicFramePr>
        <p:xfrm>
          <a:off x="3492360" y="2781360"/>
          <a:ext cx="5486400" cy="391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781360"/>
                    <a:ext cx="548640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1979640" y="7920"/>
            <a:ext cx="489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xample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Object 24"/>
          <p:cNvGraphicFramePr/>
          <p:nvPr/>
        </p:nvGraphicFramePr>
        <p:xfrm>
          <a:off x="157320" y="662040"/>
          <a:ext cx="87026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662040"/>
                    <a:ext cx="87026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nearization throug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ergy 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2"/>
          <p:cNvGraphicFramePr/>
          <p:nvPr/>
        </p:nvGraphicFramePr>
        <p:xfrm>
          <a:off x="174600" y="163440"/>
          <a:ext cx="8947080" cy="66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63440"/>
                    <a:ext cx="8947080" cy="66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-108000" y="189000"/>
            <a:ext cx="9072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Linearization through Energy Equival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"/>
          <p:cNvSpPr/>
          <p:nvPr/>
        </p:nvSpPr>
        <p:spPr>
          <a:xfrm>
            <a:off x="287280" y="998640"/>
            <a:ext cx="88567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Compute energy usage per cycle of the nonline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Compute energy usage per cycle of the assumed linea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Equate the two, and determine the corresponding parameters of the linea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1: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 equivalent parameters may depend on the input level and frequency (these are characteristics of some nonlinear sys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te 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A similar approach is used in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describing function”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-108000" y="7920"/>
            <a:ext cx="907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Energy Equivalence Example 3.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24"/>
          <p:cNvGraphicFramePr/>
          <p:nvPr/>
        </p:nvGraphicFramePr>
        <p:xfrm>
          <a:off x="152280" y="549360"/>
          <a:ext cx="8740800" cy="73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0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49360"/>
                    <a:ext cx="8740800" cy="73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6985080" cy="225108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"/>
          <p:cNvSpPr/>
          <p:nvPr/>
        </p:nvSpPr>
        <p:spPr>
          <a:xfrm>
            <a:off x="6118200" y="5589720"/>
            <a:ext cx="2054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 Example 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322200" y="0"/>
          <a:ext cx="9921960" cy="73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0"/>
                    <a:ext cx="9921960" cy="73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133200" y="76320"/>
          <a:ext cx="8896680" cy="70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76320"/>
                    <a:ext cx="889668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"/>
          <p:cNvGraphicFramePr/>
          <p:nvPr/>
        </p:nvGraphicFramePr>
        <p:xfrm>
          <a:off x="3203640" y="5338800"/>
          <a:ext cx="2238480" cy="95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338800"/>
                    <a:ext cx="22384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2"/>
          <p:cNvGraphicFramePr/>
          <p:nvPr/>
        </p:nvGraphicFramePr>
        <p:xfrm>
          <a:off x="6516720" y="5805360"/>
          <a:ext cx="233028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5805360"/>
                    <a:ext cx="2330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250920" y="5157720"/>
          <a:ext cx="223668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5157720"/>
                    <a:ext cx="2236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740160" y="-720"/>
            <a:ext cx="766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024440" y="9097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024440" y="11196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68360" y="6308640"/>
            <a:ext cx="85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c00000"/>
                </a:solidFill>
                <a:latin typeface="Arial"/>
              </a:rPr>
              <a:t>(a) Unstable</a:t>
            </a:r>
            <a:r>
              <a:rPr b="1" lang="en-CA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c00000"/>
                </a:solidFill>
                <a:latin typeface="Arial"/>
              </a:rPr>
              <a:t>         (b) Stable </a:t>
            </a:r>
            <a:r>
              <a:rPr b="1" lang="en-CA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c00000"/>
                </a:solidFill>
                <a:latin typeface="Arial"/>
              </a:rPr>
              <a:t>(c)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108000" y="117360"/>
          <a:ext cx="8820000" cy="69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7360"/>
                    <a:ext cx="8820000" cy="69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0:31Z</dcterms:created>
  <dc:creator>Jason Zhang</dc:creator>
  <dc:description/>
  <dc:language>en-US</dc:language>
  <cp:lastModifiedBy>de Silva</cp:lastModifiedBy>
  <cp:lastPrinted>2007-04-21T01:24:19Z</cp:lastPrinted>
  <dcterms:modified xsi:type="dcterms:W3CDTF">2022-03-01T01:31:35Z</dcterms:modified>
  <cp:revision>1177</cp:revision>
  <dc:subject/>
  <dc:title>Slide 1</dc:title>
</cp:coreProperties>
</file>